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BB1320B-372F-4ABF-AC2B-32A93D3CE2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82720" y="779400"/>
            <a:ext cx="4852800" cy="3640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ое утро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Ольга Лук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й доклад посвящен тому, каким образо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шали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АО «Пермэнерго» проблемы, возникшие в процессе получения отчета об исполнении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984920" cy="46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модифицированной системе КАУ выделено три группы: первая - «Финансовые поступления», вторая - «Финансовые выплаты» и третья - «Плановые платежи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поступления» могут использоваться на  счетах 62 и 76 и позволяют собрать фактические данные по доходным статьям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выплаты» могут использоваться на счетах с 60 по 79 и позволяют собрать фактические данные по расходным статьям бюджета. Так, обороты по счетам с 60 по 76 будут давать данные о собственных расчетах управляющей компании, а по 79 счету - данные о выплатах контрагентам филиалов за счет средст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группы «Плановые платежи» могут использоваться на 79 счете и позволяют получать фактические данные о плановых выплатах филиала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ужно заметить, что КАУ соответствующей группы могут быть использованы на любом из указанных счетов. Такой порядок использования облегчает установление взаимосвязей со статьями БДФС: статье ставится в соответствие КАУ, при этом нет необходимости отслеживать счета, на которых эти КАУ были использова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71160" y="4625640"/>
            <a:ext cx="587700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м пример использования новой системы КАУ. Пусть оплачены приобретенные канцтовары,спецодежда и литература по технике безопасности. Приобретение канцтоваров относится к статье «Канцтовары», приобретение спецодежды и техлитературы - к статье «Охрана труда». Раньше в этом случае бухгалтер сделал бы две проводки в корреспонденции с расчетным счетом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счета 60/10 (КАУ Прочие материалы) на стоимость канцтоваров и спецодежды- 10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сновные средства, не требующие монтажа) на стоимость литературы 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овой системе КАУ бухгалтеру нужно сделать три провод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Канцтовары) на стоимость канцтоваров - 4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Охрана труда) на стоимость спецодежды - 6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храна труда) на стоимость техлитературы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тите внимание, что КАУ Охрана труда используется на двух счетах. Подсчитав обороты по нему, мы получим показатель для бюджета, не обращая внимания на то, по каким счетам были сделаны провод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ак, с помощью новой системы мы можем собрать показатели для бюджета. Однако, в силу того, что бухгалтер не является специалистом по бюджетированию, может возникнуть ситуация, когда бухгалтер отнесет платеж к КАУ, который не относится к нужной статье бюджета. Как ее избежать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определении структуры поступлений приоритет отдается бухгалтерии, т.к. она располагает наиболее полной информацией в этом случа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определении структуры выплат первую скрипку играет казначейство. Также информация о распределении платежей по статьям есть в ЦФУ. Поэтому мы предложили организовать процесс передачи информации из казначейства и ЦФУ в центральную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того, организация такого взаимодействия имеет дополнительный эффект - снижение трудозатрат бухгалтерии на определение нужного КАУ. Теперь бухгалтеру не нужно рыться в документах и решать, какой КАУ поставить в проводке, он сможет определить нужный КАУ по информации, переданной из казначе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рганизовать подобное взаимодействие, причем так, чтобы оно было эффектив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л предложен следующий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При оформлении платежного документа в казначействе в  на копиях оправдательных документов проставлять код статьи бюджета. Затем оправдательные документы с кодами передаются в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При передаче оправдательных документов из ЦФУ в центральную бухгалтерию также проставлять на них коды статей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в бухгалтерию поступает информация о принадлежности выплаты к статье бюджета. Как по коду статьи бухгалтеру определить КАУ, который нужно поставить в провод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й цели спроектирована справочная система, которая содержит данные о связи статей бюджета со счетами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справочника регулируется специальным регламентом. Кратко суть его состоит в следую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я платежный документ с кодом статьи бюджета, бухгалтер производит поиск в справочнике и получает список разрешенных корреспонденций для данной статьи, выбирает нужную корреспонденцию и выполняет проводку. Если по каким-то причинам бухгалтер считает, что разрешенное множество корреспонденций не подходит для отражения расхода или дохода, он обращается к специально назначенному лицу с просьбой дополнить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и дополнение справочника регулируется регламентом наполнения справочника. Дополнение или изменение данных в справочнике происходит после совместного решения ответственных лиц от бухгалтерии и финансового отдела о необходимости эт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егламенты использования и наполнения справочника обеспечивают слаженную и бесперебойную работу подразде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 результате выполнения проекта были сделаны предложения по модификации плана счетов и оптимизации документообо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настоящему моменту с бухгалтерией согласованы изменения плана счетов. План счетов утвержден и уже используется предприятиями АО «Пермэнерго». В разработке находится справочная система, которая поможет бухгалтеру быстро определять необходимые КАУ, а также автоматизировать процесс сбора ф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лизация проекта позволила достигнуть следующих результа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еративно получать данные о структуре финансовых поступлений и выплат в течение периода планир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нхронизировать отчетность финансового отдела и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ировать трудозатраты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работать регламент сбора фактических показателей БДФС для филиал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ировать состояние предприятия в течение отчет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имать управленческие решения на основании оператив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есточить контроль за расходованием средств предприят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28240" y="4626000"/>
            <a:ext cx="6248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Финансовые потоки в АО «Пермэнерго» контролирует казначейство. Именно оно занимается получением отчета об исполнении бюджета 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Благодаря системе заявок на выполнение платежа достаточно просто собрать показател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сходной части бюджет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Система функционирует следующим образом: в рамках бюджета ЦФУ выделяются средства на расчеты с контрагентами. ЦФУ определяют, какому контрагенту выплатить деньги, составляют заявку на платеж, прикладывают к ней оправдательные документы. В заявке в обязательном порядке проставляется код статьи бюджета. После того, как заявка будет завизирована ответственными лицами, она передается в казначейство, которое уже занимается перечислением средств контрагенту. Таким образом, в казначействе накапливается информация о выплатах контрагентам в разрезе статей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ожнее обстоит дело с показателям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доходной част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Мы не можем заставить контрагента при перечислении денег указывать в платежных документах достаточно информации для того, чтобы платеж можно было однозначно идентифицировать. А другие данные сотрудникам казначейства недоступны. Поэтому для заполнения факта доходной части приходилось запрашивать данные в бухгалтерии. Но классификация активов в бухгалтерии часто не совпадает с принятой для бюджета, т.е. показатели доходной части опять-таки можно определить лишь приблизительн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 аналогичной проблемой сталкиваются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филиал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редприятия при заполнени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бе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частей бюджета. В филиалах не эксплуатируется система заявок, поэтому данные как по доходной, так и по расходной частям бюджета можно получить только в бухгалтерии.  Соответственно, остается в силе упомянутая проблема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зличи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в классификации активов в бухгалтерском учете и бюдже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можно выделить следующие проблемы, возникавшие при определении фактических показателей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первых, невозможно было определить структуру финансовых поступлений по причине отсутствия необходимой информации в казначе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вторых,не было методики получения отчета об исполнении бюджета в филиал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третьих, хотя нужные данные и имеются в бухгалтерии, воспользоваться ими не всегда возможно из-за существенных различий в классификации активов в бухгалтерском учете и бюдж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, наконец, в результате перечисленных проблем возникали различия в отчетных данных финансового отдела и бухгал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шением перечисленных проблем стал переход к получению отчета об исполнении бюджета по данным бухгалте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, прежде, чем переходить к новому методу, необходимо было установить соответствие между статьями бюджета и объектами бухгалтерского учета, т.е. составить алгоритм  взаимодействия бухгалтерии и финансового управления при сборе фак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этой целью было проведено исследование взаимосвязей бухгалтерии и финансов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одилось специалистами компании «Геликон Про» методом интервьюирования сотрудников бухгалтерии и финансового управления АО «Пермэнерго». Было опрошено в общей сложности 18 человек, подготовлен отчет объемом 150 ст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перь необходимо сказать несколько слов об организации бухгалтерского учета в АО «Пермэнерг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оцессе исследования рассматривались счета бухгалтерского учета, для которых разрешена корреспонденция со счетами учета финансовых средств (перечень счетов приведен на слай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оответствии с требованиями ПБУ субсчета к перечисленным счетам открываются по признаку однородности актива. Например, на счете 60 выделяются субсчета для учета расчетов за материалы, услуги, капитальные вложения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тический учет на рассмотренных счетах ведется, как правило, в разрезе контрагентов или сотрудников, документов - счетов-фактур и договоров, а также кодов аналитического учета, сокращенно КА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71160" y="4626000"/>
            <a:ext cx="5877000" cy="367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ды аналитического учета - КАУ предназначены для более глубокой классификации видов активов, например, к субсчету «Расчеты за материалы» открыты КАУ «ГСМ» и «Прочие материалы». У каждого счета свой набор КАУ, который используется только на 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ержание и количество КАУ не регламентировано нормативными документами, т.е. организация может модифицировать их в соответствии со своими потребностями. Поэтому система  КАУ была выбрана для построения взаимосвязи с бюдж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задачей исследования стало определить для каждой статьи бюджета соответствующий счет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оде исследования были выявлены следующи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уществовало три типа связи между статьями бюджета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5356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первого типа позволяет по КАУ легко определить сумму по статье бюджета. Так, например, в бюджете есть статья «Выдача займов работникам», а в бухгалтерском учете ей соответствуют КАУ «Займы на лечение», «Займы на учебу» и т.д.  Этот вид связи проблем не представля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второго типа иллюстрирует случай, когда на одном и том же счете и КАУ учитываются платежи по нескольким статьям бюджета. В результате нельзя выделить платежи, относящиеся к каждой из статей в отдельности. Например, в бюджете услуги нужно делить на аудиторские, консультационные, юридические, а в бухгалтерском учете всем этим статьям соответствует один КАУ «Расчеты за прочие услуг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третьего типа еще более сложна: очевидно, что нельзя однозначно распределить платежи по статьям бюджета 1 и 2, т.к. они учитываются на одних и тех же КАУ. Возникновение такой ситуации связано с тем, что в бухгалтерском учете и в бюджете применяются различные подходы к классификации активов - в бухгалтерском учете, как уже было сказано, по виду актива, в бюджете - по целям, для которых он приобретался. В результате суммы, соответствующие одной и той же статье бюджета могут быть распределены по разным бухгалтерским счетам, т.к. в рамках статьи будут приобретены активы разного рода. Например, по статье «Охрана труда» могут быть приобретены и материалы, и услуг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разрешить возникшие затруднения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ы предложили дополнить систему КАУ. В новой системе для каждой статьи бюджета выделяется отдельный КАУ. Если же по данному виду доходов или расходов в бухгалтерском учете существовала более детальная классификация, она сохраня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5F9-80A3-4013-8900-371E5D1D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806-8004-4419-9CB6-055EF9BA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E2E-4D81-448A-8FE8-347F486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5E8-4C20-442C-84BA-BB15C7B9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39F-AF97-4CD1-8978-B2F7B2A6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01D-862C-48D8-95B1-C9D7300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961-E169-4C79-987A-35C9CD4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72A-CE43-4271-A1B0-1468D29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1D4-B216-4705-9EEA-9BC8D9DE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014-CBEF-4513-942C-8833830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5F2-E200-4967-8018-8592DC6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F14-8519-4A81-9365-C9A4E84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D73-10A2-4245-8E1B-DE350080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2732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АПТАЦИЯ ПЛАНА СЧЕТОВ БУХГАЛТЕРСКОГО УЧЕТА К ЗАДАЧЕ ПОЛУЧЕНИЯ ОТЧЕТА        ОБ ИСПОЛНЕНИИ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льга Лу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238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ИРОВКА К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9" name=""/>
          <p:cNvSpPr/>
          <p:nvPr/>
        </p:nvSpPr>
        <p:spPr>
          <a:xfrm>
            <a:off x="361944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24200" y="1828800"/>
            <a:ext cx="1600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у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3314880"/>
            <a:ext cx="1619280" cy="95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л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6040" y="4915080"/>
            <a:ext cx="1638360" cy="9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Пла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теж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97196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00640" y="335268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 60, 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1, 73, 76,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190512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2,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44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52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0760" y="167652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1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7680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00760" y="32004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2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латы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19840" y="476244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ы 01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02.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выплаты внутр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7720" y="82404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МЕР ИСПОЛЬЗОВАНИЯ ДОПОЛНИТЕЛЬНЫХ К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4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3" name=""/>
          <p:cNvSpPr/>
          <p:nvPr/>
        </p:nvSpPr>
        <p:spPr>
          <a:xfrm>
            <a:off x="1873080" y="3379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Б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66960" y="3873600"/>
            <a:ext cx="7103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(КАУ «Прочие материалы») - Кт 51             -100 р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(КАУ «ОС,не требующие монтажа») - Кт 51 -  8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86040" y="5245200"/>
            <a:ext cx="7008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Канцелярские товары») - Кт 51       - 4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Охрана труда») - Кт 51                   - 6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 (КАУ «Охрана труда») - Кт 51                   - 80 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1240" y="4713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Ст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3080" y="17794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ла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47880" y="2235240"/>
            <a:ext cx="7103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анцтовары на 40 р    - по статье «Канцелярские това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пецодежда на 60 р       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ехлитература на 80 руб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8" name=""/>
          <p:cNvSpPr/>
          <p:nvPr/>
        </p:nvSpPr>
        <p:spPr>
          <a:xfrm>
            <a:off x="1911240" y="2084400"/>
            <a:ext cx="57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аладить взаимодействие между подраздел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01840" y="3197160"/>
            <a:ext cx="74502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       распределении платежей по статьям бюджета из   казначейства в центральную бухгалтер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распределении расходов по статьям бюджета из ЦФУ в центральную бухгал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74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6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89" name=""/>
          <p:cNvSpPr/>
          <p:nvPr/>
        </p:nvSpPr>
        <p:spPr>
          <a:xfrm>
            <a:off x="546120" y="981000"/>
            <a:ext cx="8273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ЗАИМОДЕЙСТВИЕ ПОДРАЗДЕЛЕНИЙ ПРИ УЧЕТЕ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44480" y="2254320"/>
            <a:ext cx="7647120" cy="3828960"/>
            <a:chOff x="744480" y="2254320"/>
            <a:chExt cx="7647120" cy="3828960"/>
          </a:xfrm>
        </p:grpSpPr>
        <p:sp>
          <p:nvSpPr>
            <p:cNvPr id="391" name=""/>
            <p:cNvSpPr/>
            <p:nvPr/>
          </p:nvSpPr>
          <p:spPr>
            <a:xfrm>
              <a:off x="1938240" y="225576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8600" y="2254320"/>
              <a:ext cx="21175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1640" y="4827600"/>
              <a:ext cx="25714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0000" y="360216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3600360"/>
              <a:ext cx="733680" cy="121464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4480" y="4905360"/>
              <a:ext cx="22366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05400" y="4848120"/>
              <a:ext cx="20862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латеж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 СПРАВОЧ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7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1933560" y="1695600"/>
            <a:ext cx="6737400" cy="2727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0000" y="4645080"/>
            <a:ext cx="7449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использова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наполне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17720" y="9190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"/>
          <p:cNvSpPr/>
          <p:nvPr/>
        </p:nvSpPr>
        <p:spPr>
          <a:xfrm>
            <a:off x="1440000" y="1825560"/>
            <a:ext cx="74498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Адаптация плана счетов бухгалтерского учета к задаче получения отчета об исполнении БДФ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Оптимизация системы документооборота пред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5" name=""/>
          <p:cNvSpPr/>
          <p:nvPr/>
        </p:nvSpPr>
        <p:spPr>
          <a:xfrm>
            <a:off x="1440000" y="2187720"/>
            <a:ext cx="744984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еративно получать информацию о структуре поступлений и вып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Синхронизировать бухгалтерскую и финансовую отч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тимизировать трудозатраты бухгал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азработать алгоритм сбора фактических показателей БДФС для фил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3" name=""/>
          <p:cNvSpPr/>
          <p:nvPr/>
        </p:nvSpPr>
        <p:spPr>
          <a:xfrm>
            <a:off x="1440000" y="2149560"/>
            <a:ext cx="74498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Анализировать состояние предприятия в течение отчетн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инимать управленческие решения на основании оператив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Ужесточить контроль за расходованием средств предпри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льга ЛУ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3" name=""/>
          <p:cNvSpPr/>
          <p:nvPr/>
        </p:nvSpPr>
        <p:spPr>
          <a:xfrm>
            <a:off x="546120" y="733320"/>
            <a:ext cx="8273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ХЕМА СБОРА ФАКТИЧЕСКИХ ПОКАЗАТЕЛЕЙ БДФС В УПРАВЛЯЮЩ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0840" y="1679400"/>
            <a:ext cx="8389800" cy="4408560"/>
            <a:chOff x="420840" y="1679400"/>
            <a:chExt cx="8389800" cy="4408560"/>
          </a:xfrm>
        </p:grpSpPr>
        <p:sp>
          <p:nvSpPr>
            <p:cNvPr id="85" name=""/>
            <p:cNvSpPr/>
            <p:nvPr/>
          </p:nvSpPr>
          <p:spPr>
            <a:xfrm>
              <a:off x="563400" y="167940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8840" y="3092400"/>
              <a:ext cx="21178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0320" y="1681200"/>
              <a:ext cx="21733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54120" y="2840040"/>
              <a:ext cx="733680" cy="121428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23000" y="285912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40" y="3286080"/>
              <a:ext cx="1989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Заявки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24800" y="3286080"/>
              <a:ext cx="2085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Журнал-ордер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асчетному сч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2720" y="4971960"/>
              <a:ext cx="2860560" cy="111600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анные 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сполнении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400640"/>
              <a:ext cx="485640" cy="480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91908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БЛЕМЫ ОПРЕДЕЛЕНИЯ ФАКТИЧЕСКИХ ПОКАЗАТЕЛЕЙ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1401840" y="1920960"/>
            <a:ext cx="7450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Отсутствие информации о структуре поступлений финансовых средства в казначейств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достаток данных для определения показателей факта бюджета в филиа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возможность воспользоваться данными бухгалтерского учета из-за различий в классификации актив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согласованность отчетных форм финансового отдела и бухгалтер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" name=""/>
          <p:cNvSpPr/>
          <p:nvPr/>
        </p:nvSpPr>
        <p:spPr>
          <a:xfrm>
            <a:off x="1879560" y="893880"/>
            <a:ext cx="7093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РЕШЕНИЕ: ПЕРЕХОД К СБОРУ ФАКТА БДФС ПО ДАННЫМ БУХГАЛТЕРСКОГО УЧЕ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6040" y="2506680"/>
            <a:ext cx="7007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Необходимо поставить в соответствие каждой статье БДФС объект бухгалтерского учета, т.е. составить алгоритм сбора факта бюджета по данным бухгал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1684440"/>
            <a:ext cx="7007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сследование проводилось методом интервью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Было опрош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6880" y="3341520"/>
            <a:ext cx="74502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центральной бухгалтерии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5 челове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бюджетном отдел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2 человек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казначейств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 человек.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4880" y="4998960"/>
            <a:ext cx="70070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одготовлен отчет объемом 150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/>
          <p:nvPr/>
        </p:nvSpPr>
        <p:spPr>
          <a:xfrm>
            <a:off x="1879560" y="798480"/>
            <a:ext cx="70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ЛАН СЧЕТОВ 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96880" y="4560840"/>
            <a:ext cx="745020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нтрагент (сотрудн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Счет-факту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Догово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д аналитического учета - КА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3080" y="1417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Рассмотрены сч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5800" y="195120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5, 58, 60, 62, 66, 67, 68, 69, 70, 71, 73, 76,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3080" y="3532320"/>
            <a:ext cx="7027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Структура аналитической информации   на рассмотренных сче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73080" y="2427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В корреспонденции со сче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296064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0, 51,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17720" y="80496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И КОДОВ АНАЛИТИЧЕСКОГО УЧЕТА (КА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7" name=""/>
          <p:cNvSpPr/>
          <p:nvPr/>
        </p:nvSpPr>
        <p:spPr>
          <a:xfrm>
            <a:off x="2330280" y="2808360"/>
            <a:ext cx="612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10 «Расчеты за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2400" y="3379680"/>
            <a:ext cx="5656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1 «Прочие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2 «ГС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16200" y="1836720"/>
            <a:ext cx="7270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Arial"/>
              </a:rPr>
              <a:t>Счет 60 «Расчеты с поставщиками и подрядчикам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2080" y="4351320"/>
            <a:ext cx="612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30 «Расчеты по услуга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90960" y="4979880"/>
            <a:ext cx="5751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1 «Услуги по ремонту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2 «Услуги ох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0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21" name=""/>
          <p:cNvSpPr/>
          <p:nvPr/>
        </p:nvSpPr>
        <p:spPr>
          <a:xfrm>
            <a:off x="1136520" y="84780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ИПЫ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0480" y="1523880"/>
            <a:ext cx="9903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000160" y="1866960"/>
            <a:ext cx="409680" cy="514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610000"/>
            <a:ext cx="4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006640" y="2800440"/>
            <a:ext cx="401760" cy="59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00480" y="2324160"/>
            <a:ext cx="9903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9200" y="3095640"/>
            <a:ext cx="9907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6840" y="1353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81800" y="1411200"/>
            <a:ext cx="2171520" cy="2360880"/>
            <a:chOff x="5581800" y="1411200"/>
            <a:chExt cx="2171520" cy="2360880"/>
          </a:xfrm>
        </p:grpSpPr>
        <p:sp>
          <p:nvSpPr>
            <p:cNvPr id="230" name=""/>
            <p:cNvSpPr/>
            <p:nvPr/>
          </p:nvSpPr>
          <p:spPr>
            <a:xfrm>
              <a:off x="5581800" y="15620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2600" y="230508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62640" y="1866960"/>
              <a:ext cx="476280" cy="59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62640" y="261000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369120" y="276228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52320" y="1411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0880" y="236232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0880" y="3162240"/>
              <a:ext cx="7617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38400" y="2305080"/>
            <a:ext cx="761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429000" y="3925800"/>
            <a:ext cx="2152800" cy="2246040"/>
            <a:chOff x="3429000" y="3925800"/>
            <a:chExt cx="2152800" cy="2246040"/>
          </a:xfrm>
        </p:grpSpPr>
        <p:sp>
          <p:nvSpPr>
            <p:cNvPr id="240" name=""/>
            <p:cNvSpPr/>
            <p:nvPr/>
          </p:nvSpPr>
          <p:spPr>
            <a:xfrm>
              <a:off x="4591080" y="476244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72040" y="5219280"/>
              <a:ext cx="542880" cy="47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506700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197240" y="5285880"/>
              <a:ext cx="534960" cy="56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0040" y="3925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56236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90760" y="590544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76244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91080" y="556236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ь систему КА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86040" y="27306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Ввести новые КАУ, соответствующие статьям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6480" y="5162400"/>
            <a:ext cx="1028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90600" y="4019400"/>
            <a:ext cx="2152800" cy="2210040"/>
            <a:chOff x="2190600" y="4019400"/>
            <a:chExt cx="2152800" cy="2210040"/>
          </a:xfrm>
        </p:grpSpPr>
        <p:sp>
          <p:nvSpPr>
            <p:cNvPr id="273" name=""/>
            <p:cNvSpPr/>
            <p:nvPr/>
          </p:nvSpPr>
          <p:spPr>
            <a:xfrm>
              <a:off x="3352680" y="4762440"/>
              <a:ext cx="9907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4324320"/>
              <a:ext cx="476280" cy="59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95272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959200" y="521964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90600" y="481968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0600" y="56196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90600" y="40194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00840" y="3981600"/>
            <a:ext cx="2171520" cy="2181240"/>
            <a:chOff x="6000840" y="3981600"/>
            <a:chExt cx="2171520" cy="2181240"/>
          </a:xfrm>
        </p:grpSpPr>
        <p:sp>
          <p:nvSpPr>
            <p:cNvPr id="281" name=""/>
            <p:cNvSpPr/>
            <p:nvPr/>
          </p:nvSpPr>
          <p:spPr>
            <a:xfrm>
              <a:off x="7162920" y="398160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724440" y="4324320"/>
              <a:ext cx="44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6260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78152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0840" y="400068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762240" y="5867280"/>
              <a:ext cx="4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47624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2000" y="5553000"/>
              <a:ext cx="9903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552456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lov</cp:lastModifiedBy>
  <cp:lastPrinted>2004-03-17T13:48:42Z</cp:lastPrinted>
  <dcterms:modified xsi:type="dcterms:W3CDTF">2004-03-17T15:43:15Z</dcterms:modified>
  <cp:revision>481</cp:revision>
  <dc:subject/>
  <dc:title>Слайд 1</dc:title>
</cp:coreProperties>
</file>