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72E4-543D-4B5C-BB9C-23FB1EAF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37E-E8C5-4743-A496-83A7A30B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27DB-23F3-41EA-ABF8-341DDAD6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886D-8B47-4CCE-BBB2-229053EA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9B5A-A1D1-47AF-B2D4-91E4B653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57A8-43CE-4399-8868-4A7024B6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2DDA-1B5E-400A-837D-04BA760A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4875-EAE7-4F24-97C0-B040A014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3BAD-7D0D-4B33-9536-4C7110B0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2E32-ABD0-4545-9A30-D29454A8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D2D2-7AE7-46EA-AD94-122CB0A4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529-7DEC-4800-9CC7-F7E89E4D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B523-AF20-42F9-BE20-98ED0B12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695D-4311-46A8-9D9E-3CE59595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D364-0DBB-47AE-81ED-3CB6018D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5075-BCCC-42F5-A928-21B11CEC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EAD7-A01F-4E3D-B3DB-7549EA26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014-9402-480F-9B5E-8D8CCE4A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6A07-9A20-45EF-A51E-F878E166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6994-308C-427C-AC9B-97EC38F9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A56-413A-4291-B4E7-E742EF75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B29-9AB8-4EC7-AA3F-E08F618E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7478-0CD4-46EE-8709-56EEFEB3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175-08BC-4AC0-B235-BDE9A3C6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C80B-2D0F-48C7-BFC2-726130EA263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76E1-7033-40E3-86B7-4A4905F054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ПРАКТИЧЕСКИЕ РЕЗУЛЬТАТЫ РАБОТЫ ПО ПОСТРОЕНИЮ СИСТЕМЫ БЮДЖЕТИРОВАНИЯ И ПЕРСПЕКТИВЫ СОВЕРШЕНСТВОВАНИЯ БЮДЖЕТНОГО УПРАВЛЕНИЯ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АО «ПЕРМЭНЕРГО»</a:t>
            </a:r>
            <a:endParaRPr b="0" lang="en-US" sz="3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676520" y="59436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ермь, 18 марта 2004 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55-1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br>
              <a:rPr sz="3800"/>
            </a:br>
            <a:br>
              <a:rPr sz="3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ЛЕНЬКОВ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Роман Николаевич</a:t>
            </a:r>
            <a:br>
              <a:rPr sz="4800"/>
            </a:br>
            <a:br>
              <a:rPr sz="4800"/>
            </a:b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заместитель генерального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директора АО «Пермэнерго»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по финансам</a:t>
            </a:r>
            <a:endParaRPr b="0" lang="en-US" sz="3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УЩЕСТВУЮЩАЯ ОРГАНИЗАЦИОННО-ТЕХНОЛОГИЧЕСКАЯ СТРУКТУРА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АО «ПЕРМЭНЕРГО»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43000" y="1600200"/>
          <a:ext cx="7848720" cy="510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600200"/>
                    <a:ext cx="7848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ХЕМА ФИНАНСОВЫХ ПОТОКОВ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32080" y="1260360"/>
            <a:ext cx="161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43000" y="2438280"/>
            <a:ext cx="7645320" cy="4191120"/>
            <a:chOff x="1143000" y="2438280"/>
            <a:chExt cx="7645320" cy="4191120"/>
          </a:xfrm>
        </p:grpSpPr>
        <p:grpSp>
          <p:nvGrpSpPr>
            <p:cNvPr id="157" name=""/>
            <p:cNvGrpSpPr/>
            <p:nvPr/>
          </p:nvGrpSpPr>
          <p:grpSpPr>
            <a:xfrm>
              <a:off x="6824520" y="2438280"/>
              <a:ext cx="1963800" cy="1828800"/>
              <a:chOff x="6824520" y="2438280"/>
              <a:chExt cx="1963800" cy="1828800"/>
            </a:xfrm>
          </p:grpSpPr>
          <p:sp>
            <p:nvSpPr>
              <p:cNvPr id="158" name=""/>
              <p:cNvSpPr/>
              <p:nvPr/>
            </p:nvSpPr>
            <p:spPr>
              <a:xfrm>
                <a:off x="6824520" y="2438280"/>
                <a:ext cx="1625760" cy="15238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985080" y="2590560"/>
                <a:ext cx="1625400" cy="15242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162920" y="2743200"/>
                <a:ext cx="1625400" cy="15238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Филиалы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143000" y="2438280"/>
              <a:ext cx="3200400" cy="1686600"/>
              <a:chOff x="1143000" y="2438280"/>
              <a:chExt cx="3200400" cy="1686600"/>
            </a:xfrm>
          </p:grpSpPr>
          <p:sp>
            <p:nvSpPr>
              <p:cNvPr id="162" name=""/>
              <p:cNvSpPr/>
              <p:nvPr/>
            </p:nvSpPr>
            <p:spPr>
              <a:xfrm>
                <a:off x="1143000" y="2438280"/>
                <a:ext cx="3200400" cy="16002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19320" y="2743200"/>
                <a:ext cx="297180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Исполнительный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аппарат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971800" y="5181480"/>
              <a:ext cx="5714640" cy="1447920"/>
              <a:chOff x="2971800" y="5181480"/>
              <a:chExt cx="5714640" cy="144792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2971800" y="5181480"/>
                <a:ext cx="5409720" cy="1143000"/>
                <a:chOff x="2971800" y="5181480"/>
                <a:chExt cx="5409720" cy="1143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181480"/>
                  <a:ext cx="5409720" cy="114300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985920" y="5486400"/>
                  <a:ext cx="3493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Контрагент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3124080" y="5334120"/>
                <a:ext cx="5409720" cy="1143000"/>
                <a:chOff x="3124080" y="5334120"/>
                <a:chExt cx="5409720" cy="11430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124080" y="5334120"/>
                  <a:ext cx="5409720" cy="114300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138200" y="5639040"/>
                  <a:ext cx="3493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Контрагент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276360" y="5486400"/>
                <a:ext cx="5410080" cy="1143000"/>
                <a:chOff x="3276360" y="5486400"/>
                <a:chExt cx="5410080" cy="11430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276360" y="5486400"/>
                  <a:ext cx="5410080" cy="114300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290480" y="5791320"/>
                  <a:ext cx="3494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Контрагент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4" name=""/>
          <p:cNvGrpSpPr/>
          <p:nvPr/>
        </p:nvGrpSpPr>
        <p:grpSpPr>
          <a:xfrm>
            <a:off x="685800" y="1143000"/>
            <a:ext cx="7086600" cy="1219320"/>
            <a:chOff x="685800" y="1143000"/>
            <a:chExt cx="7086600" cy="1219320"/>
          </a:xfrm>
        </p:grpSpPr>
        <p:sp>
          <p:nvSpPr>
            <p:cNvPr id="175" name=""/>
            <p:cNvSpPr/>
            <p:nvPr/>
          </p:nvSpPr>
          <p:spPr>
            <a:xfrm>
              <a:off x="685800" y="1219320"/>
              <a:ext cx="22860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Выручк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т основной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реализаци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38680" y="1295280"/>
              <a:ext cx="198144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Выручк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т прочей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реализаци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4080" y="1143000"/>
              <a:ext cx="0" cy="1219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72400" y="1143000"/>
              <a:ext cx="0" cy="1219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90720" y="3276720"/>
            <a:ext cx="5867280" cy="1904760"/>
            <a:chOff x="990720" y="3276720"/>
            <a:chExt cx="5867280" cy="1904760"/>
          </a:xfrm>
        </p:grpSpPr>
        <p:sp>
          <p:nvSpPr>
            <p:cNvPr id="180" name=""/>
            <p:cNvSpPr/>
            <p:nvPr/>
          </p:nvSpPr>
          <p:spPr>
            <a:xfrm>
              <a:off x="4343400" y="327672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67080" y="3352680"/>
              <a:ext cx="2590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Текущее финансировани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90720" y="4251240"/>
              <a:ext cx="289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Централизованные расчет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38480" y="4038480"/>
              <a:ext cx="0" cy="1143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467480" y="4267080"/>
            <a:ext cx="609840" cy="1219320"/>
            <a:chOff x="7467480" y="4267080"/>
            <a:chExt cx="609840" cy="1219320"/>
          </a:xfrm>
        </p:grpSpPr>
        <p:sp>
          <p:nvSpPr>
            <p:cNvPr id="185" name=""/>
            <p:cNvSpPr/>
            <p:nvPr/>
          </p:nvSpPr>
          <p:spPr>
            <a:xfrm>
              <a:off x="7467480" y="4267080"/>
              <a:ext cx="0" cy="91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72400" y="4267080"/>
              <a:ext cx="0" cy="10670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77320" y="4267080"/>
              <a:ext cx="0" cy="1219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28800" y="121932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БЪЕМНЫЕ ХАРАКТЕРИСТИКИ ФИНАНСОВЫХ ПОТОКОВ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523880"/>
            <a:ext cx="86108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.  Выручка от реализации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6 138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млн. рублей (без НДС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т.ч. выручка от реализации основной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дукции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5 792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млн. рублей (без НДС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.  Расход денежных средств за год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8 161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млн. руб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.  Среднемесячное количество платежных документов в Исполнительном аппарате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6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ПРИЧИНЫ СОЗДАНИЯ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СИСТЕМЫ БЮДЖЕТИРОВАНИЯ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АО «ПЕРМЭНЕРГО»</a:t>
            </a:r>
            <a:endParaRPr b="0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93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3520" y="1728720"/>
            <a:ext cx="838188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Внеш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иление контроля акционеров за расходованием средст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иление контроля РЭК Администрации Пермской области за расходованием средств в соответствии со структурой затрат, утвержденных при установлении тариф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росшие требования контрагентов по четкому исполнению договорных отношений в части объемов и сроков расчет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3520" y="1676520"/>
            <a:ext cx="845820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Внутрен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возможность планирования финансовых потоков и осуществления эффективной кредитной полит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сконтрольное расходование средств филиал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ходимость учета прочих доходов филиалов при осуществлении их финансиров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постатейного перекоса в расходовании средст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сутствие понятного филиалам механизма их финансирования Исполнительным аппарат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ПРИЧИНЫ СОЗДАНИЯ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СИСТЕМЫ БЮДЖЕТИРОВАНИЯ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АО «ПЕРМЭНЕРГО»</a:t>
            </a:r>
            <a:endParaRPr b="0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1523880" y="4343400"/>
            <a:ext cx="7238880" cy="2257920"/>
            <a:chOff x="1523880" y="4343400"/>
            <a:chExt cx="7238880" cy="2257920"/>
          </a:xfrm>
        </p:grpSpPr>
        <p:sp>
          <p:nvSpPr>
            <p:cNvPr id="199" name=""/>
            <p:cNvSpPr/>
            <p:nvPr/>
          </p:nvSpPr>
          <p:spPr>
            <a:xfrm>
              <a:off x="4952880" y="4343400"/>
              <a:ext cx="0" cy="91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523880" y="5334120"/>
              <a:ext cx="7238880" cy="1267200"/>
              <a:chOff x="1523880" y="5334120"/>
              <a:chExt cx="7238880" cy="1267200"/>
            </a:xfrm>
          </p:grpSpPr>
          <p:sp>
            <p:nvSpPr>
              <p:cNvPr id="201" name=""/>
              <p:cNvSpPr/>
              <p:nvPr/>
            </p:nvSpPr>
            <p:spPr>
              <a:xfrm>
                <a:off x="1523880" y="5334120"/>
                <a:ext cx="7238880" cy="990360"/>
              </a:xfrm>
              <a:prstGeom prst="rect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44640" y="5410080"/>
                <a:ext cx="65977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Комплексная система бюджетирования на базе «Капитал CSE»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1523880" y="2971800"/>
            <a:ext cx="7238880" cy="1981080"/>
            <a:chOff x="1523880" y="2971800"/>
            <a:chExt cx="7238880" cy="1981080"/>
          </a:xfrm>
        </p:grpSpPr>
        <p:sp>
          <p:nvSpPr>
            <p:cNvPr id="204" name=""/>
            <p:cNvSpPr/>
            <p:nvPr/>
          </p:nvSpPr>
          <p:spPr>
            <a:xfrm>
              <a:off x="4952880" y="2971800"/>
              <a:ext cx="0" cy="91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523880" y="3962520"/>
              <a:ext cx="7238880" cy="990360"/>
              <a:chOff x="1523880" y="3962520"/>
              <a:chExt cx="7238880" cy="990360"/>
            </a:xfrm>
          </p:grpSpPr>
          <p:sp>
            <p:nvSpPr>
              <p:cNvPr id="206" name=""/>
              <p:cNvSpPr/>
              <p:nvPr/>
            </p:nvSpPr>
            <p:spPr>
              <a:xfrm>
                <a:off x="1523880" y="3962520"/>
                <a:ext cx="7238880" cy="990360"/>
              </a:xfrm>
              <a:prstGeom prst="rect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844640" y="4038480"/>
                <a:ext cx="6597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Комплексная система бюджетирования на базе таблиц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EXCE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" name=""/>
          <p:cNvGrpSpPr/>
          <p:nvPr/>
        </p:nvGrpSpPr>
        <p:grpSpPr>
          <a:xfrm>
            <a:off x="1523880" y="1600200"/>
            <a:ext cx="7238880" cy="1981080"/>
            <a:chOff x="1523880" y="1600200"/>
            <a:chExt cx="7238880" cy="1981080"/>
          </a:xfrm>
        </p:grpSpPr>
        <p:sp>
          <p:nvSpPr>
            <p:cNvPr id="209" name=""/>
            <p:cNvSpPr/>
            <p:nvPr/>
          </p:nvSpPr>
          <p:spPr>
            <a:xfrm>
              <a:off x="4952880" y="1600200"/>
              <a:ext cx="0" cy="91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1523880" y="2590920"/>
              <a:ext cx="7238880" cy="990360"/>
              <a:chOff x="1523880" y="2590920"/>
              <a:chExt cx="7238880" cy="990360"/>
            </a:xfrm>
          </p:grpSpPr>
          <p:sp>
            <p:nvSpPr>
              <p:cNvPr id="211" name=""/>
              <p:cNvSpPr/>
              <p:nvPr/>
            </p:nvSpPr>
            <p:spPr>
              <a:xfrm>
                <a:off x="1523880" y="2590920"/>
                <a:ext cx="7238880" cy="990360"/>
              </a:xfrm>
              <a:prstGeom prst="rect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44640" y="2666880"/>
                <a:ext cx="6597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Формирование консолидированного бюджет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ВОЛЮЦИЯ СИСТЕМЫ БЮДЖЕТИРОВАНИЯ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14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1523880" y="1219320"/>
            <a:ext cx="7238880" cy="990360"/>
            <a:chOff x="1523880" y="1219320"/>
            <a:chExt cx="7238880" cy="990360"/>
          </a:xfrm>
        </p:grpSpPr>
        <p:sp>
          <p:nvSpPr>
            <p:cNvPr id="216" name=""/>
            <p:cNvSpPr/>
            <p:nvPr/>
          </p:nvSpPr>
          <p:spPr>
            <a:xfrm>
              <a:off x="1523880" y="1219320"/>
              <a:ext cx="7238880" cy="99036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44640" y="1295280"/>
              <a:ext cx="659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Полное отсутствие системы бюджетирова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НОВНЫЕ РЕЗУЛЬТАТЫ ВНЕДРЕНИЯ СИСТЕМЫ БЮДЖЕТИРОВАНИЯ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19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295280" y="1143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955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1060560"/>
            <a:ext cx="845820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озможность четкого постатейного и пофилиального планирования и осуществления платежей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личие ответственных за каждую статью расход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вышение прозрачности расчетов компани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вышение эффективности кредитной политики Общества в целом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лный контроль за расходами филиал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Учет и распределение всех доходов Общества, включая прочие доходы филиал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лучение дополнительного инструмента мотивации руководства структурных подразделений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озможность учета расходования средств в переходный период в разрезе выделяемых в процессе реформирования общест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ЕРСПЕКТИВЫ СОВЕРШЕНСТВОВАНИЯ БЮДЖЕТНОГО УПРАВЛЕНИЯ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4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85800" y="2158920"/>
            <a:ext cx="83818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ширение дерева бюджетов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вышение оперативности управления денежными средствами на счетах Обществ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ормирование бюджета затрат Обществ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31:04Z</dcterms:created>
  <dc:creator>OLYMP:FINANS</dc:creator>
  <dc:description/>
  <dc:language>en-US</dc:language>
  <cp:lastModifiedBy>В.В. Шишляев</cp:lastModifiedBy>
  <dcterms:modified xsi:type="dcterms:W3CDTF">2004-03-17T17:37:23Z</dcterms:modified>
  <cp:revision>114</cp:revision>
  <dc:subject/>
  <dc:title>Финансовое состояние ОАО «Пермэнерго» по итогам I квартала 2003 года.</dc:title>
</cp:coreProperties>
</file>