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290-8BD1-423E-8624-63D99E71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75D-F8B7-442E-9AB5-2C5657D9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88B-2E79-4150-82DC-ED5CAAB5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104-F710-4D84-A896-A3563CE0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D62B-91C6-473F-B8BD-35657BD6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7166-B954-41B8-B388-AA8C0A6C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E32D-CBB0-41D3-B688-C41AD343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D1C6-8B3C-4FD3-BCA3-C8338D03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2551-9BE4-4684-80A2-90103809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41A9-B132-4421-BF7A-B2267363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8FEB-74AD-456B-92AE-15B19325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F36-901A-4639-B7B6-3DE1464D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3507-3A85-481C-9EEB-2AFCE38A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3745-7E35-4A80-9417-AD259FE9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B3CE-E86C-4F30-8C7E-3D96A12C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CB08-5575-4328-A017-A74C9B0B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218D-FF20-4132-BE23-5CBB3D21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ED8-A134-439D-8794-CF76F6B3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3B2-03D4-40D6-81E6-7B1B7737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FA7-DA06-452A-9B84-60B5F701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618-D004-48AF-9A79-CA5E3328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870-437B-42A8-883B-97D83877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03A-CD66-45F2-B759-C9C1CF33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CDA-9132-45FD-BDE7-8B115F6E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0CDB-EA4B-46D1-BE22-48509D09C4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F729-3B8B-4049-8896-50A75837606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ПРАКТИЧЕСКИЕ РЕЗУЛЬТАТЫ РАБОТЫ ПО ПОСТРОЕНИЮ СИСТЕМЫ БЮДЖЕТИРОВАНИЯ И ПЕРСПЕКТИВЫ СОВЕРШЕНСТВОВАНИЯ БЮДЖЕТНОГО УПРАВЛЕНИЯ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3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676520" y="59436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мь, 18 марта 2004 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55-1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br>
              <a:rPr sz="3800"/>
            </a:br>
            <a:br>
              <a:rPr sz="3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ЛЕНЬКОВ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Роман Николаевич</a:t>
            </a:r>
            <a:br>
              <a:rPr sz="4800"/>
            </a:br>
            <a:br>
              <a:rPr sz="4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заместитель генерального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директора АО «Пермэнерго»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по финансам</a:t>
            </a:r>
            <a:endParaRPr b="0" lang="en-US" sz="3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УЩЕСТВУЮЩАЯ ОРГАНИЗАЦИОННО-ТЕХНОЛОГИЧЕСКАЯ СТРУКТУРА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43000" y="1600200"/>
          <a:ext cx="7848720" cy="510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600200"/>
                    <a:ext cx="7848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ХЕМА ФИНАНСОВЫХ ПОТОКОВ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32080" y="126036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43000" y="2438280"/>
            <a:ext cx="7645320" cy="4191120"/>
            <a:chOff x="1143000" y="2438280"/>
            <a:chExt cx="7645320" cy="4191120"/>
          </a:xfrm>
        </p:grpSpPr>
        <p:grpSp>
          <p:nvGrpSpPr>
            <p:cNvPr id="157" name=""/>
            <p:cNvGrpSpPr/>
            <p:nvPr/>
          </p:nvGrpSpPr>
          <p:grpSpPr>
            <a:xfrm>
              <a:off x="6824520" y="2438280"/>
              <a:ext cx="1963800" cy="1828800"/>
              <a:chOff x="6824520" y="2438280"/>
              <a:chExt cx="1963800" cy="1828800"/>
            </a:xfrm>
          </p:grpSpPr>
          <p:sp>
            <p:nvSpPr>
              <p:cNvPr id="158" name=""/>
              <p:cNvSpPr/>
              <p:nvPr/>
            </p:nvSpPr>
            <p:spPr>
              <a:xfrm>
                <a:off x="6824520" y="2438280"/>
                <a:ext cx="1625760" cy="15238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985080" y="2590560"/>
                <a:ext cx="1625400" cy="15242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62920" y="2743200"/>
                <a:ext cx="1625400" cy="15238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Филиалы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143000" y="2438280"/>
              <a:ext cx="3200400" cy="1686600"/>
              <a:chOff x="1143000" y="2438280"/>
              <a:chExt cx="3200400" cy="1686600"/>
            </a:xfrm>
          </p:grpSpPr>
          <p:sp>
            <p:nvSpPr>
              <p:cNvPr id="162" name=""/>
              <p:cNvSpPr/>
              <p:nvPr/>
            </p:nvSpPr>
            <p:spPr>
              <a:xfrm>
                <a:off x="1143000" y="2438280"/>
                <a:ext cx="3200400" cy="16002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19320" y="2743200"/>
                <a:ext cx="297180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Исполнительный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аппарат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971800" y="5181480"/>
              <a:ext cx="5714640" cy="1447920"/>
              <a:chOff x="2971800" y="5181480"/>
              <a:chExt cx="5714640" cy="14479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2971800" y="5181480"/>
                <a:ext cx="5409720" cy="1143000"/>
                <a:chOff x="2971800" y="5181480"/>
                <a:chExt cx="5409720" cy="1143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181480"/>
                  <a:ext cx="5409720" cy="11430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985920" y="5486400"/>
                  <a:ext cx="3493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Контрагент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124080" y="5334120"/>
                <a:ext cx="5409720" cy="1143000"/>
                <a:chOff x="3124080" y="5334120"/>
                <a:chExt cx="5409720" cy="1143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124080" y="5334120"/>
                  <a:ext cx="5409720" cy="11430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138200" y="5639040"/>
                  <a:ext cx="3493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Контрагент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276360" y="5486400"/>
                <a:ext cx="5410080" cy="1143000"/>
                <a:chOff x="3276360" y="5486400"/>
                <a:chExt cx="5410080" cy="1143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276360" y="5486400"/>
                  <a:ext cx="5410080" cy="11430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290480" y="5791320"/>
                  <a:ext cx="349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Контрагент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4" name=""/>
          <p:cNvGrpSpPr/>
          <p:nvPr/>
        </p:nvGrpSpPr>
        <p:grpSpPr>
          <a:xfrm>
            <a:off x="685800" y="1143000"/>
            <a:ext cx="7086600" cy="1219320"/>
            <a:chOff x="685800" y="1143000"/>
            <a:chExt cx="7086600" cy="1219320"/>
          </a:xfrm>
        </p:grpSpPr>
        <p:sp>
          <p:nvSpPr>
            <p:cNvPr id="175" name=""/>
            <p:cNvSpPr/>
            <p:nvPr/>
          </p:nvSpPr>
          <p:spPr>
            <a:xfrm>
              <a:off x="685800" y="1219320"/>
              <a:ext cx="22860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Выручк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т основно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реализац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38680" y="1295280"/>
              <a:ext cx="19814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Выручк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т проче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реализац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4080" y="114300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72400" y="114300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90720" y="3276720"/>
            <a:ext cx="5867280" cy="1904760"/>
            <a:chOff x="990720" y="3276720"/>
            <a:chExt cx="5867280" cy="1904760"/>
          </a:xfrm>
        </p:grpSpPr>
        <p:sp>
          <p:nvSpPr>
            <p:cNvPr id="180" name=""/>
            <p:cNvSpPr/>
            <p:nvPr/>
          </p:nvSpPr>
          <p:spPr>
            <a:xfrm>
              <a:off x="4343400" y="327672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080" y="3352680"/>
              <a:ext cx="2590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Текущее финансировани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90720" y="425124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Централизованные расчет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38480" y="4038480"/>
              <a:ext cx="0" cy="1143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467480" y="4267080"/>
            <a:ext cx="609840" cy="1219320"/>
            <a:chOff x="7467480" y="4267080"/>
            <a:chExt cx="609840" cy="1219320"/>
          </a:xfrm>
        </p:grpSpPr>
        <p:sp>
          <p:nvSpPr>
            <p:cNvPr id="185" name=""/>
            <p:cNvSpPr/>
            <p:nvPr/>
          </p:nvSpPr>
          <p:spPr>
            <a:xfrm>
              <a:off x="7467480" y="426708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2400" y="4267080"/>
              <a:ext cx="0" cy="10670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77320" y="426708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28800" y="12193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БЪЕМНЫЕ ХАРАКТЕРИСТИКИ ФИНАНСОВЫХ ПОТОКОВ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523880"/>
            <a:ext cx="86108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.  Выручка от реализации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6 138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млн. рублей (без НД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т.ч. выручка от реализации основной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дукции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5 79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млн. рублей (без НД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.  Расход денежных средств за год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8 161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млн. руб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  Среднемесячное количество платежных документов в Исполнительном аппарате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6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ПРИЧИНЫ СОЗДАНИЯ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ИСТЕМЫ БЮДЖЕТИРОВАНИЯ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3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3520" y="1728720"/>
            <a:ext cx="838188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Внеш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иление контроля акционеров за расходованием средст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иление контроля РЭК Администрации Пермской области за расходованием средств в соответствии со структурой затрат, утвержденных при установлении тариф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росшие требования контрагентов по четкому исполнению договорных отношений в части объемов и сроков расчет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3520" y="1676520"/>
            <a:ext cx="845820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Внутрен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возможность планирования финансовых потоков и осуществления эффективной кредитной полит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сконтрольное расходование средств филиал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ость учета прочих доходов филиалов при осуществлении их финансиров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постатейного перекоса в расходовании средст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утствие понятного филиалам механизма их финансирования Исполнительным аппарат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ПРИЧИНЫ СОЗДАНИЯ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ИСТЕМЫ БЮДЖЕТИРОВАНИЯ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523880" y="4343400"/>
            <a:ext cx="7238880" cy="2257920"/>
            <a:chOff x="1523880" y="4343400"/>
            <a:chExt cx="7238880" cy="2257920"/>
          </a:xfrm>
        </p:grpSpPr>
        <p:sp>
          <p:nvSpPr>
            <p:cNvPr id="199" name=""/>
            <p:cNvSpPr/>
            <p:nvPr/>
          </p:nvSpPr>
          <p:spPr>
            <a:xfrm>
              <a:off x="4952880" y="434340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523880" y="5334120"/>
              <a:ext cx="7238880" cy="1267200"/>
              <a:chOff x="1523880" y="5334120"/>
              <a:chExt cx="7238880" cy="1267200"/>
            </a:xfrm>
          </p:grpSpPr>
          <p:sp>
            <p:nvSpPr>
              <p:cNvPr id="201" name=""/>
              <p:cNvSpPr/>
              <p:nvPr/>
            </p:nvSpPr>
            <p:spPr>
              <a:xfrm>
                <a:off x="1523880" y="5334120"/>
                <a:ext cx="7238880" cy="9903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4640" y="5410080"/>
                <a:ext cx="6597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Комплексная система бюджетирования на базе «Капитал CSE»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1523880" y="2971800"/>
            <a:ext cx="7238880" cy="1981080"/>
            <a:chOff x="1523880" y="2971800"/>
            <a:chExt cx="7238880" cy="1981080"/>
          </a:xfrm>
        </p:grpSpPr>
        <p:sp>
          <p:nvSpPr>
            <p:cNvPr id="204" name=""/>
            <p:cNvSpPr/>
            <p:nvPr/>
          </p:nvSpPr>
          <p:spPr>
            <a:xfrm>
              <a:off x="4952880" y="297180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523880" y="3962520"/>
              <a:ext cx="7238880" cy="990360"/>
              <a:chOff x="1523880" y="3962520"/>
              <a:chExt cx="7238880" cy="990360"/>
            </a:xfrm>
          </p:grpSpPr>
          <p:sp>
            <p:nvSpPr>
              <p:cNvPr id="206" name=""/>
              <p:cNvSpPr/>
              <p:nvPr/>
            </p:nvSpPr>
            <p:spPr>
              <a:xfrm>
                <a:off x="1523880" y="3962520"/>
                <a:ext cx="7238880" cy="9903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844640" y="4038480"/>
                <a:ext cx="6597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Комплексная система бюджетирования на базе таблиц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EXCE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1523880" y="1600200"/>
            <a:ext cx="7238880" cy="1981080"/>
            <a:chOff x="1523880" y="1600200"/>
            <a:chExt cx="7238880" cy="1981080"/>
          </a:xfrm>
        </p:grpSpPr>
        <p:sp>
          <p:nvSpPr>
            <p:cNvPr id="209" name=""/>
            <p:cNvSpPr/>
            <p:nvPr/>
          </p:nvSpPr>
          <p:spPr>
            <a:xfrm>
              <a:off x="4952880" y="160020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1523880" y="2590920"/>
              <a:ext cx="7238880" cy="990360"/>
              <a:chOff x="1523880" y="2590920"/>
              <a:chExt cx="7238880" cy="990360"/>
            </a:xfrm>
          </p:grpSpPr>
          <p:sp>
            <p:nvSpPr>
              <p:cNvPr id="211" name=""/>
              <p:cNvSpPr/>
              <p:nvPr/>
            </p:nvSpPr>
            <p:spPr>
              <a:xfrm>
                <a:off x="1523880" y="2590920"/>
                <a:ext cx="7238880" cy="9903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44640" y="2666880"/>
                <a:ext cx="6597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Формирование консолидированного бюджет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ВОЛЮЦИЯ СИСТЕМЫ БЮДЖЕТИРОВАНИЯ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4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1523880" y="1219320"/>
            <a:ext cx="7238880" cy="990360"/>
            <a:chOff x="1523880" y="1219320"/>
            <a:chExt cx="7238880" cy="990360"/>
          </a:xfrm>
        </p:grpSpPr>
        <p:sp>
          <p:nvSpPr>
            <p:cNvPr id="216" name=""/>
            <p:cNvSpPr/>
            <p:nvPr/>
          </p:nvSpPr>
          <p:spPr>
            <a:xfrm>
              <a:off x="1523880" y="1219320"/>
              <a:ext cx="7238880" cy="99036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44640" y="1295280"/>
              <a:ext cx="659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Полное отсутствие системы бюджетирова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НЫЕ РЕЗУЛЬТАТЫ ВНЕДРЕНИЯ СИСТЕМЫ БЮДЖЕТИРОВАНИЯ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9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295280" y="1143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955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1060560"/>
            <a:ext cx="845820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зможность четкого постатейного и пофилиального планирования и осуществления платежей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личие ответственных за каждую статью расход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вышение прозрачности расчетов компан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вышение эффективности кредитной политики Общества в цело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лный контроль за расходами филиал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Учет и распределение всех доходов Общества, включая прочие доходы филиал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лучение дополнительного инструмента мотивации руководства структурных подразделений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зможность учета расходования средств в переходный период в разрезе выделяемых в процессе реформирования общест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СПЕКТИВЫ СОВЕРШЕНСТВОВАНИЯ БЮДЖЕТНОГО УПРАВЛЕНИЯ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4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85800" y="2158920"/>
            <a:ext cx="83818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ширение дерева бюджет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вышение оперативности управления денежными средствами на счетах Общест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ормирование бюджета затрат Общест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31:04Z</dcterms:created>
  <dc:creator>OLYMP:FINANS</dc:creator>
  <dc:description/>
  <dc:language>en-US</dc:language>
  <cp:lastModifiedBy>В.В. Шишляев</cp:lastModifiedBy>
  <dcterms:modified xsi:type="dcterms:W3CDTF">2004-03-17T17:37:23Z</dcterms:modified>
  <cp:revision>114</cp:revision>
  <dc:subject/>
  <dc:title>Финансовое состояние ОАО «Пермэнерго» по итогам I квартала 2003 года.</dc:title>
</cp:coreProperties>
</file>