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A66-5646-4D9B-915A-7B43898B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0C1-18C1-4D60-AD4F-37B6EFB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4D0-1547-4ECD-9884-B64DA272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CE7-6B04-49F4-AD06-20BB9861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A7CF-96B3-4A48-A921-9FB2A75C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B28E-223C-49A7-B38B-D5875B9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E985-2BC4-49BF-A701-3F3564F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2FE2-3A2A-4455-80FC-7E359992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C908-08E5-46E8-B272-E6C5A1E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7709-C809-4141-B79D-5890560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1F25-308F-453D-8685-BAF492D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9D0-7BE9-4D92-BC73-C953ACC9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DCD0-D5F6-4895-BF31-A0779BB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02D-5853-4A33-AFC5-7B119D51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088-BAE6-4DA9-A8D1-9268A94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088-EBB5-49B8-BD17-C06C014E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D8C-167D-4682-8DA1-477C0DF2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F37-9456-4679-8F12-AF508007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E4B-C598-4641-A23E-4463365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C43-4A04-44B6-AC04-20810338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8C6-5E4F-4201-8581-3977054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4F4-F0E9-46E8-8C74-ABD0CD6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804-7375-43A0-B91A-52301289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2CC-0C31-4717-BDF9-7822930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016-4224-4E04-834B-B49A4603FB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E3BA-1658-444E-94A7-AC9E1DA9AA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РАКТИЧЕСКИЕ РЕЗУЛЬТАТЫ РАБОТЫ ПО ПОСТРОЕНИЮ СИСТЕМЫ БЮДЖЕТИРОВАНИЯ И ПЕРСПЕКТИВЫ СОВЕРШЕНСТВОВАНИЯ БЮДЖЕТНОГО УПРАВЛЕ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мь, 18 марта 200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55-1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3800"/>
            </a:br>
            <a:br>
              <a:rPr sz="3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НЬК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ман Николаевич</a:t>
            </a:r>
            <a:br>
              <a:rPr sz="4800"/>
            </a:br>
            <a:br>
              <a:rPr sz="4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меститель генерального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директора АО «Пермэнерго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о финансам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УЩЕСТВУЮЩАЯ ОРГАНИЗАЦИОННО-ТЕХНОЛОГИЧЕСКАЯ СТРУКТУР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600200"/>
          <a:ext cx="78487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020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ХЕМА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32080" y="126036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645320" cy="4191120"/>
            <a:chOff x="1143000" y="2438280"/>
            <a:chExt cx="7645320" cy="4191120"/>
          </a:xfrm>
        </p:grpSpPr>
        <p:grpSp>
          <p:nvGrpSpPr>
            <p:cNvPr id="157" name=""/>
            <p:cNvGrpSpPr/>
            <p:nvPr/>
          </p:nvGrpSpPr>
          <p:grpSpPr>
            <a:xfrm>
              <a:off x="6824520" y="2438280"/>
              <a:ext cx="1963800" cy="1828800"/>
              <a:chOff x="6824520" y="2438280"/>
              <a:chExt cx="196380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824520" y="2438280"/>
                <a:ext cx="162576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5080" y="2590560"/>
                <a:ext cx="1625400" cy="15242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2743200"/>
                <a:ext cx="162540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илиал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143000" y="2438280"/>
              <a:ext cx="3200400" cy="1686600"/>
              <a:chOff x="1143000" y="2438280"/>
              <a:chExt cx="3200400" cy="1686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143000" y="2438280"/>
                <a:ext cx="320040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743200"/>
                <a:ext cx="297180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сполнительны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аппара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71800" y="5181480"/>
              <a:ext cx="5714640" cy="1447920"/>
              <a:chOff x="2971800" y="5181480"/>
              <a:chExt cx="5714640" cy="144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5181480"/>
                <a:ext cx="5409720" cy="1143000"/>
                <a:chOff x="2971800" y="5181480"/>
                <a:chExt cx="540972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18148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85920" y="548640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5334120"/>
                <a:ext cx="5409720" cy="1143000"/>
                <a:chOff x="3124080" y="5334120"/>
                <a:chExt cx="540972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533412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38200" y="563904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76360" y="5486400"/>
                <a:ext cx="5410080" cy="1143000"/>
                <a:chOff x="3276360" y="5486400"/>
                <a:chExt cx="5410080" cy="1143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276360" y="5486400"/>
                  <a:ext cx="541008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90480" y="5791320"/>
                  <a:ext cx="349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685800" y="1143000"/>
            <a:ext cx="7086600" cy="1219320"/>
            <a:chOff x="685800" y="1143000"/>
            <a:chExt cx="7086600" cy="1219320"/>
          </a:xfrm>
        </p:grpSpPr>
        <p:sp>
          <p:nvSpPr>
            <p:cNvPr id="175" name=""/>
            <p:cNvSpPr/>
            <p:nvPr/>
          </p:nvSpPr>
          <p:spPr>
            <a:xfrm>
              <a:off x="685800" y="1219320"/>
              <a:ext cx="22860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основно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1295280"/>
              <a:ext cx="1981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проче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0720" y="3276720"/>
            <a:ext cx="5867280" cy="1904760"/>
            <a:chOff x="990720" y="3276720"/>
            <a:chExt cx="5867280" cy="1904760"/>
          </a:xfrm>
        </p:grpSpPr>
        <p:sp>
          <p:nvSpPr>
            <p:cNvPr id="180" name=""/>
            <p:cNvSpPr/>
            <p:nvPr/>
          </p:nvSpPr>
          <p:spPr>
            <a:xfrm>
              <a:off x="4343400" y="327672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екущее финансир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42512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Централизованные расче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4038480"/>
              <a:ext cx="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267080"/>
            <a:ext cx="609840" cy="1219320"/>
            <a:chOff x="7467480" y="4267080"/>
            <a:chExt cx="609840" cy="1219320"/>
          </a:xfrm>
        </p:grpSpPr>
        <p:sp>
          <p:nvSpPr>
            <p:cNvPr id="185" name=""/>
            <p:cNvSpPr/>
            <p:nvPr/>
          </p:nvSpPr>
          <p:spPr>
            <a:xfrm>
              <a:off x="7467480" y="426708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4267080"/>
              <a:ext cx="0" cy="1067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426708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8800" y="12193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ЕМНЫЕ ХАРАКТЕРИСТИКИ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23880"/>
            <a:ext cx="86108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Выручка от реализа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138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.ч. выручка от реализации основ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 79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Расход денежных средств за год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 16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Среднемесячное количество платежных документов в Исполнительном аппарате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72872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акционеров за расходованием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РЭК Администрации Пермской области за расходованием средств в соответствии со структурой затрат, утвержденных при установлении тариф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сшие требования контрагентов по четкому исполнению договорных отношений в части объемов и сроков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1676520"/>
            <a:ext cx="84582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сть планирования финансовых потоков и осуществления эффективной кредитной поли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контрольное расходование средств филиал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сть учета прочих доходов филиалов при осуществлении их финансиро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постатейного перекоса в расходовании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нятного филиалам механизма их финансирования Исполнительным аппара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523880" y="4343400"/>
            <a:ext cx="7238880" cy="2257920"/>
            <a:chOff x="1523880" y="4343400"/>
            <a:chExt cx="7238880" cy="2257920"/>
          </a:xfrm>
        </p:grpSpPr>
        <p:sp>
          <p:nvSpPr>
            <p:cNvPr id="199" name=""/>
            <p:cNvSpPr/>
            <p:nvPr/>
          </p:nvSpPr>
          <p:spPr>
            <a:xfrm>
              <a:off x="4952880" y="43434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23880" y="5334120"/>
              <a:ext cx="7238880" cy="1267200"/>
              <a:chOff x="1523880" y="5334120"/>
              <a:chExt cx="7238880" cy="126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53341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4640" y="5410080"/>
                <a:ext cx="659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«Капитал CSE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523880" y="2971800"/>
            <a:ext cx="7238880" cy="1981080"/>
            <a:chOff x="1523880" y="2971800"/>
            <a:chExt cx="7238880" cy="1981080"/>
          </a:xfrm>
        </p:grpSpPr>
        <p:sp>
          <p:nvSpPr>
            <p:cNvPr id="204" name=""/>
            <p:cNvSpPr/>
            <p:nvPr/>
          </p:nvSpPr>
          <p:spPr>
            <a:xfrm>
              <a:off x="4952880" y="29718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523880" y="3962520"/>
              <a:ext cx="7238880" cy="990360"/>
              <a:chOff x="1523880" y="3962520"/>
              <a:chExt cx="7238880" cy="990360"/>
            </a:xfrm>
          </p:grpSpPr>
          <p:sp>
            <p:nvSpPr>
              <p:cNvPr id="206" name=""/>
              <p:cNvSpPr/>
              <p:nvPr/>
            </p:nvSpPr>
            <p:spPr>
              <a:xfrm>
                <a:off x="1523880" y="39625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4640" y="40384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таблиц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EXC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523880" y="1600200"/>
            <a:ext cx="7238880" cy="1981080"/>
            <a:chOff x="1523880" y="1600200"/>
            <a:chExt cx="7238880" cy="1981080"/>
          </a:xfrm>
        </p:grpSpPr>
        <p:sp>
          <p:nvSpPr>
            <p:cNvPr id="209" name=""/>
            <p:cNvSpPr/>
            <p:nvPr/>
          </p:nvSpPr>
          <p:spPr>
            <a:xfrm>
              <a:off x="4952880" y="16002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523880" y="2590920"/>
              <a:ext cx="7238880" cy="990360"/>
              <a:chOff x="1523880" y="2590920"/>
              <a:chExt cx="7238880" cy="99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25909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44640" y="26668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ормирование консолидированного бюджет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ВОЛЮЦИЯ СИСТЕМЫ БЮДЖЕТИРОВАНИЯ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523880" y="1219320"/>
            <a:ext cx="7238880" cy="990360"/>
            <a:chOff x="1523880" y="1219320"/>
            <a:chExt cx="7238880" cy="990360"/>
          </a:xfrm>
        </p:grpSpPr>
        <p:sp>
          <p:nvSpPr>
            <p:cNvPr id="216" name=""/>
            <p:cNvSpPr/>
            <p:nvPr/>
          </p:nvSpPr>
          <p:spPr>
            <a:xfrm>
              <a:off x="1523880" y="1219320"/>
              <a:ext cx="7238880" cy="990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640" y="1295280"/>
              <a:ext cx="659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лное отсутствие системы бюджетир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РЕЗУЛЬТАТЫ ВНЕДРЕНИЯ СИСТЕМЫ БЮДЖЕТИРОВАНИЯ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1143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95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060560"/>
            <a:ext cx="84582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четкого постатейного и пофилиального планирования и осуществления платеж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личие ответственных за каждую статью расход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прозрачности расчетов компа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эффективности кредитной политики Общества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ный контроль за расходами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т и распределение всех доходов Общества, включая прочие доходы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дополнительного инструмента мотивации руководства структурных подразделе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учета расходования средств в переходный период в разрезе выделяемых в процессе реформирования общест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СОВЕРШЕНСТВОВАНИЯ БЮДЖЕТНОГО УПРАВЛЕНИЯ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215892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ширение дерева бюджет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ышение оперативности управления денежными средствами на счетах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бюджета затрат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31:04Z</dcterms:created>
  <dc:creator>OLYMP:FINANS</dc:creator>
  <dc:description/>
  <dc:language>en-US</dc:language>
  <cp:lastModifiedBy>В.В. Шишляев</cp:lastModifiedBy>
  <dcterms:modified xsi:type="dcterms:W3CDTF">2004-03-17T17:37:23Z</dcterms:modified>
  <cp:revision>114</cp:revision>
  <dc:subject/>
  <dc:title>Финансовое состояние ОАО «Пермэнерго» по итогам I квартала 2003 года.</dc:title>
</cp:coreProperties>
</file>