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87560" y="0"/>
            <a:ext cx="28018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51720"/>
            <a:ext cx="287820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87560" y="9351720"/>
            <a:ext cx="280188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6C81869-AA6C-483E-9626-653CCB3AC0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брый день, дамы и госп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ня зовут Виктор Шишляев, я - генеральный директор компании «Геликон Про». Позвольте мне открыть семинар «Практический опыт автоматизации предприят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азосланных Вам приглашениях наш семинар отнюдь не случайно назван «традиционным». Тому я вижу две прич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-первых, семинар проводится уже третий год подряд 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адицион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обирает весьма представительную и квалифицированную аудитор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-вторых, этот семина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адицион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освящается обсуждению реального опыта и практических вопросов, связанных с использованием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ы рады видеть Вас на сегодняшней встрече и искренне надеемся, что участников семинара прежде всего привлекает возможность откровенного обсуждения и обмена мн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технологические характеристики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обеспечивают возможность совместного ввода и обработки информации с десятков рабочих мест, структурно и территориально распределенных по предприя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одтверждения своих слов я хотел бы представить характеристики эксплуатации нашей системы на примере крупного производственного предприятия - акционерного общества «Камкаб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чу обратить Ваше внимание на два показателя, приведенных на этом слайд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реднем свыше 150 одновременно работающих пользов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истеме ежемесячно регистрируется более 180 000 транзакций, порождаемых оформлением различ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этот продукт ориентирован на предприятия крупного и среднего масштаба, руководители которых видят в информационных технологиях мощный инструмент для повышения эффективности своего бизн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ршая свое выступление, я хотел бы представить Вам программу сегодняшнего семинара. Вас ждут 4 интересных доклада, которые достаточно полно отражают текущие достижения и перспективы развития нашей компании и наши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Федосеев расскажет об опыте быстрого внедрения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на основе типовых решений и поделится планами развития этой методологии, ориентированной на сокращение временных и финансовых издержек Заказч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Герасимов представит результаты проекта по автоматизации финансового планирования в акционерном обществе «Пермэнерго» и познакомит Вас с возможностями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в области управления финанс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окладе Ольги Канаевой Вам будет представлено обобщение гигантского опыта по автоматизации процессов управления персоналом, полученного нашей компанией в ходе реализации 4-х летнего проекта для ЗАО «ЛУКОЙЛ-Перм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наконец, Андрей Клюев расскажет о том, как много делают наши специалисты для улучшения качества и производительности программного обеспечения и сформулирует ближайшие перспективы е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9720" y="4637160"/>
            <a:ext cx="48052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т семинар является знаковым событием: в марте следующего года нашей компании исполняется 10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ответственно, сегодня мы хотим представить наиболее значимые результаты 10-летней деятельности «Геликон Про» в сфере информационных технологий и познакомить Вас с планами на ближайшую перспекти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ш путь за прошедшее десятилетие нельзя назвать простым и однозначным. На этом пути мы не единожды терпели неудачи, неоднократно оказывались перед соблазном ухода в другие сегменты рынка в угоду сиюминутной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всём этом сегодня, как и 10 лет назад, свою миссию мы видим в удовлетворении потребностей бизнеса в информации, необходимой для принятия своевременных и правиль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аким образом, вот уже 10 лет мы постоянны в своей стратегии, ориентированной на предоставление заказчикам качественных продуктов, сервиса и технологий для сбора, обработки и анализ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причина этого постоя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а в том, что наша компания удачно аккумулирует три важных компонента любой производственн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знания и опыт, полученные при реализации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ерсонал, обеспечивающий накопление и распространение эт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третьих, собственные инновационные технологии и проду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сегодняшний день «Геликон Про» является лидером регионального рынка корпоративных решений. Наша клиентская база охватывает более 2-х десятков крупнейших предприятий Пермского кр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нашей компании весьма достойно выглядят и на общероссийском уровне. Так, в сентябре этого года на страницах авторитетного интернет-издания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e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публикован рейтин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 наиболее заметных ИТ-проектов в промышленности России за последние пять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ители включили в этот рейтинг сразу 3 проекта, реализованных специалистами компании «Геликон Про» для предприятий «Пермэнерго», «ЛУКОЙЛ-Пермь» и «Камкаб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6-м году,  готовясь к участию в одной из выставок, мы лихорадочно пытались найти для оформления стенда фотографии индустриальных пейзажей, которые должны были демонстрировать широту отраслевой специфики наш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раз, при подготовке выступления мне было значительно проще подобрать иллюстративный материал. Для этого достаточно было посетить сайты наших заказчиков - предприятий топливно-энергетического комплекса, обрабатывающей промышлен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а, транспорта и индустрии гостеприимст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основных элементов стратегии компании является постоянное развитие собственного инструментария и методологии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наших продуктов центральное место занимает корпоративная система управления предприятием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 CSE» предназначена для комплексной автоматизации процессов управления предприятием, включая бухгалтерский и налоговый учет, управление персоналом и материальными потоками, производственное и финансов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ые возможности этого продукта, история которого ведет отсчет от программы автоматизации бухгалтерского учета, в настоящее время обеспечивают поддержку основных элементов систем производственного планирования класс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116-59B6-42CD-B336-1314FA53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BC8-27E9-4CBB-8E74-6BB61E83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6EE-606A-43D3-AB8B-4449B590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F78-B5F1-44A8-9EB7-AFDD9EC2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DC3-D79F-494D-B83E-597C781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169-3D2D-4666-94EC-B504C96E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6D8-036E-4B24-B69F-BCBD1543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3EC-94C6-47A4-9786-E13F3596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58F-6D27-44A7-B751-AB0DD45A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DA8-6D98-4BC7-A73C-1471327D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CDC-407C-4720-AE03-2F707A6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455-707D-4C3C-BC7C-40163415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77D9-15D9-4D7C-A679-135EEA544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158480"/>
            <a:ext cx="2190600" cy="56991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6181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93920"/>
            <a:ext cx="523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АКТИЧЕСКИЙ ОПЫТ АВТОМАТИЗАЦИИ ПРЕДПРИ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467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Виктор Шишля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ahoma"/>
              </a:rPr>
              <a:t>Генеральный директор ЗАО "Геликон Про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788280" y="679320"/>
              <a:ext cx="94320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11200" y="2454120"/>
          <a:ext cx="3089160" cy="22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200" y="2454120"/>
                    <a:ext cx="30891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2" name=""/>
          <p:cNvSpPr/>
          <p:nvPr/>
        </p:nvSpPr>
        <p:spPr>
          <a:xfrm>
            <a:off x="1879560" y="998640"/>
            <a:ext cx="709308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СНОВНЫ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КСПЛУАТАЦИИ КИС КАПИТАЛ C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В ОАО "КАМКАБЕЛЬ"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86040" y="2452680"/>
            <a:ext cx="725796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бще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ользователей системы……………….…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дновременно работа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ользователей …………………………....…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Средне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транзакций за месяц......................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В эксплуатации……..………...……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бъем базы данных…………....…………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rcRect l="35634" t="0" r="15740" b="0"/>
          <a:stretch/>
        </p:blipFill>
        <p:spPr>
          <a:xfrm>
            <a:off x="135000" y="1055520"/>
            <a:ext cx="1571400" cy="48769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14680" y="1441440"/>
            <a:ext cx="7429320" cy="54198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3160" y="1389960"/>
            <a:ext cx="72536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Быстрое внедрение системы Капитал C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опыт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Директор по внедрению ИС ЗАО "Геликон Про" Федосеев С.А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Автоматизация финанс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ланирования в ОАО "Пермэнерго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Ведущий специалист ЗАО "Геликон Про" Герасимов С.Ю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Автоматизация управления персон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в ЗАО "ЛУКОЙЛ-Перм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Ведущий специалист ЗАО "Геликон Про" Канаева О.В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ерспективы развития програм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родуктов компании "Геликон Про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Директор по разработке ПО ЗАО "Геликон Про" Клюев А.В.</a:t>
            </a:r>
            <a:r>
              <a:rPr b="0" lang="en-US" sz="17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17720" y="80496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ГРАММА СЕМИ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7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14680" y="638280"/>
            <a:ext cx="7429320" cy="2816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"/>
          <p:cNvSpPr/>
          <p:nvPr/>
        </p:nvSpPr>
        <p:spPr>
          <a:xfrm>
            <a:off x="1879560" y="1096920"/>
            <a:ext cx="7093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КОМПАНИЯ</a:t>
            </a:r>
            <a:br>
              <a:rPr sz="60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Геликон Пр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5760" y="3983040"/>
            <a:ext cx="7893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5200" spc="-1" strike="noStrike">
                <a:solidFill>
                  <a:srgbClr val="ffffff"/>
                </a:solidFill>
                <a:latin typeface="Tahoma"/>
              </a:rPr>
              <a:t> лет в сфере ИТ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9560" y="893880"/>
            <a:ext cx="7093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ИССИЯ КОМП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6040" y="1703520"/>
            <a:ext cx="6956280" cy="42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Свою миссию мы видим в удовлетворении потребностей бизнеса в информации, необходимой для принятия своевременных и правильных управлен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Наши продукты и знания позволяют предоставить заказчикам качественных продуктов, сервиса и технологий для сбора, обработки и анализ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0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07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1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13120" y="914400"/>
            <a:ext cx="5091120" cy="5321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5440" y="1506600"/>
            <a:ext cx="4027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ЛАГАЕМЫЕ СТАБИ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66120" y="3162240"/>
            <a:ext cx="303048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ыт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0200" y="5295960"/>
            <a:ext cx="198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со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35040" y="3137040"/>
            <a:ext cx="23860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14680" y="638280"/>
            <a:ext cx="7429320" cy="33494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4560" y="3990960"/>
            <a:ext cx="5689440" cy="28670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5" name=""/>
          <p:cNvSpPr/>
          <p:nvPr/>
        </p:nvSpPr>
        <p:spPr>
          <a:xfrm>
            <a:off x="2013120" y="750960"/>
            <a:ext cx="709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ШИ ЗАКАЗЧ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0840" y="1433520"/>
            <a:ext cx="531792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ЛУКОЙЛ-Перм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АФ "Уралгазсервис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ТД "Папирус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Искра-Энергетик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Мостоотряд №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0720" y="4186080"/>
            <a:ext cx="472284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ермэнер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Камкабел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Кирас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ермтурис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орт "Перм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52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aphicFrame>
        <p:nvGraphicFramePr>
          <p:cNvPr id="167" name=""/>
          <p:cNvGraphicFramePr/>
          <p:nvPr/>
        </p:nvGraphicFramePr>
        <p:xfrm>
          <a:off x="166680" y="3124080"/>
          <a:ext cx="8791560" cy="3030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3124080"/>
                    <a:ext cx="879156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68120" y="1135080"/>
            <a:ext cx="879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ейтинг "ИТ-проекты в промышленности России"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публикован на сайте Cnews.ru (сентябрь 2003 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067280" y="2349360"/>
            <a:ext cx="1687320" cy="45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71" name=""/>
          <p:cNvGraphicFramePr/>
          <p:nvPr/>
        </p:nvGraphicFramePr>
        <p:xfrm>
          <a:off x="5896080" y="2349360"/>
          <a:ext cx="168732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96080" y="2349360"/>
                    <a:ext cx="1687320" cy="457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0640" y="227340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вместны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ШИ ЗАКАЗЧ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7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0" y="939960"/>
            <a:ext cx="9144000" cy="5626080"/>
            <a:chOff x="0" y="939960"/>
            <a:chExt cx="9144000" cy="562608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3594240"/>
              <a:ext cx="45720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"/>
            <a:srcRect l="0" t="16894" r="0" b="9609"/>
            <a:stretch/>
          </p:blipFill>
          <p:spPr>
            <a:xfrm>
              <a:off x="4572000" y="3714840"/>
              <a:ext cx="4572000" cy="28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4"/>
            <a:srcRect l="0" t="0" r="0" b="19754"/>
            <a:stretch/>
          </p:blipFill>
          <p:spPr>
            <a:xfrm>
              <a:off x="4572000" y="939960"/>
              <a:ext cx="4572000" cy="28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5"/>
            <a:srcRect l="0" t="11584" r="0" b="8226"/>
            <a:stretch/>
          </p:blipFill>
          <p:spPr>
            <a:xfrm>
              <a:off x="0" y="941400"/>
              <a:ext cx="4572000" cy="283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14680" y="5159520"/>
            <a:ext cx="7429320" cy="16984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0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6" name=""/>
          <p:cNvSpPr/>
          <p:nvPr/>
        </p:nvSpPr>
        <p:spPr>
          <a:xfrm>
            <a:off x="1879560" y="893880"/>
            <a:ext cx="70930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ОРПОРАТИВНАЯ ИНФОРМ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ПРАВЛЕНИЯ ПРЕДПРИЯТИЕМ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апитал C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6040" y="5253120"/>
            <a:ext cx="700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СВИДЕТЕЛЬСТВО РОСПАТ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Б ОФИЦИАЛЬНОЙ РЕГИСТРАЦИИ ПРОГРАММЫ ДЛЯ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№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20026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3457440" y="1968480"/>
            <a:ext cx="2232000" cy="719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ерсон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784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инанс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744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лог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57840" y="377820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н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619360" y="2895480"/>
          <a:ext cx="3962520" cy="283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9360" y="2895480"/>
                    <a:ext cx="396252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657840" y="196848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а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рабо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5080" y="196848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териа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то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508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ухгалте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5080" y="377820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наб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сбы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7520" y="860400"/>
            <a:ext cx="8621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КОРПОРАТИВНАЯ ИНФОРМАЦИОНН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УПРАВЛЕНИЯ ПРЕДПРИЯТИЕМ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питал C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31" name="" descr=""/>
            <p:cNvPicPr/>
            <p:nvPr/>
          </p:nvPicPr>
          <p:blipFill>
            <a:blip r:embed="rId4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3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В.В. Шишляев</cp:lastModifiedBy>
  <cp:lastPrinted>2003-12-06T18:26:25Z</cp:lastPrinted>
  <dcterms:modified xsi:type="dcterms:W3CDTF">2003-12-08T17:33:45Z</dcterms:modified>
  <cp:revision>85</cp:revision>
  <dc:subject/>
  <dc:title>Слайд 1</dc:title>
</cp:coreProperties>
</file>