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7820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87560" y="0"/>
            <a:ext cx="2801880" cy="45576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51720"/>
            <a:ext cx="287820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87560" y="9351720"/>
            <a:ext cx="2801880" cy="4554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8F604B38-8B8C-441C-A06C-34B01471F38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Добрый день, дамы и госп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еня зовут Виктор Шишляев, я - генеральный директор компании «Геликон Про». Позвольте мне открыть семинар «Практический опыт автоматизации предприят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 разосланных Вам приглашениях наш семинар отнюдь не случайно назван «традиционным». Тому я вижу две причи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первых, семинар проводится уже третий год подряд и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собирает весьма представительную и квалифицированную аудитор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о-вторых, этот семинар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традиционн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посвящается обсуждению реального опыта и практических вопросов, связанных с использованием информационных технолог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ы рады видеть Вас на сегодняшней встрече и искренне надеемся, что участников семинара прежде всего привлекает возможность откровенного обсуждения и обмена мн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этом технологические характеристик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обеспечивают возможность совместного ввода и обработки информации с десятков рабочих мест, структурно и территориально распределенных по предприят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качестве подтверждения своих слов я хотел бы представить характеристики эксплуатации нашей системы на примере крупного производственного предприятия - акционерного общества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Хочу обратить Ваше внимание на два показателя, приведенных на этом слайд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реднем свыше 150 одновременно работающих пользова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истеме ежемесячно регистрируется более 180 000 транзакций, порождаемых оформлением различных докумен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ким образом, этот продукт ориентирован на предприятия крупного и среднего масштаба, руководители которых видят в информационных технологиях мощный инструмент для повышения эффективности своего бизн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ршая свое выступление, я хотел бы представить Вам программу сегодняшнего семинара. Вас ждут 4 интересных доклада, которые достаточно полно отражают текущие достижения и перспективы развития нашей компании и наших проду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Федосеев расскажет об опыте быстрого внедрения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на основе типовых решений и поделится планами развития этой методологии, ориентированной на сокращение временных и финансовых издержек Заказч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ергей Герасимов представит результаты проекта по автоматизации финансового планирования в акционерном обществе «Пермэнерго» и познакомит Вас с возможностями системы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 в области управления финанс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докладе Ольги Канаевой Вам будет представлено обобщение гигантского опыта по автоматизации процессов управления персоналом, полученного нашей компанией в ходе реализации 4-х летнего проекта для ЗАО «ЛУКОЙЛ-Перм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, наконец, Андрей Клюев расскажет о том, как много делают наши специалисты для улучшения качества и производительности программного обеспечения и сформулирует ближайшие перспективы е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9720" y="4637160"/>
            <a:ext cx="48052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Этот семинар является знаковым событием: в марте следующего года нашей компании исполняется 10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Соответственно, сегодня мы хотим представить наиболее значимые результаты 10-летней деятельности «Геликон Про» в сфере информационных технологий и познакомить Вас с планами на ближайшую перспекти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ш путь за прошедшее десятилетие нельзя назвать простым и однозначным. На этом пути мы не единожды терпели неудачи, неоднократно оказывались перед соблазном ухода в другие сегменты рынка в угоду сиюминутной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и всём этом сегодня, как и 10 лет назад, 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Таким образом, вот уже 10 лет мы постоянны в своей стратегии, ориентированной на предоставление заказчикам качественных продуктов, сервиса и технологий для сбора, обработки и анализ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ем причина этого постоянств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а в том, что наша компания удачно аккумулирует три важных компонента любой производственной деятель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первых, знания и опыт, полученные при реализации про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-вторых, персонал, обеспечивающий накопление и распространение этих зн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в третьих, собственные инновационные технологии и продук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егодняшний день «Геликон Про» является лидером регионального рынка корпоративных решений. Наша клиентская база охватывает более 2-х десятков крупнейших предприятий Пермского кр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нашей компании весьма достойно выглядят и на общероссийском уровне. Так, в сентябре этого года на страницах авторитетного интернет-издания «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new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ыл опубликован рейтинг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0 наиболее заметных ИТ-проектов в промышленности России за последние пять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ители включили в этот рейтинг сразу 3 проекта, реализованных специалистами компании «Геликон Про» для предприятий «Пермэнерго», «ЛУКОЙЛ-Пермь» и «Камкабел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96-м году,  готовясь к участию в одной из выставок, мы лихорадочно пытались найти для оформления стенда фотографии индустриальных пейзажей, которые должны были демонстрировать широту отраслевой специфики наш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этот раз, при подготовке выступления мне было значительно проще подобрать иллюстративный материал. Для этого достаточно было посетить сайты наших заказчиков - предприятий топливно-энергетического комплекса, обрабатывающей промышленности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оительства, транспорта и индустрии гостеприимств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дним из основных элементов стратегии компании является постоянное развитие собственного инструментария и методологии раб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и наших продуктов центральное место занимает корпоративная система управления предприятием «Капитал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00000" y="760320"/>
            <a:ext cx="4865760" cy="364968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09360" y="4637160"/>
            <a:ext cx="4846680" cy="4410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«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 CSE» предназначена для комплексной автоматизации процессов управления предприятием, включая бухгалтерский и налоговый учет, управление персоналом и материальными потоками, производственное и финансов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ональные возможности этого продукта, история которого ведет отсчет от программы автоматизации бухгалтерского учета, в настоящее время обеспечивают поддержку основных элементов систем производственного планирования класс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P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C60-A8EB-4A4B-9E16-37018303F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35A8-4E79-4664-A40A-33A7265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13F11-E5E5-411F-9258-459F4905B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A140-882F-4A22-8442-4F081D45B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F72-A03E-40CF-8C62-3E6B600B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E73A-5C9B-42D3-B175-ACB5EA7B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885D-308F-43BF-B9E8-AD6958AA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3938-A12D-4CEB-AA14-5D5863849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370F-3CF8-490F-9A8E-3EA0E9D2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927B-E902-430C-B45F-DBC73103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8D2-B3E3-458D-B9AC-98610C86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1085-9253-4620-9D81-6FD0BC5B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B1A4-2CFC-4912-A2AE-244815F830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00360" y="1495440"/>
            <a:ext cx="5543640" cy="53625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rot="5400000">
            <a:off x="5429880" y="-2823480"/>
            <a:ext cx="695520" cy="6732720"/>
          </a:xfrm>
          <a:prstGeom prst="rect">
            <a:avLst/>
          </a:prstGeom>
          <a:gradFill rotWithShape="0">
            <a:gsLst>
              <a:gs pos="0">
                <a:srgbClr val="6181c1"/>
              </a:gs>
              <a:gs pos="100000">
                <a:srgbClr val="90a7d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215640" y="1158480"/>
            <a:ext cx="2190600" cy="569916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6181c1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6280" y="6114960"/>
            <a:ext cx="3124080" cy="36216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</a:t>
            </a:r>
            <a:r>
              <a:rPr b="1" lang="ru-RU" sz="1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w w . g e l i c o n . b i 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0200" y="2293920"/>
            <a:ext cx="5238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ПРАКТИЧЕСКИЙ ОПЫТ АВТОМАТИЗАЦИИ ПРЕДПРИЯТИ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676680" y="5052960"/>
            <a:ext cx="54673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Виктор Шишля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99"/>
                </a:solidFill>
                <a:latin typeface="Tahoma"/>
              </a:rPr>
              <a:t>Генеральный директор ЗАО "Геликон Про"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80960" y="523800"/>
            <a:ext cx="3129120" cy="97812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3666960" y="576360"/>
            <a:ext cx="4000680" cy="871560"/>
            <a:chOff x="3666960" y="576360"/>
            <a:chExt cx="4000680" cy="871560"/>
          </a:xfrm>
        </p:grpSpPr>
        <p:sp>
          <p:nvSpPr>
            <p:cNvPr id="57" name=""/>
            <p:cNvSpPr/>
            <p:nvPr/>
          </p:nvSpPr>
          <p:spPr>
            <a:xfrm>
              <a:off x="3666960" y="576360"/>
              <a:ext cx="400068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  </a:t>
              </a:r>
              <a:r>
                <a:rPr b="1" lang="en-US" sz="1700" spc="-1" strike="noStrike">
                  <a:solidFill>
                    <a:srgbClr val="003399"/>
                  </a:solidFill>
                  <a:latin typeface="Tahoma"/>
                </a:rPr>
                <a:t>      </a:t>
              </a: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Г  Р  А  М  М  Н  О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О  Б  Е  С  П  Е  Ч  Е  Н  И  Е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3399"/>
                  </a:solidFill>
                  <a:latin typeface="Tahoma"/>
                </a:rPr>
                <a:t>В  А  Ш  Е  Г  О     Б  И  З  Н  Е  С  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2"/>
            <a:stretch/>
          </p:blipFill>
          <p:spPr>
            <a:xfrm>
              <a:off x="3788280" y="679320"/>
              <a:ext cx="943200" cy="15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"/>
          <p:cNvSpPr/>
          <p:nvPr/>
        </p:nvSpPr>
        <p:spPr>
          <a:xfrm>
            <a:off x="0" y="52848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494000"/>
            <a:ext cx="91440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2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11200" y="2454120"/>
          <a:ext cx="3089160" cy="221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1200" y="2454120"/>
                    <a:ext cx="308916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603600" y="0"/>
            <a:ext cx="0" cy="68580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4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5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52" name=""/>
          <p:cNvSpPr/>
          <p:nvPr/>
        </p:nvSpPr>
        <p:spPr>
          <a:xfrm>
            <a:off x="1879560" y="998640"/>
            <a:ext cx="7093080" cy="13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СНОВНЫЕ ХАРАКТЕРИС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ЭКСПЛУАТАЦИИ КИС КАПИТАЛ C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Tahoma"/>
              </a:rPr>
              <a:t>В ОАО "КАМКАБЕЛЬ"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886040" y="2452680"/>
            <a:ext cx="7257960" cy="35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щ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системы……………….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дновременно работающ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ользователей …………………………....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Среднее 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транзакций за месяц......................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180 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В эксплуатации……..………...………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с 1998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Объем базы данных…………....………….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9 G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3"/>
          <a:srcRect l="35634" t="0" r="15740" b="0"/>
          <a:stretch/>
        </p:blipFill>
        <p:spPr>
          <a:xfrm>
            <a:off x="135000" y="1055520"/>
            <a:ext cx="1571400" cy="4876920"/>
          </a:xfrm>
          <a:prstGeom prst="rect">
            <a:avLst/>
          </a:prstGeom>
          <a:ln w="12600">
            <a:solidFill>
              <a:srgbClr val="00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714680" y="1441440"/>
            <a:ext cx="7429320" cy="5419800"/>
          </a:xfrm>
          <a:prstGeom prst="rect">
            <a:avLst/>
          </a:pr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883160" y="1389960"/>
            <a:ext cx="725364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Быстрое внедрение системы Капитал C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опыт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внедрению ИС ЗАО "Геликон Про" Федосеев С.А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финансов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ланирования в ОАО "Пермэнерг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Герасимов С.Ю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Автоматизация управления персона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в ЗАО "ЛУКОЙЛ-Пермь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Ведущий специалист ЗАО "Геликон Про" Канаева О.В.</a:t>
            </a:r>
            <a:r>
              <a:rPr b="1" lang="en-US" sz="17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1700"/>
            </a:br>
            <a:br>
              <a:rPr sz="2400"/>
            </a:b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ерспективы развития программ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продуктов компании "Геликон Про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99"/>
                </a:solidFill>
                <a:latin typeface="Tahoma"/>
              </a:rPr>
              <a:t>Директор по разработке ПО ЗАО "Геликон Про" Клюев А.В.</a:t>
            </a:r>
            <a:r>
              <a:rPr b="0" lang="en-US" sz="1700" spc="-1" strike="noStrike">
                <a:solidFill>
                  <a:srgbClr val="003399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917720" y="804960"/>
            <a:ext cx="70930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ПРОГРАММА СЕМИН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6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6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7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7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14680" y="638280"/>
            <a:ext cx="7429320" cy="2816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73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80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1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2" name=""/>
          <p:cNvSpPr/>
          <p:nvPr/>
        </p:nvSpPr>
        <p:spPr>
          <a:xfrm>
            <a:off x="1879560" y="1096920"/>
            <a:ext cx="70930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КОМПАНИЯ</a:t>
            </a:r>
            <a:br>
              <a:rPr sz="6000"/>
            </a:br>
            <a:r>
              <a:rPr b="1" lang="en-US" sz="7200" spc="-1" strike="noStrike">
                <a:solidFill>
                  <a:srgbClr val="ffffff"/>
                </a:solidFill>
                <a:latin typeface="Tahoma"/>
              </a:rPr>
              <a:t>Геликон Пр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085760" y="3983040"/>
            <a:ext cx="78930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80000"/>
              <a:buFont typeface="Wingdings" charset="2"/>
              <a:buChar char="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60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1" lang="en-US" sz="5200" spc="-1" strike="noStrike">
                <a:solidFill>
                  <a:srgbClr val="ffffff"/>
                </a:solidFill>
                <a:latin typeface="Tahoma"/>
              </a:rPr>
              <a:t> лет в сфере ИТ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879560" y="893880"/>
            <a:ext cx="709308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МИССИЯ КОМПАН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886040" y="1703520"/>
            <a:ext cx="6956280" cy="422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ff"/>
                </a:solidFill>
                <a:latin typeface="Tahoma"/>
              </a:rPr>
              <a:t>Свою миссию мы видим в удовлетворении потребностей бизнеса в информации, необходимой для принятия своевременных и правильных управленческих реше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Наши продукты и знания позволяют предоставить заказчикам качественных продуктов, сервиса и технологий для сбора, обработки и анализа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01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07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11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12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1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2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2013120" y="914400"/>
            <a:ext cx="5091120" cy="53211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25440" y="1506600"/>
            <a:ext cx="40273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СЛАГАЕМЫЕ СТАБИ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66120" y="3162240"/>
            <a:ext cx="30304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Опыт про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70200" y="5295960"/>
            <a:ext cx="1981440" cy="520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Персон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135040" y="3137040"/>
            <a:ext cx="238608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Техн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14680" y="638280"/>
            <a:ext cx="7429320" cy="33494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4560" y="3990960"/>
            <a:ext cx="5689440" cy="286704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6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14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5" name=""/>
          <p:cNvSpPr/>
          <p:nvPr/>
        </p:nvSpPr>
        <p:spPr>
          <a:xfrm>
            <a:off x="2013120" y="750960"/>
            <a:ext cx="70927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90840" y="1433520"/>
            <a:ext cx="531792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ЛУКОЙЛ-Пермь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АФ "Уралгазсерви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ТД "Папирус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Искра-Энергетик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Мостоотряд №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30720" y="4186080"/>
            <a:ext cx="472284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энерго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Камкабел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ЗАО "Кираса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ермтурист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ffffff"/>
              </a:buClr>
              <a:buSzPct val="70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Tahoma"/>
              </a:rPr>
              <a:t>ОАО "Порт "Пермь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7360" y="6438960"/>
            <a:ext cx="1597320" cy="27612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23840" y="6315120"/>
            <a:ext cx="1590840" cy="542880"/>
            <a:chOff x="123840" y="6315120"/>
            <a:chExt cx="1590840" cy="542880"/>
          </a:xfrm>
        </p:grpSpPr>
        <p:sp>
          <p:nvSpPr>
            <p:cNvPr id="152" name=""/>
            <p:cNvSpPr/>
            <p:nvPr/>
          </p:nvSpPr>
          <p:spPr>
            <a:xfrm>
              <a:off x="12384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4680" y="6315120"/>
              <a:ext cx="0" cy="54288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56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57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"/>
            <p:cNvGrpSpPr/>
            <p:nvPr/>
          </p:nvGrpSpPr>
          <p:grpSpPr>
            <a:xfrm>
              <a:off x="115920" y="154080"/>
              <a:ext cx="7380360" cy="501480"/>
              <a:chOff x="115920" y="154080"/>
              <a:chExt cx="7380360" cy="501480"/>
            </a:xfrm>
          </p:grpSpPr>
          <p:pic>
            <p:nvPicPr>
              <p:cNvPr id="16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5920" y="154080"/>
                <a:ext cx="1604880" cy="5014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64" name=""/>
              <p:cNvGrpSpPr/>
              <p:nvPr/>
            </p:nvGrpSpPr>
            <p:grpSpPr>
              <a:xfrm>
                <a:off x="1887480" y="204840"/>
                <a:ext cx="5608800" cy="246240"/>
                <a:chOff x="1887480" y="204840"/>
                <a:chExt cx="5608800" cy="246240"/>
              </a:xfrm>
            </p:grpSpPr>
            <p:sp>
              <p:nvSpPr>
                <p:cNvPr id="165" name=""/>
                <p:cNvSpPr/>
                <p:nvPr/>
              </p:nvSpPr>
              <p:spPr>
                <a:xfrm>
                  <a:off x="2381400" y="204840"/>
                  <a:ext cx="5114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8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Г Р А М М Н О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О Б Е С П Е Ч Е Н И Е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 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В А Ш Е Г О </a:t>
                  </a:r>
                  <a:r>
                    <a:rPr b="1" lang="en-US" sz="1000" spc="-1" strike="noStrike">
                      <a:solidFill>
                        <a:srgbClr val="003399"/>
                      </a:solidFill>
                      <a:latin typeface="Tahoma"/>
                    </a:rPr>
                    <a:t> </a:t>
                  </a:r>
                  <a:r>
                    <a:rPr b="1" lang="ru-RU" sz="1000" spc="-1" strike="noStrike">
                      <a:solidFill>
                        <a:srgbClr val="003399"/>
                      </a:solidFill>
                      <a:latin typeface="Tahoma"/>
                    </a:rPr>
                    <a:t> Б И З Н Е С А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6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887480" y="282600"/>
                  <a:ext cx="561960" cy="936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graphicFrame>
        <p:nvGraphicFramePr>
          <p:cNvPr id="167" name=""/>
          <p:cNvGraphicFramePr/>
          <p:nvPr/>
        </p:nvGraphicFramePr>
        <p:xfrm>
          <a:off x="166680" y="3124080"/>
          <a:ext cx="8791560" cy="3030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6680" y="3124080"/>
                    <a:ext cx="879156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168120" y="1135080"/>
            <a:ext cx="879336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Рейтинг "ИТ-проекты в промышленности России" </a:t>
            </a:r>
            <a:br>
              <a:rPr sz="2600"/>
            </a:b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опубликован на сайте Cnews.ru (сентябрь 2003 г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5"/>
          <a:stretch/>
        </p:blipFill>
        <p:spPr>
          <a:xfrm>
            <a:off x="4067280" y="2349360"/>
            <a:ext cx="1687320" cy="45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graphicFrame>
        <p:nvGraphicFramePr>
          <p:cNvPr id="171" name=""/>
          <p:cNvGraphicFramePr/>
          <p:nvPr/>
        </p:nvGraphicFramePr>
        <p:xfrm>
          <a:off x="5896080" y="2349360"/>
          <a:ext cx="16873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896080" y="2349360"/>
                    <a:ext cx="1687320" cy="45720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80640" y="227340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Совместный проек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24200" y="179280"/>
            <a:ext cx="7019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НАШИ ЗАКАЗЧ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177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178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" name=""/>
          <p:cNvGrpSpPr/>
          <p:nvPr/>
        </p:nvGrpSpPr>
        <p:grpSpPr>
          <a:xfrm>
            <a:off x="0" y="939960"/>
            <a:ext cx="9144000" cy="5626080"/>
            <a:chOff x="0" y="939960"/>
            <a:chExt cx="9144000" cy="5626080"/>
          </a:xfrm>
        </p:grpSpPr>
        <p:pic>
          <p:nvPicPr>
            <p:cNvPr id="185" name="" descr=""/>
            <p:cNvPicPr/>
            <p:nvPr/>
          </p:nvPicPr>
          <p:blipFill>
            <a:blip r:embed="rId2"/>
            <a:stretch/>
          </p:blipFill>
          <p:spPr>
            <a:xfrm>
              <a:off x="0" y="3594240"/>
              <a:ext cx="4572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3"/>
            <a:srcRect l="0" t="16894" r="0" b="9609"/>
            <a:stretch/>
          </p:blipFill>
          <p:spPr>
            <a:xfrm>
              <a:off x="4572000" y="3714840"/>
              <a:ext cx="4572000" cy="285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4"/>
            <a:srcRect l="0" t="0" r="0" b="19754"/>
            <a:stretch/>
          </p:blipFill>
          <p:spPr>
            <a:xfrm>
              <a:off x="4572000" y="939960"/>
              <a:ext cx="4572000" cy="284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5"/>
            <a:srcRect l="0" t="11584" r="0" b="8226"/>
            <a:stretch/>
          </p:blipFill>
          <p:spPr>
            <a:xfrm>
              <a:off x="0" y="941400"/>
              <a:ext cx="4572000" cy="2838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14680" y="638280"/>
            <a:ext cx="7429320" cy="621972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073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10800000">
            <a:off x="0" y="396720"/>
            <a:ext cx="1104840" cy="64612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14680" y="5159520"/>
            <a:ext cx="7429320" cy="169848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" action="ppaction://hlinkshowjump?jump=firstslide"/>
          </p:cNvPr>
          <p:cNvSpPr/>
          <p:nvPr/>
        </p:nvSpPr>
        <p:spPr>
          <a:xfrm rot="10800000">
            <a:off x="8550000" y="6438960"/>
            <a:ext cx="593640" cy="29520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200"/>
              <a:gd name="textAreaBottom" fmla="*/ 295200 h 295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36440" y="6429240"/>
            <a:ext cx="1578240" cy="276480"/>
          </a:xfrm>
          <a:prstGeom prst="rect">
            <a:avLst/>
          </a:prstGeom>
          <a:solidFill>
            <a:srgbClr val="90a7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3399"/>
                </a:solidFill>
                <a:latin typeface="Tahoma"/>
              </a:rPr>
              <a:t>w w w . g e l i c o n . b i z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97" name=""/>
            <p:cNvSpPr/>
            <p:nvPr/>
          </p:nvSpPr>
          <p:spPr>
            <a:xfrm>
              <a:off x="12384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0" y="15876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0" y="647640"/>
              <a:ext cx="9144000" cy="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714680" y="0"/>
              <a:ext cx="0" cy="6858000"/>
            </a:xfrm>
            <a:prstGeom prst="line">
              <a:avLst/>
            </a:prstGeom>
            <a:ln w="1584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02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03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04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5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06" name=""/>
          <p:cNvSpPr/>
          <p:nvPr/>
        </p:nvSpPr>
        <p:spPr>
          <a:xfrm>
            <a:off x="1879560" y="893880"/>
            <a:ext cx="7093080" cy="40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УПРАВЛЕНИЯ ПРЕДПРИЯТИЕМ</a:t>
            </a:r>
            <a:br>
              <a:rPr sz="4400"/>
            </a:b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86040" y="5253120"/>
            <a:ext cx="70070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ahoma"/>
              </a:rPr>
              <a:t>СВИДЕТЕЛЬСТВО РОСПАТЕН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ahoma"/>
              </a:rPr>
              <a:t>ОБ ОФИЦИАЛЬНОЙ РЕГИСТРАЦИИ ПРОГРАММЫ ДЛЯ ЭВ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№</a:t>
            </a:r>
            <a:r>
              <a:rPr b="1" lang="en-US" sz="2400" spc="-1" strike="noStrike">
                <a:solidFill>
                  <a:srgbClr val="003399"/>
                </a:solidFill>
                <a:latin typeface="Tahoma"/>
              </a:rPr>
              <a:t>20026111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90a7d4"/>
              </a:gs>
              <a:gs pos="100000">
                <a:srgbClr val="5073b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 rot="10800000">
            <a:off x="8550000" y="6447960"/>
            <a:ext cx="593640" cy="295560"/>
          </a:xfrm>
          <a:custGeom>
            <a:avLst/>
            <a:gdLst>
              <a:gd name="textAreaLeft" fmla="*/ 0 w 593640"/>
              <a:gd name="textAreaRight" fmla="*/ 594000 w 593640"/>
              <a:gd name="textAreaTop" fmla="*/ 0 h 295560"/>
              <a:gd name="textAreaBottom" fmla="*/ 295920 h 295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81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5400000">
            <a:off x="4882320" y="-3775680"/>
            <a:ext cx="485640" cy="8037360"/>
          </a:xfrm>
          <a:prstGeom prst="rect">
            <a:avLst/>
          </a:prstGeom>
          <a:gradFill rotWithShape="0">
            <a:gsLst>
              <a:gs pos="0">
                <a:srgbClr val="5073ba"/>
              </a:gs>
              <a:gs pos="100000">
                <a:srgbClr val="90a7d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0" y="0"/>
            <a:ext cx="9144000" cy="876240"/>
            <a:chOff x="0" y="0"/>
            <a:chExt cx="9144000" cy="876240"/>
          </a:xfrm>
        </p:grpSpPr>
        <p:grpSp>
          <p:nvGrpSpPr>
            <p:cNvPr id="212" name=""/>
            <p:cNvGrpSpPr/>
            <p:nvPr/>
          </p:nvGrpSpPr>
          <p:grpSpPr>
            <a:xfrm>
              <a:off x="0" y="0"/>
              <a:ext cx="9144000" cy="876240"/>
              <a:chOff x="0" y="0"/>
              <a:chExt cx="9144000" cy="876240"/>
            </a:xfrm>
          </p:grpSpPr>
          <p:sp>
            <p:nvSpPr>
              <p:cNvPr id="213" name=""/>
              <p:cNvSpPr/>
              <p:nvPr/>
            </p:nvSpPr>
            <p:spPr>
              <a:xfrm>
                <a:off x="0" y="15876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647640"/>
                <a:ext cx="9144000" cy="0"/>
              </a:xfrm>
              <a:prstGeom prst="line">
                <a:avLst/>
              </a:prstGeom>
              <a:ln w="1584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123840" y="0"/>
                <a:ext cx="1590840" cy="876240"/>
                <a:chOff x="123840" y="0"/>
                <a:chExt cx="1590840" cy="8762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12384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714680" y="0"/>
                  <a:ext cx="0" cy="876240"/>
                </a:xfrm>
                <a:prstGeom prst="line">
                  <a:avLst/>
                </a:prstGeom>
                <a:ln w="1584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218" name="" descr=""/>
            <p:cNvPicPr/>
            <p:nvPr/>
          </p:nvPicPr>
          <p:blipFill>
            <a:blip r:embed="rId1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"/>
          <p:cNvSpPr/>
          <p:nvPr/>
        </p:nvSpPr>
        <p:spPr>
          <a:xfrm>
            <a:off x="3457440" y="1968480"/>
            <a:ext cx="2232000" cy="7192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ерсонал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6578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инансов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н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45744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Налогов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основ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фонд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2619360" y="2895480"/>
          <a:ext cx="3962520" cy="283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19360" y="2895480"/>
                    <a:ext cx="3962520" cy="28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5" name=""/>
          <p:cNvSpPr/>
          <p:nvPr/>
        </p:nvSpPr>
        <p:spPr>
          <a:xfrm>
            <a:off x="665784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Рас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заработ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ла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5080" y="196848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материаль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поток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5080" y="5605560"/>
            <a:ext cx="2232000" cy="71892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Бухгалтер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35080" y="3778200"/>
            <a:ext cx="2232000" cy="107964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17181" dir="2961631" blurRad="0" rotWithShape="0">
              <a:srgbClr val="77777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Упра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снабж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998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и сбы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7520" y="860400"/>
            <a:ext cx="862164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КОРПОРАТИВНАЯ ИНФОРМАЦИОННАЯ СИСТЕ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УПРАВЛЕНИЯ ПРЕДПРИЯТИЕМ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Капитал C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115920" y="154080"/>
            <a:ext cx="7380360" cy="501480"/>
            <a:chOff x="115920" y="154080"/>
            <a:chExt cx="7380360" cy="501480"/>
          </a:xfrm>
        </p:grpSpPr>
        <p:pic>
          <p:nvPicPr>
            <p:cNvPr id="231" name="" descr=""/>
            <p:cNvPicPr/>
            <p:nvPr/>
          </p:nvPicPr>
          <p:blipFill>
            <a:blip r:embed="rId4"/>
            <a:stretch/>
          </p:blipFill>
          <p:spPr>
            <a:xfrm>
              <a:off x="115920" y="154080"/>
              <a:ext cx="16048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2" name=""/>
            <p:cNvGrpSpPr/>
            <p:nvPr/>
          </p:nvGrpSpPr>
          <p:grpSpPr>
            <a:xfrm>
              <a:off x="1887480" y="204840"/>
              <a:ext cx="5608800" cy="246240"/>
              <a:chOff x="1887480" y="204840"/>
              <a:chExt cx="5608800" cy="246240"/>
            </a:xfrm>
          </p:grpSpPr>
          <p:sp>
            <p:nvSpPr>
              <p:cNvPr id="233" name=""/>
              <p:cNvSpPr/>
              <p:nvPr/>
            </p:nvSpPr>
            <p:spPr>
              <a:xfrm>
                <a:off x="2381400" y="204840"/>
                <a:ext cx="5114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8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Г Р А М М Н О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О Б Е С П Е Ч Е Н И Е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 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В А Ш Е Г О </a:t>
                </a:r>
                <a:r>
                  <a:rPr b="1" lang="en-US" sz="1000" spc="-1" strike="noStrike">
                    <a:solidFill>
                      <a:srgbClr val="003399"/>
                    </a:solidFill>
                    <a:latin typeface="Tahoma"/>
                  </a:rPr>
                  <a:t> </a:t>
                </a:r>
                <a:r>
                  <a:rPr b="1" lang="ru-RU" sz="1000" spc="-1" strike="noStrike">
                    <a:solidFill>
                      <a:srgbClr val="003399"/>
                    </a:solidFill>
                    <a:latin typeface="Tahoma"/>
                  </a:rPr>
                  <a:t> Б И З Н Е С А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887480" y="282600"/>
                <a:ext cx="561960" cy="93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1:03:08Z</dcterms:created>
  <dc:creator>Alexander</dc:creator>
  <dc:description/>
  <dc:language>en-US</dc:language>
  <cp:lastModifiedBy>В.В. Шишляев</cp:lastModifiedBy>
  <cp:lastPrinted>2003-12-06T18:26:25Z</cp:lastPrinted>
  <dcterms:modified xsi:type="dcterms:W3CDTF">2003-12-08T17:33:45Z</dcterms:modified>
  <cp:revision>85</cp:revision>
  <dc:subject/>
  <dc:title>Слайд 1</dc:title>
</cp:coreProperties>
</file>