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87560" y="0"/>
            <a:ext cx="28018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1720"/>
            <a:ext cx="28782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87560" y="9351720"/>
            <a:ext cx="280188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A2B5D1-3315-4EB2-8C90-B965559089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брый день, дамы и госп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я зовут Виктор Шишляев, я - генеральный директор компании «Геликон Про». Позвольте мне открыть семинар «Практический опыт автоматизации предприя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зосланных Вам приглашениях наш семинар отнюдь не случайно назван «традиционным». Тому я вижу две прич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первых, семинар проводится уже третий год подряд 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бирает весьма представительную и квалифицированную аудитор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вторых, этот семина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освящается обсуждению реального опыта и практических вопросов, связанных с использованием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ы рады видеть Вас на сегодняшней встрече и искренне надеемся, что участников семинара прежде всего привлекает возможность откровенного обсуждения и обмена м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технологические характеристик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обеспечивают возможность совместного ввода и обработки информации с десятков рабочих мест, структурно и территориально распределенных по предприя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одтверждения своих слов я хотел бы представить характеристики эксплуатации нашей системы на примере крупного производственного предприятия - акционерного общества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чу обратить Ваше внимание на два показателя, приведенных на этом слай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реднем свыше 150 одновременно работающих пользов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истеме ежемесячно регистрируется более 180 000 транзакций, порождаемых оформлением различ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этот продукт ориентирован на предприятия крупного и среднего масштаба, руководители которых видят в информационных технологиях мощный инструмент для повышения эффективности своего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ршая свое выступление, я хотел бы представить Вам программу сегодняшнего семинара. Вас ждут 4 интересных доклада, которые достаточно полно отражают текущие достижения и перспективы развития нашей компании и наши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Федосеев расскажет об опыте быстрого внедрения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на основе типовых решений и поделится планами развития этой методологии, ориентированной на сокращение временных и финансовых издержек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Герасимов представит результаты проекта по автоматизации финансового планирования в акционерном обществе «Пермэнерго» и познакомит Вас с возможностям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в области управления финан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окладе Ольги Канаевой Вам будет представлено обобщение гигантского опыта по автоматизации процессов управления персоналом, полученного нашей компанией в ходе реализации 4-х летнего проекта для ЗАО «ЛУКОЙЛ-Перм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Андрей Клюев расскажет о том, как много делают наши специалисты для улучшения качества и производительности программного обеспечения и сформулирует ближайшие перспективы 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9720" y="4637160"/>
            <a:ext cx="48052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семинар является знаковым событием: в марте следующего года нашей компании исполняется 10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енно, сегодня мы хотим представить наиболее значимые результаты 10-летней деятельности «Геликон Про» в сфере информационных технологий и познакомить Вас с планами на ближайшую перспекти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ш путь за прошедшее десятилетие нельзя назвать простым и однозначным. На этом пути мы не единожды терпели неудачи, неоднократно оказывались перед соблазном ухода в другие сегменты рынка в угоду сиюминутной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сём этом сегодня, как и 10 лет назад, 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образом, вот уже 10 лет мы постоянны в своей стратегии, ориентированной на предоставление заказчикам качественных продуктов, сервиса и технологий для сбора, обработки и анализ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причина этого постоя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а в том, что наша компания удачно аккумулирует три важных компонента любой производственн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знания и опыт, полученные при реализации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ерсонал, обеспечивающий накопление и распространение эт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ретьих, собственные инновационные технологии и проду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егодняшний день «Геликон Про» является лидером регионального рынка корпоративных решений. Наша клиентская база охватывает более 2-х десятков крупнейших предприятий Перм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нашей компании весьма достойно выглядят и на общероссийском уровне. Так, в сентябре этого года на страницах авторитетного интернет-издания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публикован рейтин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 наиболее заметных ИТ-проектов в промышленности России за последние пять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ители включили в этот рейтинг сразу 3 проекта, реализованных специалистами компании «Геликон Про» для предприятий «Пермэнерго», «ЛУКОЙЛ-Пермь» и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6-м году,  готовясь к участию в одной из выставок, мы лихорадочно пытались найти для оформления стенда фотографии индустриальных пейзажей, которые должны были демонстрировать широту отраслевой специфики наш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раз, при подготовке выступления мне было значительно проще подобрать иллюстративный материал. Для этого достаточно было посетить сайты наших заказчиков - предприятий топливно-энергетического комплекса, обрабатывающей промышлен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, транспорта и индустрии гостеприимст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основных элементов стратегии компании является постоянное развитие собственного инструментария и методологи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наших продуктов центральное место занимает корпоративная система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 CSE» предназначена для комплексной автоматизации процессов управления предприятием, включая бухгалтерский и налоговый учет, управление персоналом и материальными потоками, производственное и финансов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этого продукта, история которого ведет отсчет от программы автоматизации бухгалтерского учета, в настоящее время обеспечивают поддержку основных элементов систем производственного планирования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618-DC07-4111-8EC2-9452BE62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0A1-FBBA-4769-BD16-CDC622AA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572-84A6-4322-9FFD-B8ABE896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FEA-FE52-4548-8396-2FDFB61E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D81-6E21-4597-8FB1-BC573E6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ACA-3990-40BF-9D07-2BDBE86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ADD-20D6-4238-972E-1A50CA2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11C-4EB1-4809-A405-55DC5F02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A65-B716-42CA-AF7F-6F1B5832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DE5-ED60-43F0-BEAE-9B6BD9E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06D-447C-44AF-A459-731672E2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FFA-9C72-4129-BA1B-0407243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F35C-10B9-4A77-84A8-9E1ACA31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158480"/>
            <a:ext cx="2190600" cy="56991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6181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93920"/>
            <a:ext cx="523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АКТИЧЕСКИЙ ОПЫТ АВТОМАТИЗАЦИИ ПРЕДПРИ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467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Виктор Шишл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ahoma"/>
              </a:rPr>
              <a:t>Генеральный директор ЗАО "Геликон Про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788280" y="679320"/>
              <a:ext cx="94320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1200" y="2454120"/>
          <a:ext cx="308916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454120"/>
                    <a:ext cx="3089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"/>
          <p:cNvSpPr/>
          <p:nvPr/>
        </p:nvSpPr>
        <p:spPr>
          <a:xfrm>
            <a:off x="1879560" y="998640"/>
            <a:ext cx="70930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КСПЛУАТАЦИИ КИС КАПИТАЛ 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 ОАО "КАМКАБЕЛЬ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6040" y="2452680"/>
            <a:ext cx="725796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системы……………….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…………………………....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редн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транзакций за месяц....................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эксплуатации……..………...…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ъем базы данных…………....………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rcRect l="35634" t="0" r="15740" b="0"/>
          <a:stretch/>
        </p:blipFill>
        <p:spPr>
          <a:xfrm>
            <a:off x="135000" y="1055520"/>
            <a:ext cx="1571400" cy="4876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14680" y="1441440"/>
            <a:ext cx="7429320" cy="54198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3160" y="1389960"/>
            <a:ext cx="7253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Быстрое внедрение системы Капитал C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пыт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внедрению ИС ЗАО "Геликон Про" Федосеев С.А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финанс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ланирования в ОАО "Пермэнерг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Герасимов С.Ю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в ЗАО "ЛУКОЙЛ-Перм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Канаева О.В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ерспективы развития програм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родуктов компании "Геликон Пр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разработке ПО ЗАО "Геликон Про" Клюев А.В.</a:t>
            </a:r>
            <a:r>
              <a:rPr b="0" lang="en-US" sz="17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7720" y="80496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ГРАММА СЕМ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4680" y="638280"/>
            <a:ext cx="7429320" cy="2816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879560" y="109692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МПАНИЯ</a:t>
            </a:r>
            <a:br>
              <a:rPr sz="6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Геликон П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5760" y="3983040"/>
            <a:ext cx="789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 лет в сфере И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8938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ИССИЯ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6040" y="1703520"/>
            <a:ext cx="69562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Наши продукты и знания позволяют предоставить заказчикам качественных продуктов, сервиса и технологий для сбора, обработки и анализ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07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13120" y="914400"/>
            <a:ext cx="50911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5440" y="1506600"/>
            <a:ext cx="40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ЛАГАЕМЫЕ СТАБИ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6120" y="3162240"/>
            <a:ext cx="30304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ыт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0200" y="529596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5040" y="3137040"/>
            <a:ext cx="2386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638280"/>
            <a:ext cx="7429320" cy="3349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4560" y="3990960"/>
            <a:ext cx="5689440" cy="28670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"/>
          <p:cNvSpPr/>
          <p:nvPr/>
        </p:nvSpPr>
        <p:spPr>
          <a:xfrm>
            <a:off x="2013120" y="750960"/>
            <a:ext cx="709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0840" y="1433520"/>
            <a:ext cx="53179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ЛУКОЙЛ-Перм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АФ "Уралгазсерви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ТД "Папиру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Искра-Энергетик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0720" y="4186080"/>
            <a:ext cx="47228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энер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Камкаб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Кирас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тури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орт "Перм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5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aphicFrame>
        <p:nvGraphicFramePr>
          <p:cNvPr id="167" name=""/>
          <p:cNvGraphicFramePr/>
          <p:nvPr/>
        </p:nvGraphicFramePr>
        <p:xfrm>
          <a:off x="166680" y="3124080"/>
          <a:ext cx="8791560" cy="303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124080"/>
                    <a:ext cx="87915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8120" y="1135080"/>
            <a:ext cx="879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ейтинг "ИТ-проекты в промышленности России"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убликован на сайте Cnews.ru (сентябрь 2003 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68732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71" name=""/>
          <p:cNvGraphicFramePr/>
          <p:nvPr/>
        </p:nvGraphicFramePr>
        <p:xfrm>
          <a:off x="5896080" y="2349360"/>
          <a:ext cx="1687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96080" y="2349360"/>
                    <a:ext cx="1687320" cy="45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0640" y="227340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мест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0" y="939960"/>
            <a:ext cx="9144000" cy="5626080"/>
            <a:chOff x="0" y="939960"/>
            <a:chExt cx="9144000" cy="56260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3594240"/>
              <a:ext cx="4572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rcRect l="0" t="16894" r="0" b="9609"/>
            <a:stretch/>
          </p:blipFill>
          <p:spPr>
            <a:xfrm>
              <a:off x="4572000" y="3714840"/>
              <a:ext cx="457200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rcRect l="0" t="0" r="0" b="19754"/>
            <a:stretch/>
          </p:blipFill>
          <p:spPr>
            <a:xfrm>
              <a:off x="4572000" y="939960"/>
              <a:ext cx="4572000" cy="28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rcRect l="0" t="11584" r="0" b="8226"/>
            <a:stretch/>
          </p:blipFill>
          <p:spPr>
            <a:xfrm>
              <a:off x="0" y="941400"/>
              <a:ext cx="4572000" cy="283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14680" y="5159520"/>
            <a:ext cx="7429320" cy="16984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" name=""/>
          <p:cNvSpPr/>
          <p:nvPr/>
        </p:nvSpPr>
        <p:spPr>
          <a:xfrm>
            <a:off x="1879560" y="893880"/>
            <a:ext cx="7093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ПРАВЛЕНИЯ ПРЕДПРИЯТИЕМ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6040" y="5253120"/>
            <a:ext cx="700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СВИДЕТЕЛЬСТВО РОСПА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Б ОФИЦИАЛЬНОЙ РЕГИСТРАЦИИ ПРОГРАММЫ ДЛЯ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№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0026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3457440" y="1968480"/>
            <a:ext cx="2232000" cy="719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78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74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лог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19360" y="2895480"/>
          <a:ext cx="396252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895480"/>
                    <a:ext cx="3962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65784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ери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т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08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ухгалт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508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наб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сб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520" y="860400"/>
            <a:ext cx="8621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УПРАВЛЕНИЯ ПРЕДПРИЯТИ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2-06T18:26:25Z</cp:lastPrinted>
  <dcterms:modified xsi:type="dcterms:W3CDTF">2003-12-08T17:33:45Z</dcterms:modified>
  <cp:revision>85</cp:revision>
  <dc:subject/>
  <dc:title>Слайд 1</dc:title>
</cp:coreProperties>
</file>