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D99FB5F-107F-4A2E-90AB-135972A9C6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уковожу отделом внедрения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моего доклада: быстрое внедрение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ыт реализации крупных проектов помог нам увеличить скорость внедр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оектный опыт повышает качество планирования. Невероятно, но факт, самые первые наши проекты мы начинали вообще без всяких планов. Сейчас ситуация совсем иная, процесс планирования в нашей компании начинается с определения стратегических целей проекта и заканчивается построением диаграмм Ганта, в которых четко фиксируются задачи, сроки, исполнители. Качественное планирование позволяет нам существенно увеличить скорость выполнения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имея достаточный опыт мы умеем оптимизировать взаимодействие с заказчиком и организацию проектных работ. Так, в АО «Пермэнерго» после некоторого застоя нам удалось  определить четкий регламент взаимодействия с Заказчиком, а также рационально распределить работы между нашими сотрудниками и специалистами отдела АСУ Заказчика. В результате скорость выполнения проекта увеличилась в 2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ми носителями прикладных знаний в нашей компании являются ведущие специалисты. Об уровне их профессионализма говорят следующие дан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из них работает в своей предметной области 5 и более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прошел 4 и более крупных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ктически все они имеют по два высших образования, одно из которых эконом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тественно, что при участии таких специалистов все вопросы на любых этапах проекта решаются гораздо быстрее. Квалифицированные сотрудник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стро находят общий язык с пользователями и их руководит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мотно ставят задачи и правильно их реш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ределяют оптимальные пути к достижению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базовые решения мы с самого начала создавали в тесной увязке друг с другом. И теперь можем предложить нашим клиентам комплексное замкнутое решение, которое принято называть типовой конфигур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975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отмечу, что под базовым решением мы понимаем комплект из 80-ти процентов самых важных функций. Поэтому  наши базовые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дной стороны достаточно универсальны, т.е. подходят для большинства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 открыты для изменений, т.е. допускают любые мод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ши базовые решения всегда адекватны действующему законодательству и современным технолог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ще одна важная особенность. Все наши базовые решения сопровождаются четкими функциональными спецификациями и описаниями. В результате они перестали быть «котами в мешк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наш клиент перед покупкой может узнать о том, какие проблемы базовое решение закрывает, а какие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клиенты приобретают только те решения, которые соответствуют их требованиям. Или на этом берегу договариваются с нами о сроках и стоимости необходимых доработок. В результате не происходит непредвиденных затяжек в процессе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ет отметить, что все наши базовые решения создаются по определенным правилам, в частности сопровождаются подробными комментариями и инструкциями по использо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ши базовые решения можно самостоятельно изучить относительно легко модифици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это весьма положительно сказывается на скорости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одя промежуточный итог можно утверждать, что параметры, определяющие скорость внедрения, в нашей компании имеют следующи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е кто на Западе утверждает, что «теория суха …, а древо жизни пышно зеленеет», что в переводе с немецкого означает «любая теория проверяется на практи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х же результатов достигла компания «Геликон Про» со своими базовыми решения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езультаты представлены на слайдах и, как нам кажется, достаточно краснореч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все сроки внедрений исчисляются несколькими меся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на ЖБК-7 внедрение всех задач началось одновременно в октябре, а с к новому году планируется полностью завершить про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рактически достоверным является утверждение о том, что скорость внедрения может быть достаточно высокой. Однако, если подойти к проблеме комплексно , то возникает вопрос: «А какой ценой достигается высокая скорость? Как она влияет на стоимость проек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казывает, что скорость внедрения может привести к сокращению проектных издер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ставленном качественном графике скорость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ответствует классическому подходу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варительным обследова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лением технических заданий и проектов. Отсюда и достаточно высоки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ные опыт, знания и базовые решения очевидным образом не только увеличивают скорость внедрения, но и снижают проектные затраты, т.е. приближают нас к точке минимума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ли Заказчик захочет еще увеличить скорость внедрения, то ему придется потратить дополнительные средства, например на привлечение 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ьшего количества специалистов или на сверхурочные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8229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зникла такая тема, в чем причина ее актуальн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вестно, любой продукт чтобы появиться и удержаться на рынке должен удовлетворять некоторым квалификационным кри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дукт - это информационная система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явился и успешно существует на рынке корпоративного программного обеспечения потому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н, т.к. использует самые современны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ок, т.к. открыт и имеет развитый иструментарий для настро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у Капит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есть достаточно длинная история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для того, чтобы иметь не только  настоящее, но и будущее, любой продукт должен удовлетворять еще и критер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учения зака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Без этого невозможна успешная продажа продукта, а значит и его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сегодня одним из важнейших критериев получения заказа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 внедр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формационной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ому и решили рассказать о том, что мы делаем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626000"/>
            <a:ext cx="541008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, далеко смотрящий слушатель может спросить: «Ну хорошо, скорость увеличили, затраты уменьшили. А можно ли не теряя скорости еще уменьшить затраты, причем не только при внедрении, но и при сопровождении систем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можно. Если внедрение и сопровождение системы будет производиться подготовленными специалистами Заказ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а практике, как правило, реализуются три вариа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Исполнителя (график 1). Достоинства этого варианта: высокая скорость и качество работ. Недостаток: относительно высокая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Заказчика (график 2). Достоинство этого варианта: меньшая цена. Однако, такой вариант возможен лишь тогда, когда специалисты Заказчика имеют достаточную  предварительную подгот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и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системы осуществляется специалистами  Исполнителя, а сопровождение - специалистами  Заказчика (график 3). Здесь 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обознач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мент передачи системы в промышленную эксплуатацию. Причем предполагается, что до этого момента специалисты Заказчика все-таки получат некоторую квалификацию, необходимую для поддержания и развит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512784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о какой же квалификации идет ре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специалисты Заказчика должны владеть современными информационными технологиями, как минимум: ООП и язы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специалисты Заказчика должны ориентироваться в предметных областях, как минимум знать основные определения и нормативные док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пециалисты Заказчика должны познакомиться с системой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пройти централизованное обучение в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одной лишь квалификации для успешного внедрения и сопровождения информационной системы недостаточно. Нужна еще и эффективная организация работ. Например, отказ о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ыч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крайне неэффективного, неформализованного общения с пользов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533520" y="4625640"/>
            <a:ext cx="57909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было сказано о том, какая скорость внедрения сегодня  может быть достигнута компанией Геликон Про и ее клиентами. Закономерен вопрос: «А что дальше? Каковы перспективы увеличения скорост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новых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этих перспективах расскажет в своем докладе Клюев Андрей Владимирови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дание новых прикладных решений. В частности в 2004 году компания Геликон Про планирует создание базовых решений для таких задач,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ППР и  производствен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Мы собираемся более активно делиться с нашими клиентами предметными знаниями и проектным опытом. Мы уже начали выпуск серии руководств для прикладных программистов. Первое руководство, посвящено бухгалтерскому учету, с ним вы можете ознакомиться во время перерыва. На очереди руководства по расчету заработной платы, учету ОФ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е хотелось бы затронуть еще два вопроса, которые тесно связаны со скоростью внедрения и стоимостью про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быть предприятиям, у которых вообще нет или очень мало АСУшников? В этом случае у предприятия графика №2 может отсутствовать в принц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делать предприятиям после завершения проектов, если объем работ по сопровождению и развитию системы невелик (на слайде дата завершения проекта обозначена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 ЗП). В этом случае некоторые специалисты службы АСУ могут оказаться недогруж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а вопроса можно дать один ответ: надо использовать аутсорсинг, т.е. передавать все или часть функций службы АСУ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придется платить компании Геликон Про, но только за ту работу, которая реально необходима. Поэтому суммарные затраты на сопровождение системы могут оказаться существенно меньшими, о чем свидетельствует пересечение графиков 1 и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09120" y="4625640"/>
            <a:ext cx="57150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у аутсорсинга есть недостатки,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н приводит к усложнению коммуникаций. В частности для эффективного взаимодействия конечных пользователей со специалистами из контрактной компании, занимающейся аутсорсингом, необходимы дополнительные звенья в лице специально назначенных сотруд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может потребовать переквалификации службы АСУ. Ее специалистам придется освоить новые для себя функции планирования и контроля  работ контрактной компании, по сути АСУшникам придется стать менедж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се эти недостатки с лихвой перекрываются преимуществами аутсорсинга.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нижает стоимость владения системой. Так решили для себя уже два наших клиента ЗАО «ЛУКОЙЛ-ПЕРМЬ» и ОАО «Пермтурист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ущественно снижает риски клиента, связанные с изменениями в предметных областях. Например, об изменении в законодательстве специалисты  компании Геликон Про узнают, как правило, гораздо раньше, т.к. регулярно посещают семинары и отслеживают периодические изд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- это всегда привлечение дополнительной компетенции, существующей у контрактной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мой рассказ подошел к концу. Позвольте кратко вернуться к основным моментам, прозвучавшим в докла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внедрения - это критерий получения за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корость внедрения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скорости внедрения, как правило, способ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ю проектных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обладает возможностями 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м опытом быстрых внед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готова оказывать услуги аутсорс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думались над тем, как повысить скорость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815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 сделав несколько шагов в выбранном направлении мы вынуждены были на некоторое время притормозить, т.к. перед нами в полный рост встал вопрос: «А внедрение чего, собственно, мы собираемся ускорять?». Иначе говоря, какой набор функций можно назва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каждый клиент под термином «решение» понимает что-то свое. Следовательно, создать одно решение сразу для всех клиентов практически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возникшего затруднения было только два вы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рать одно из прикладных решений и пытаться преподносить его всем клиентам как готовое и полностью им подходящ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м мы и воспользовались: применить правило Парето, т.е. выбрать  80% самых важных функций и предлагать их клиентам как базовое решение. Причем, именно такое решение можно быстро внедрять. А вот оставшиеся 20% функций можно внедрять и подольше, потому что и на 80-ти процентах решение «поедет», т.е. может быть передано в промышленную эксплуат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, что далее речь пойдет о скорости внедрения именно базовых, т.е. 80-ти процентных,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ыбрав в качестве основы базовые решения, мы двинулись дальше и задали себе следующий вопрос: «А от чего зависит скорость внедрения информационной системы в целом и отдельных прикладных решений в час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анализировав наколенный опыт, свой и чужой, мы выделили три фактора, оказывающих наибольшее влияние на скорость внедр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овимся на каждом из н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далее на слайдах скорость внедрения будем обозначать сокращенно буквами С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ерва рассмотрим качественные зависимости скорости внедрения от перечисленных фак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у компании опыт крупных проектов, тем быстрее внедряются ее решения. Это логично и очевидно. Причем первые 2-3 года скорость внедрений растет очень медленно, но наступает момент, когда количество переходит в качество В результате на 4-5 год скорость внедрений существенно увеличивается и затем продолжает заметно р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 слушатель может задать вопрос: «А почему речь идет об опыте только крупных проект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фразировав Владимира Семеновича Высоцкого, ответим: на маленьких проектах не встретишь таких красот и чудес. Кто умеет достигать высоких скоростей на крупных проектах, тот наверняка обеспечит их и на проектах поменьше. А вот обратное в общем случае не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метные знания как и проектный опыт никогда не бывают лишними. Чем больше предметных знаний у специалистов, занимающихся внедрением, тем быстрее они получают результат. Поэтому зависимость скорости внедрения от объема предметных знаний вполне можно считать линей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038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 компании нет в запасе ни одного решения для какой-нибудь прикладной задачи, то она вполне может заниматься внедрением информационной системы, потому что для этого достаточно знать только средства настройки  этой системы. Хотя такое внедрение, конечно же, быстрым не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у компании накапливаются прикладные решения скорость внедрения начинает расти. Сначала интенсивно, а затем по мере насыщения, медл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 мы рассмотрели качественные зависимости скорости внедрения от трех параметров. При этом остались без ответа два во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ие значения имеют упомянутые параметры в самой компания Геликон Пр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торо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в внутренний механизм приведенных качественны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мы ответим на эти вопро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E04-4B07-4E4D-ADAF-63E163F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3D5-023D-4C0A-9E06-A7078AD7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57-69E1-49C4-A190-6A15668A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468-2E99-471C-A6F5-0E59ADFF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31C-9A02-4CFA-AC61-98E2BCED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40A-43C0-4F19-8A32-0189ED60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510-1D28-4C3B-992C-7AF1D068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047-4E61-49AD-9BFF-2C4D82DA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0D-7CC6-4F03-AD3C-5116EC38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12E-F8DF-4A14-8F66-CF5BD3A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E9A-441F-478F-9F74-20BD20C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797-0B4B-4F45-9B64-2277122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1351-23C0-45C6-9C62-744B1021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2494080"/>
            <a:ext cx="52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ыстрое внедр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апитал C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495792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638440"/>
            <a:ext cx="31050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30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8760" y="576360"/>
            <a:ext cx="4000320" cy="871560"/>
            <a:chOff x="3668760" y="576360"/>
            <a:chExt cx="4000320" cy="871560"/>
          </a:xfrm>
        </p:grpSpPr>
        <p:sp>
          <p:nvSpPr>
            <p:cNvPr id="58" name=""/>
            <p:cNvSpPr/>
            <p:nvPr/>
          </p:nvSpPr>
          <p:spPr>
            <a:xfrm>
              <a:off x="3668760" y="576360"/>
              <a:ext cx="4000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90800" y="679320"/>
              <a:ext cx="94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504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7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1382760" y="2787480"/>
            <a:ext cx="73501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ет качеств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ает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тимизирует организацию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21747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е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9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5" name=""/>
          <p:cNvSpPr/>
          <p:nvPr/>
        </p:nvSpPr>
        <p:spPr>
          <a:xfrm>
            <a:off x="1382760" y="3643200"/>
            <a:ext cx="738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ыт работы более 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стие в 4 крупных проектах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а высших образования, одно из котор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оном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86040" y="27828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ые показатели ведущих специалистов компании Геликон П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210996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" name=""/>
          <p:cNvSpPr/>
          <p:nvPr/>
        </p:nvSpPr>
        <p:spPr>
          <a:xfrm>
            <a:off x="1382760" y="2822400"/>
            <a:ext cx="7388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ают процедуры анализа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ют качество выполняем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вают 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1240" y="220968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21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36" name=""/>
          <p:cNvSpPr/>
          <p:nvPr/>
        </p:nvSpPr>
        <p:spPr>
          <a:xfrm>
            <a:off x="9921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" y="147636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 локальных решений к базовым решениям и типовой конфигу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9080" y="2711520"/>
            <a:ext cx="863280" cy="685440"/>
            <a:chOff x="919080" y="2711520"/>
            <a:chExt cx="863280" cy="685440"/>
          </a:xfrm>
        </p:grpSpPr>
        <p:sp>
          <p:nvSpPr>
            <p:cNvPr id="339" name=""/>
            <p:cNvSpPr/>
            <p:nvPr/>
          </p:nvSpPr>
          <p:spPr>
            <a:xfrm>
              <a:off x="91908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708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44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4380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6828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676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8880" y="3465360"/>
            <a:ext cx="136080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ТМ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465360"/>
            <a:ext cx="134604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О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0364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47840" y="2722680"/>
            <a:ext cx="863280" cy="685440"/>
            <a:chOff x="2247840" y="2722680"/>
            <a:chExt cx="863280" cy="685440"/>
          </a:xfrm>
        </p:grpSpPr>
        <p:sp>
          <p:nvSpPr>
            <p:cNvPr id="349" name=""/>
            <p:cNvSpPr/>
            <p:nvPr/>
          </p:nvSpPr>
          <p:spPr>
            <a:xfrm>
              <a:off x="224784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5584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420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256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27240" y="2724120"/>
            <a:ext cx="863280" cy="685440"/>
            <a:chOff x="3027240" y="2724120"/>
            <a:chExt cx="863280" cy="685440"/>
          </a:xfrm>
        </p:grpSpPr>
        <p:sp>
          <p:nvSpPr>
            <p:cNvPr id="354" name=""/>
            <p:cNvSpPr/>
            <p:nvPr/>
          </p:nvSpPr>
          <p:spPr>
            <a:xfrm>
              <a:off x="302724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524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60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196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2724120"/>
            <a:ext cx="863280" cy="685440"/>
            <a:chOff x="6203880" y="2724120"/>
            <a:chExt cx="863280" cy="685440"/>
          </a:xfrm>
        </p:grpSpPr>
        <p:sp>
          <p:nvSpPr>
            <p:cNvPr id="359" name=""/>
            <p:cNvSpPr/>
            <p:nvPr/>
          </p:nvSpPr>
          <p:spPr>
            <a:xfrm>
              <a:off x="620388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188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2024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860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50000" y="2719440"/>
            <a:ext cx="863280" cy="685440"/>
            <a:chOff x="7650000" y="2719440"/>
            <a:chExt cx="863280" cy="685440"/>
          </a:xfrm>
        </p:grpSpPr>
        <p:sp>
          <p:nvSpPr>
            <p:cNvPr id="364" name=""/>
            <p:cNvSpPr/>
            <p:nvPr/>
          </p:nvSpPr>
          <p:spPr>
            <a:xfrm>
              <a:off x="765000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636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472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5800" y="2714760"/>
            <a:ext cx="862920" cy="685440"/>
            <a:chOff x="4465800" y="2714760"/>
            <a:chExt cx="862920" cy="685440"/>
          </a:xfrm>
        </p:grpSpPr>
        <p:sp>
          <p:nvSpPr>
            <p:cNvPr id="369" name=""/>
            <p:cNvSpPr/>
            <p:nvPr/>
          </p:nvSpPr>
          <p:spPr>
            <a:xfrm>
              <a:off x="446580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380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180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016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3600" y="4710240"/>
            <a:ext cx="8505720" cy="59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овая конфигу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89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1" name=""/>
          <p:cNvSpPr/>
          <p:nvPr/>
        </p:nvSpPr>
        <p:spPr>
          <a:xfrm>
            <a:off x="1382760" y="2351160"/>
            <a:ext cx="69501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ниверс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ты для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иваются в актуаль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робно документ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48800" y="162072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им критериям удовлетвор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0" name=""/>
          <p:cNvSpPr/>
          <p:nvPr/>
        </p:nvSpPr>
        <p:spPr>
          <a:xfrm>
            <a:off x="1382760" y="2351160"/>
            <a:ext cx="695016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екватны требованиям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носительно легко модифицир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ы для самостоятельного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16509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24200" y="179280"/>
            <a:ext cx="702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 СИСТЕМЫ 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4545000" y="3632040"/>
            <a:ext cx="4230720" cy="2971800"/>
            <a:chOff x="4545000" y="3632040"/>
            <a:chExt cx="4230720" cy="2971800"/>
          </a:xfrm>
        </p:grpSpPr>
        <p:sp>
          <p:nvSpPr>
            <p:cNvPr id="424" name=""/>
            <p:cNvSpPr/>
            <p:nvPr/>
          </p:nvSpPr>
          <p:spPr>
            <a:xfrm>
              <a:off x="5046840" y="4157640"/>
              <a:ext cx="3422520" cy="143496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1040" y="5900760"/>
              <a:ext cx="544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5000" y="3632040"/>
              <a:ext cx="474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41800" y="3909960"/>
              <a:ext cx="0" cy="21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800" y="6039000"/>
              <a:ext cx="360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0960" y="4427640"/>
              <a:ext cx="0" cy="160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057640" y="4456080"/>
              <a:ext cx="155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000" y="56656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2000" y="409248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16640" y="41036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1112760"/>
            <a:ext cx="3966840" cy="2827440"/>
            <a:chOff x="380880" y="1112760"/>
            <a:chExt cx="3966840" cy="2827440"/>
          </a:xfrm>
        </p:grpSpPr>
        <p:sp>
          <p:nvSpPr>
            <p:cNvPr id="435" name=""/>
            <p:cNvSpPr/>
            <p:nvPr/>
          </p:nvSpPr>
          <p:spPr>
            <a:xfrm flipV="1">
              <a:off x="2734560" y="2009880"/>
              <a:ext cx="0" cy="128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0960" y="3257640"/>
              <a:ext cx="536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1112760"/>
              <a:ext cx="4683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120" y="1344600"/>
              <a:ext cx="0" cy="19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0120" y="3301920"/>
              <a:ext cx="338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6240" y="1754280"/>
              <a:ext cx="3084120" cy="12063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192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66520" y="2009880"/>
              <a:ext cx="1867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5960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94156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22680" y="1217520"/>
            <a:ext cx="4267440" cy="2743200"/>
            <a:chOff x="4522680" y="1217520"/>
            <a:chExt cx="4267440" cy="2743200"/>
          </a:xfrm>
        </p:grpSpPr>
        <p:sp>
          <p:nvSpPr>
            <p:cNvPr id="446" name=""/>
            <p:cNvSpPr/>
            <p:nvPr/>
          </p:nvSpPr>
          <p:spPr>
            <a:xfrm>
              <a:off x="8213760" y="3309840"/>
              <a:ext cx="576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1217520"/>
              <a:ext cx="503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9720" y="1438200"/>
              <a:ext cx="0" cy="18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9720" y="330516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54760" y="1695240"/>
              <a:ext cx="3485880" cy="1352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9680" y="2951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800760" y="2371320"/>
              <a:ext cx="0" cy="93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57640" y="2371680"/>
              <a:ext cx="174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968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56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92000" y="3976560"/>
            <a:ext cx="4205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 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 опы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7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4" name=""/>
          <p:cNvSpPr/>
          <p:nvPr/>
        </p:nvSpPr>
        <p:spPr>
          <a:xfrm>
            <a:off x="1382760" y="263376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280" y="21178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АО «Порт Перм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760" y="529416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78040" y="47782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82760" y="432288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оговы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4360" y="3807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ОАО «Камка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"/>
          <p:cNvSpPr/>
          <p:nvPr/>
        </p:nvSpPr>
        <p:spPr>
          <a:xfrm>
            <a:off x="1382760" y="258912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хгалтерски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44640" y="20732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ЖБК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2760" y="465948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НД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4200" y="4143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ТД Сте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0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20" name=""/>
          <p:cNvSpPr/>
          <p:nvPr/>
        </p:nvSpPr>
        <p:spPr>
          <a:xfrm>
            <a:off x="749160" y="1150920"/>
            <a:ext cx="779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ПРОЕКТА И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28800" y="1913040"/>
            <a:ext cx="6276600" cy="4166640"/>
            <a:chOff x="2728800" y="1913040"/>
            <a:chExt cx="6276600" cy="4166640"/>
          </a:xfrm>
        </p:grpSpPr>
        <p:sp>
          <p:nvSpPr>
            <p:cNvPr id="522" name=""/>
            <p:cNvSpPr/>
            <p:nvPr/>
          </p:nvSpPr>
          <p:spPr>
            <a:xfrm>
              <a:off x="8156520" y="5074920"/>
              <a:ext cx="848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8800" y="1913040"/>
              <a:ext cx="740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2800" y="2255760"/>
              <a:ext cx="0" cy="29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800" y="5152680"/>
              <a:ext cx="523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68040" y="332892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5720" y="380808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4560" y="42526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56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50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7680" y="50590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313800" y="2438280"/>
              <a:ext cx="5216400" cy="2989800"/>
              <a:chOff x="3313800" y="2438280"/>
              <a:chExt cx="5216400" cy="298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001040" y="2438280"/>
                <a:ext cx="4529160" cy="2322000"/>
              </a:xfrm>
              <a:custGeom>
                <a:avLst/>
                <a:gdLst/>
                <a:ahLst/>
                <a:rect l="l" t="t" r="r" b="b"/>
                <a:pathLst>
                  <a:path w="2268" h="1222">
                    <a:moveTo>
                      <a:pt x="0" y="0"/>
                    </a:moveTo>
                    <a:cubicBezTo>
                      <a:pt x="81" y="334"/>
                      <a:pt x="162" y="668"/>
                      <a:pt x="312" y="864"/>
                    </a:cubicBezTo>
                    <a:cubicBezTo>
                      <a:pt x="462" y="1060"/>
                      <a:pt x="698" y="1130"/>
                      <a:pt x="900" y="1176"/>
                    </a:cubicBezTo>
                    <a:cubicBezTo>
                      <a:pt x="1102" y="1222"/>
                      <a:pt x="1340" y="1186"/>
                      <a:pt x="1524" y="1140"/>
                    </a:cubicBezTo>
                    <a:cubicBezTo>
                      <a:pt x="1708" y="1094"/>
                      <a:pt x="1880" y="978"/>
                      <a:pt x="2004" y="900"/>
                    </a:cubicBezTo>
                    <a:cubicBezTo>
                      <a:pt x="2128" y="822"/>
                      <a:pt x="2198" y="747"/>
                      <a:pt x="2268" y="672"/>
                    </a:cubicBezTo>
                  </a:path>
                </a:pathLst>
              </a:custGeom>
              <a:noFill/>
              <a:ln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13800" y="3420360"/>
                <a:ext cx="4381560" cy="2007720"/>
                <a:chOff x="3313800" y="3420360"/>
                <a:chExt cx="4381560" cy="200772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4443480" y="3837240"/>
                  <a:ext cx="0" cy="128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69240" y="478548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493080" y="3794760"/>
                  <a:ext cx="964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13800" y="34203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3800" y="434880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13800" y="40521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69240" y="342972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22800" y="4353480"/>
                  <a:ext cx="393480" cy="1073880"/>
                  <a:chOff x="6022800" y="4353480"/>
                  <a:chExt cx="393480" cy="1073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035400" y="4703760"/>
                    <a:ext cx="368280" cy="723600"/>
                    <a:chOff x="6035400" y="4703760"/>
                    <a:chExt cx="368280" cy="72360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216120" y="4703760"/>
                      <a:ext cx="0" cy="45036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035400" y="4784760"/>
                      <a:ext cx="368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6022800" y="4353480"/>
                    <a:ext cx="39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327080" y="4055040"/>
                  <a:ext cx="368280" cy="1372680"/>
                  <a:chOff x="7327080" y="4055040"/>
                  <a:chExt cx="368280" cy="1372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7503120" y="4444920"/>
                    <a:ext cx="0" cy="698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27080" y="478512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7080" y="405504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flipV="1">
                  <a:off x="3492720" y="4431240"/>
                  <a:ext cx="40100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3518280" y="4713840"/>
                  <a:ext cx="270540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72960" y="2052720"/>
            <a:ext cx="243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КОРОСТЬ ВНЕДРЕНИЯ ИС - КРИТЕРИЙ ПОЛУЧЕНИЯ ЗА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3320" y="2782800"/>
            <a:ext cx="700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алификационные критерии 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1382760" y="3171960"/>
            <a:ext cx="6950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ая ис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5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73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ВЛАДЕНИЯ СИСТ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21120" y="5219640"/>
            <a:ext cx="57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 при внед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Исполнителем и далее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5120" y="1471680"/>
            <a:ext cx="5676840" cy="3768480"/>
            <a:chOff x="2805120" y="1471680"/>
            <a:chExt cx="5676840" cy="3768480"/>
          </a:xfrm>
        </p:grpSpPr>
        <p:sp>
          <p:nvSpPr>
            <p:cNvPr id="576" name=""/>
            <p:cNvSpPr/>
            <p:nvPr/>
          </p:nvSpPr>
          <p:spPr>
            <a:xfrm>
              <a:off x="7745400" y="44006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805120" y="1471680"/>
              <a:ext cx="5487840" cy="2963880"/>
              <a:chOff x="2805120" y="1471680"/>
              <a:chExt cx="5487840" cy="2963880"/>
            </a:xfrm>
          </p:grpSpPr>
          <p:sp>
            <p:nvSpPr>
              <p:cNvPr id="578" name=""/>
              <p:cNvSpPr/>
              <p:nvPr/>
            </p:nvSpPr>
            <p:spPr>
              <a:xfrm>
                <a:off x="2805120" y="1471680"/>
                <a:ext cx="6426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 Cyr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7240" y="1736640"/>
                <a:ext cx="0" cy="269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7240" y="4422600"/>
                <a:ext cx="481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477240" y="1927080"/>
                <a:ext cx="4294080" cy="19224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477240" y="3160440"/>
                <a:ext cx="4255920" cy="688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1920" y="2584440"/>
                <a:ext cx="2290320" cy="387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1200" y="162396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3440" y="227160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9840" y="284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191200" y="439596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п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4400" y="40719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19720" y="25653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31040" y="2927520"/>
              <a:ext cx="0" cy="148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5420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17720" y="1103400"/>
            <a:ext cx="63691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НЕОБХОДИМО ДЛЯ ВНЕДРЕНИЯ ИС ЗАКАЗ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9" name=""/>
          <p:cNvSpPr/>
          <p:nvPr/>
        </p:nvSpPr>
        <p:spPr>
          <a:xfrm>
            <a:off x="1382760" y="3014640"/>
            <a:ext cx="69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е современными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е изучение ИС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организац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Я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2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7" name=""/>
          <p:cNvSpPr/>
          <p:nvPr/>
        </p:nvSpPr>
        <p:spPr>
          <a:xfrm>
            <a:off x="1382760" y="2595600"/>
            <a:ext cx="69501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нов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нов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0" y="20257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9600" y="47451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6280" y="522756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оект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3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0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25680" y="5372280"/>
            <a:ext cx="544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недрении и сопровожд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776680" y="1420920"/>
            <a:ext cx="5956200" cy="3977640"/>
            <a:chOff x="2776680" y="1420920"/>
            <a:chExt cx="5956200" cy="3977640"/>
          </a:xfrm>
        </p:grpSpPr>
        <p:sp>
          <p:nvSpPr>
            <p:cNvPr id="653" name=""/>
            <p:cNvSpPr/>
            <p:nvPr/>
          </p:nvSpPr>
          <p:spPr>
            <a:xfrm>
              <a:off x="7996320" y="45590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6680" y="1420920"/>
              <a:ext cx="642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9880" y="1719000"/>
              <a:ext cx="0" cy="28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9880" y="4581360"/>
              <a:ext cx="507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49880" y="2877480"/>
              <a:ext cx="1346040" cy="1339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67160" y="1899720"/>
              <a:ext cx="4691160" cy="23173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22111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480" y="166968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68920" y="2442600"/>
              <a:ext cx="3399120" cy="45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0360" y="4554360"/>
              <a:ext cx="736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з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9360" y="423036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92880" y="25318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86560" y="2925360"/>
              <a:ext cx="0" cy="164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7328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17720" y="9986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8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4" name=""/>
          <p:cNvSpPr/>
          <p:nvPr/>
        </p:nvSpPr>
        <p:spPr>
          <a:xfrm>
            <a:off x="1382760" y="4262400"/>
            <a:ext cx="69501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рисков, связанных с изменениям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лечение дополните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8680" y="3692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440" y="190008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6280" y="2382840"/>
            <a:ext cx="69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квалификация сотрудников служб 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0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1382760" y="1601640"/>
            <a:ext cx="7532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 - критерий получения за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влияющие на С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реализации крупных про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е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С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ствует уменьшению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ых зат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обладает возможностя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актическим опытом быстрых внед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готова оказывать услуги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тсорс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2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8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3" name=""/>
          <p:cNvSpPr/>
          <p:nvPr/>
        </p:nvSpPr>
        <p:spPr>
          <a:xfrm>
            <a:off x="392040" y="1093680"/>
            <a:ext cx="5985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АПЫ РАЗВИТИЯ СИСТЕМЫ 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5320" y="2357280"/>
            <a:ext cx="5868720" cy="3797280"/>
            <a:chOff x="2335320" y="2357280"/>
            <a:chExt cx="5868720" cy="3797280"/>
          </a:xfrm>
        </p:grpSpPr>
        <p:sp>
          <p:nvSpPr>
            <p:cNvPr id="105" name=""/>
            <p:cNvSpPr/>
            <p:nvPr/>
          </p:nvSpPr>
          <p:spPr>
            <a:xfrm>
              <a:off x="6735600" y="552600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5320" y="235728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246708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1120" y="544212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4040" y="553392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9960" y="553392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21120" y="30258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1120" y="421956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508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024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1720" y="344484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6400" y="464976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30680" y="365436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365436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АВИЛО ПАРЕ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381400"/>
            <a:ext cx="70088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решение 80% задач тратится 20% ресурсов проекта. Оставшихся 80% ресурсов проекта тратится на 20%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ение 80% задач позволяет начать промышленную эксплуатацию системы, но не приводит к формальному завершению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8120" y="1633680"/>
            <a:ext cx="57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80х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АКТОРЫ, ОПРЕДЕЛЯЮЩИЕ СКОРОСТЬ ВНЕДРЕН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С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>
            <a:off x="1382760" y="2916360"/>
            <a:ext cx="6950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крупных проектов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roject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я прикладных задач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459108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 Cyr"/>
              </a:rPr>
              <a:t>v=f(p, k, s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62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7" name=""/>
          <p:cNvSpPr/>
          <p:nvPr/>
        </p:nvSpPr>
        <p:spPr>
          <a:xfrm>
            <a:off x="531720" y="1093680"/>
            <a:ext cx="819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 ПРОЕКТ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30680" y="2452680"/>
            <a:ext cx="6009840" cy="3867120"/>
            <a:chOff x="2830680" y="2452680"/>
            <a:chExt cx="6009840" cy="3867120"/>
          </a:xfrm>
        </p:grpSpPr>
        <p:sp>
          <p:nvSpPr>
            <p:cNvPr id="179" name=""/>
            <p:cNvSpPr/>
            <p:nvPr/>
          </p:nvSpPr>
          <p:spPr>
            <a:xfrm>
              <a:off x="8028000" y="5386320"/>
              <a:ext cx="8125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52680"/>
              <a:ext cx="709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73360" y="2770200"/>
              <a:ext cx="0" cy="27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3360" y="5442120"/>
              <a:ext cx="50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9840" y="3328920"/>
              <a:ext cx="4673520" cy="16527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92000" y="3252960"/>
            <a:ext cx="2433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89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4" name=""/>
          <p:cNvSpPr/>
          <p:nvPr/>
        </p:nvSpPr>
        <p:spPr>
          <a:xfrm>
            <a:off x="617400" y="865080"/>
            <a:ext cx="809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ОБЪЕМА ПРЕДМЕТ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3280" y="2549520"/>
            <a:ext cx="5994360" cy="4149720"/>
            <a:chOff x="2843280" y="2549520"/>
            <a:chExt cx="5994360" cy="4149720"/>
          </a:xfrm>
        </p:grpSpPr>
        <p:sp>
          <p:nvSpPr>
            <p:cNvPr id="206" name=""/>
            <p:cNvSpPr/>
            <p:nvPr/>
          </p:nvSpPr>
          <p:spPr>
            <a:xfrm>
              <a:off x="8026560" y="5732280"/>
              <a:ext cx="811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43280" y="2549520"/>
              <a:ext cx="708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3080" y="2877840"/>
              <a:ext cx="0" cy="28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3080" y="5648040"/>
              <a:ext cx="500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91000" y="3258720"/>
              <a:ext cx="4896000" cy="2011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8800" y="3309840"/>
            <a:ext cx="2433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1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1" name=""/>
          <p:cNvSpPr/>
          <p:nvPr/>
        </p:nvSpPr>
        <p:spPr>
          <a:xfrm>
            <a:off x="582480" y="903240"/>
            <a:ext cx="800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КОЛИЧЕСТВА РЕШЕННЫХ ПРИКЛАДНЫ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57400" y="2598840"/>
            <a:ext cx="5711400" cy="3849120"/>
            <a:chOff x="2957400" y="2598840"/>
            <a:chExt cx="5711400" cy="3849120"/>
          </a:xfrm>
        </p:grpSpPr>
        <p:sp>
          <p:nvSpPr>
            <p:cNvPr id="233" name=""/>
            <p:cNvSpPr/>
            <p:nvPr/>
          </p:nvSpPr>
          <p:spPr>
            <a:xfrm>
              <a:off x="7895880" y="5519520"/>
              <a:ext cx="7729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598840"/>
              <a:ext cx="6746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1920" y="2914560"/>
              <a:ext cx="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920" y="5573520"/>
              <a:ext cx="476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3105000"/>
              <a:ext cx="4522680" cy="189180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1560" y="3252960"/>
            <a:ext cx="2433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"/>
          <p:cNvSpPr/>
          <p:nvPr/>
        </p:nvSpPr>
        <p:spPr>
          <a:xfrm>
            <a:off x="1382760" y="401004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273060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3-12-07T15:18:39Z</cp:lastPrinted>
  <dcterms:modified xsi:type="dcterms:W3CDTF">2003-12-07T15:20:21Z</dcterms:modified>
  <cp:revision>432</cp:revision>
  <dc:subject/>
  <dc:title>Слайд 1</dc:title>
</cp:coreProperties>
</file>