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191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2720" y="758520"/>
            <a:ext cx="4852800" cy="363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191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FBDCD1D-7B28-4CC4-90DF-80FA55EDB6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уважаемые дамы и госп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я зовут Федосеев Серг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руковожу отделом внедрения информационных систем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моего доклада: быстрое внедрение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и перспект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ыт реализации крупных проектов помог нам увеличить скорость внедр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проектный опыт повышает качество планирования. Невероятно, но факт, самые первые наши проекты мы начинали вообще без всяких планов. Сейчас ситуация совсем иная, процесс планирования в нашей компании начинается с определения стратегических целей проекта и заканчивается построением диаграмм Ганта, в которых четко фиксируются задачи, сроки, исполнители. Качественное планирование позволяет нам существенно увеличить скорость выполнения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имея достаточный опыт мы умеем оптимизировать взаимодействие с заказчиком и организацию проектных работ. Так, в АО «Пермэнерго» после некоторого застоя нам удалось  определить четкий регламент взаимодействия с Заказчиком, а также рационально распределить работы между нашими сотрудниками и специалистами отдела АСУ Заказчика. В результате скорость выполнения проекта увеличилась в 2 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ыми носителями прикладных знаний в нашей компании являются ведущие специалисты. Об уровне их профессионализма говорят следующие дан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из них работает в своей предметной области 5 и более ле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прошел 4 и более крупных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ктически все они имеют по два высших образования, одно из которых экономическ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тественно, что при участии таких специалистов все вопросы на любых этапах проекта решаются гораздо быстрее. Квалифицированные сотрудник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ыстро находят общий язык с пользователями и их руководит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рамотно ставят задачи и правильно их решаю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ределяют оптимальные пути к достижению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чти 10 лет мы решаем самые разные прикладные задачи, двигаясь от простого к сложному, постепенно интегрирую маленькие решения в большие. В результате сегодня мы имеем значительное количество базовых решений для многих сложных задач. Некоторые из них представлены на данном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, исповедуя системный подход, все базовые решения мы с самого начала создавали в тесной увязке друг с другом. И теперь можем предложить нашим клиентам комплексное замкнутое решение, которое принято называть типовой конфигур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9752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раз отмечу, что под базовым решением мы понимаем комплект из 80-ти процентов самых важных функций. Поэтому  наши базовые ре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дной стороны достаточно универсальны, т.е. подходят для большинства кли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 открыты для изменений, т.е. допускают любые мод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наши базовые решения всегда адекватны действующему законодательству и современным технолог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еще одна важная особенность. Все наши базовые решения сопровождаются четкими функциональными спецификациями и описаниями. В результате они перестали быть «котами в мешке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наш клиент перед покупкой может узнать о том, какие проблемы базовое решение закрывает, а какие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езультате клиенты приобретают только те решения, которые соответствуют их требованиям. Или на этом берегу договариваются с нами о сроках и стоимости необходимых доработок. В результате не происходит непредвиденных затяжек в процессе внед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едует отметить, что все наши базовые решения создаются по определенным правилам, в частности сопровождаются подробными комментариями и инструкциями по использов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этому наши базовые решения можно самостоятельно изучить относительно легко модифициро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это весьма положительно сказывается на скорости внед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водя промежуточный итог можно утверждать, что параметры, определяющие скорость внедрения, в нашей компании имеют следующие зна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е кто на Западе утверждает, что «теория суха …, а древо жизни пышно зеленеет», что в переводе с немецкого означает «любая теория проверяется на практик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х же результатов достигла компания «Геликон Про» со своими базовыми решения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результаты представлены на слайдах и, как нам кажется, достаточно краснореч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е внимание все сроки внедрений исчисляются несколькими месяц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метим, что на ЖБК-7 внедрение всех задач началось одновременно в октябре, а с к новому году планируется полностью завершить про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практически достоверным является утверждение о том, что скорость внедрения может быть достаточно высокой. Однако, если подойти к проблеме комплексно , то возникает вопрос: «А какой ценой достигается высокая скорость? Как она влияет на стоимость проекта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казывает, что скорость внедрения может привести к сокращению проектных издерж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ставленном качественном графике скорость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ответствует классическому подходу 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варительным обследовани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лением технических заданий и проектов. Отсюда и достаточно высокие зат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ные опыт, знания и базовые решения очевидным образом не только увеличивают скорость внедрения, но и снижают проектные затраты, т.е. приближают нас к точке минимума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, если Заказчик захочет еще увеличить скорость внедрения, то ему придется потратить дополнительные средства, например на привлечение б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ьшего количества специалистов или на сверхурочные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891720" y="4626000"/>
            <a:ext cx="4822920" cy="459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озникла такая тема, в чем причина ее актуально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звестно, любой продукт чтобы появиться и удержаться на рынке должен удовлетворять некоторым квалификационным критер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одукт - это информационная система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оявился и успешно существует на рынке корпоративного программного обеспечения потому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н, т.к. использует самые современные информационные технолог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ок, т.к. открыт и имеет развитый иструментарий для настрой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 у Капита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есть достаточно длинная история успе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для того, чтобы иметь не только  настоящее, но и будущее, любой продукт должен удовлетворять еще и критерия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учения зака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Без этого невозможна успешная продажа продукта, а значит и его разви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считаем, что сегодня одним из важнейших критериев получения заказа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орость внедр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формационной сист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этому и решили рассказать о том, что мы делаем в этом на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626000"/>
            <a:ext cx="5410080" cy="459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й, далеко смотрящий слушатель может спросить: «Ну хорошо, скорость увеличили, затраты уменьшили. А можно ли не теряя скорости еще уменьшить затраты, причем не только при внедрении, но и при сопровождении системы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можно. Если внедрение и сопровождение системы будет производиться подготовленными специалистами Заказч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 на практике, как правило, реализуются три вариа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едрение и сопровождение системы осуществляется специалистами  Исполнителя (график 1). Достоинства этого варианта: высокая скорость и качество работ. Недостаток: относительно высокая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ой вариант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едрение и сопровождение системы осуществляется специалистами  Заказчика (график 2). Достоинство этого варианта: меньшая цена. Однако, такой вариант возможен лишь тогда, когда специалисты Заказчика имеют достаточную  предварительную подготов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ий вариант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едрение системы осуществляется специалистами  Исполнителя, а сопровождение - специалистами  Заказчика (график 3). Здесь  переменной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ндекс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Э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обозначе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момент передачи системы в промышленную эксплуатацию. Причем предполагается, что до этого момента специалисты Заказчика все-таки получат некоторую квалификацию, необходимую для поддержания и развития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512784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о какой же квалификации идет ре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специалисты Заказчика должны владеть современными информационными технологиями, как минимум: ООП и язык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специалисты Заказчика должны ориентироваться в предметных областях, как минимум знать основные определения и нормативные доку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специалисты Заказчика должны познакомиться с системой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 пройти централизованное обучение в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одной лишь квалификации для успешного внедрения и сопровождения информационной системы недостаточно. Нужна еще и эффективная организация работ. Например, отказ о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вычног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о крайне неэффективного, неформализованного общения с пользов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533520" y="4625640"/>
            <a:ext cx="579096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было сказано о том, какая скорость внедрения сегодня  может быть достигнута компанией Геликон Про и ее клиентами. Закономерен вопрос: «А что дальше? Каковы перспективы увеличения скорости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условно можно разделить на на дв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менение новых более мощных 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нструментальных средств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б этих перспективах расскажет в своем докладе Клюев Андрей Владимирович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ая перспектив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 оптимизация уже существующих решений. В частности увеличение их быстродействия, модернизация пользовательского интерфейса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ая перспектив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здание новых прикладных решений. В частности в 2004 году компания Геликон Про планирует создание базовых решений для таких задач, ка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M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ППР и  производственн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группа перспектив носит методический характер. Мы собираемся более активно делиться с нашими клиентами предметными знаниями и проектным опытом. Мы уже начали выпуск серии руководств для прикладных программистов. Первое руководство, посвящено бухгалтерскому учету, с ним вы можете ознакомиться во время перерыва. На очереди руководства по расчету заработной платы, учету ОФ и администрированию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лючение хотелось бы затронуть еще два вопроса, которые тесно связаны со скоростью внедрения и стоимостью проек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ый 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быть предприятиям, у которых вообще нет или очень мало АСУшников? В этом случае у предприятия графика №2 может отсутствовать в принци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ой 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 делать предприятиям после завершения проектов, если объем работ по сопровождению и развитию системы невелик (на слайде дата завершения проекта обозначена переменной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ндексом ЗП). В этом случае некоторые специалисты службы АСУ могут оказаться недогруж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а вопроса можно дать один ответ: надо использовать аутсорсинг, т.е. передавать все или часть функций службы АСУ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 придется платить компании Геликон Про, но только за ту работу, которая реально необходима. Поэтому суммарные затраты на сопровождение системы могут оказаться существенно меньшими, о чем свидетельствует пересечение графиков 1 и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09120" y="4625640"/>
            <a:ext cx="57150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 у аутсорсинга есть недостатки, а имен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н приводит к усложнению коммуникаций. В частности для эффективного взаимодействия конечных пользователей со специалистами из контрактной компании, занимающейся аутсорсингом, необходимы дополнительные звенья в лице специально назначенных сотруд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оме того, аутсорсинг может потребовать переквалификации службы АСУ. Ее специалистам придется освоить новые для себя функции планирования и контроля  работ контрактной компании, по сути АСУшникам придется стать менедже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се эти недостатки с лихвой перекрываются преимуществами аутсорсинга. А имен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утсорсинг снижает стоимость владения системой. Так решили для себя уже два наших клиента ЗАО «ЛУКОЙЛ-ПЕРМЬ» и ОАО «Пермтурист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утсорсинг существенно снижает риски клиента, связанные с изменениями в предметных областях. Например, об изменении в законодательстве специалисты  компании Геликон Про узнают, как правило, гораздо раньше, т.к. регулярно посещают семинары и отслеживают периодические изд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оме того, аутсорсинг - это всегда привлечение дополнительной компетенции, существующей у контрактной комп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мой рассказ подошел к концу. Позвольте кратко вернуться к основным моментам, прозвучавшим в докла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внедрения - это критерий получения зак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корость внедрения э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ыт крупных про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ъем знаний в предметных обла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личество накопленных решений приклад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скорости внедрения, как правило, способ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ению проектных затра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я Геликон Про обладает возможностями 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м опытом быстрых внед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я Геликон Про готова оказывать услуги аутсорс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асибо за внимание. Пожалуйста,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лянувшись назад, можно сказать, что на координатной плоскости, отражающей объем прикладных решений и скорость их внедрения, мы двигались по следующей траек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начала мы накапливали прикладные решения, повышали их качество. Затем, когда прикладных решений нужного качества стало достаточно много, мы всерьез задумались над тем, как повысить скорость их внед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891720" y="4625640"/>
            <a:ext cx="528156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ренно сделав несколько шагов в выбранном направлении мы вынуждены были на некоторое время притормозить, т.к. перед нами в полный рост встал вопрос: «А внедрение чего, собственно, мы собираемся ускорять?». Иначе говоря, какой набор функций можно назват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е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видно, что каждый клиент под термином «решение» понимает что-то свое. Следовательно, создать одно решение сразу для всех клиентов практически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возникшего затруднения было только два вых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ый вых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рать одно из прикладных решений и пытаться преподносить его всем клиентам как готовое и полностью им подходяще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ой вых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м мы и воспользовались: применить правило Парето, т.е. выбрать  80% самых важных функций и предлагать их клиентам как базовое решение. Причем, именно такое решение можно быстро внедрять. А вот оставшиеся 20% функций можно внедрять и подольше, потому что и на 80-ти процентах решение «поедет», т.е. может быть передано в промышленную эксплуата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им, что далее речь пойдет о скорости внедрения именно базовых, т.е. 80-ти процентных,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так, выбрав в качестве основы базовые решения, мы двинулись дальше и задали себе следующий вопрос: «А от чего зависит скорость внедрения информационной системы в целом и отдельных прикладных решений в частност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анализировав наколенный опыт, свой и чужой, мы выделили три фактора, оказывающих наибольшее влияние на скорость внедр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опыт крупных про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объем знаний в предметных обла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количество накопленных решений приклад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тановимся на каждом из них более подроб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метим, что далее на слайдах скорость внедрения будем обозначать сокращенно буквами С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ерва рассмотрим качественные зависимости скорости внедрения от перечисленных фак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больше у компании опыт крупных проектов, тем быстрее внедряются ее решения. Это логично и очевидно. Причем первые 2-3 года скорость внедрений растет очень медленно, но наступает момент, когда количество переходит в качество В результате на 4-5 год скорость внедрений существенно увеличивается и затем продолжает заметно р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й слушатель может задать вопрос: «А почему речь идет об опыте только крупных проектов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фразировав Владимира Семеновича Высоцкого, ответим: на маленьких проектах не встретишь таких красот и чудес. Кто умеет достигать высоких скоростей на крупных проектах, тот наверняка обеспечит их и на проектах поменьше. А вот обратное в общем случае нев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дметные знания как и проектный опыт никогда не бывают лишними. Чем больше предметных знаний у специалистов, занимающихся внедрением, тем быстрее они получают результат. Поэтому зависимость скорости внедрения от объема предметных знаний вполне можно считать линей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91720" y="4625640"/>
            <a:ext cx="52038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у компании нет в запасе ни одного решения для какой-нибудь прикладной задачи, то она вполне может заниматься внедрением информационной системы, потому что для этого достаточно знать только средства настройки  этой системы. Хотя такое внедрение, конечно же, быстрым не бу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у компании накапливаются прикладные решения скорость внедрения начинает расти. Сначала интенсивно, а затем по мере насыщения, медленн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 мы рассмотрели качественные зависимости скорости внедрения от трех параметров. При этом остались без ответа два во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 какие значения имеют упомянутые параметры в самой компания Геликон Пр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торо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ов внутренний механизм приведенных качественных зависим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мы ответим на эти вопро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анный момент компанией Геликон Про реализовано более 20 крупных проектов. Среди наших клиентов такие предприятия к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О «ЛУКОЙЛ-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э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Камкаб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тоотряд №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турис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орт 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уг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472-CFE4-4566-BB83-F2B8B03A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B7A-5ECA-4437-A2A0-E58FC065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41A-805C-400C-B878-63D559FE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472-0853-42B4-927B-B061476D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AB2-4FD3-4235-AF6A-F1484B7E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7E1-BFA4-48D3-9117-8812BE12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20BC-E2B4-48E3-ADE6-418FC0BB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C90-3684-4AC8-9A1C-9D74C18C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D1A-9B8E-4BD6-99BF-D50B1F16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22D-7F0C-4600-8E45-5203029C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7FE-BC7D-420A-953A-D626C93C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8BC-7030-49EB-BC77-2401E1BA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861A-7B3E-4848-9CA4-1FC9A2902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2040" y="2494080"/>
            <a:ext cx="52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Быстрое внедрени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Капитал C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пыт и 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4957920"/>
            <a:ext cx="530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Федосеев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внедрению 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360" y="2638440"/>
            <a:ext cx="3105000" cy="2027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3056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8760" y="576360"/>
            <a:ext cx="4000320" cy="871560"/>
            <a:chOff x="3668760" y="576360"/>
            <a:chExt cx="4000320" cy="871560"/>
          </a:xfrm>
        </p:grpSpPr>
        <p:sp>
          <p:nvSpPr>
            <p:cNvPr id="58" name=""/>
            <p:cNvSpPr/>
            <p:nvPr/>
          </p:nvSpPr>
          <p:spPr>
            <a:xfrm>
              <a:off x="3668760" y="576360"/>
              <a:ext cx="400032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790800" y="679320"/>
              <a:ext cx="94248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504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ОПЫТ РЕАЛИЗАЦИИ КРУП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3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274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"/>
          <p:cNvSpPr/>
          <p:nvPr/>
        </p:nvSpPr>
        <p:spPr>
          <a:xfrm>
            <a:off x="1382760" y="2787480"/>
            <a:ext cx="73501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ает качество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лучшает коммун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тимизирует организацию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11240" y="2174760"/>
            <a:ext cx="6456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 увеличивает скорость внед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ЗНАНИЯ В ПРЕДМЕТНЫХ ОБЛАСТ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2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293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5" name=""/>
          <p:cNvSpPr/>
          <p:nvPr/>
        </p:nvSpPr>
        <p:spPr>
          <a:xfrm>
            <a:off x="1382760" y="3643200"/>
            <a:ext cx="73882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ыт работы более 5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астие в 4 крупных проектах и бол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ва высших образования, одно из котор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коном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86040" y="2782800"/>
            <a:ext cx="700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фессиональные показатели ведущих специалистов компании Геликон Пр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42760" y="2109960"/>
            <a:ext cx="35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Чем определя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ЗНАНИЯ В ПРЕДМЕТНЫХ ОБЛАСТ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313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5" name=""/>
          <p:cNvSpPr/>
          <p:nvPr/>
        </p:nvSpPr>
        <p:spPr>
          <a:xfrm>
            <a:off x="1382760" y="2822400"/>
            <a:ext cx="738828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кращают процедуры анализа треб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ают качество выполняем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величивают производительность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11240" y="2209680"/>
            <a:ext cx="6456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 увеличивают скорость внед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321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2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2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33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3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3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36" name=""/>
          <p:cNvSpPr/>
          <p:nvPr/>
        </p:nvSpPr>
        <p:spPr>
          <a:xfrm>
            <a:off x="9921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4800" y="1476360"/>
            <a:ext cx="85280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т локальных решений к базовым решениям и типовой конфигу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19080" y="2711520"/>
            <a:ext cx="863280" cy="685440"/>
            <a:chOff x="919080" y="2711520"/>
            <a:chExt cx="863280" cy="685440"/>
          </a:xfrm>
        </p:grpSpPr>
        <p:sp>
          <p:nvSpPr>
            <p:cNvPr id="339" name=""/>
            <p:cNvSpPr/>
            <p:nvPr/>
          </p:nvSpPr>
          <p:spPr>
            <a:xfrm>
              <a:off x="919080" y="27115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27080" y="28278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35440" y="29444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43800" y="30610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68280" y="3475080"/>
            <a:ext cx="1855800" cy="11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ла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36760" y="3470400"/>
            <a:ext cx="16621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ерсон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расчет З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68880" y="3465360"/>
            <a:ext cx="1360800" cy="116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 ТМ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35880" y="3465360"/>
            <a:ext cx="1346040" cy="115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 О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03640" y="3483000"/>
            <a:ext cx="1857600" cy="113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ухгалте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нало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247840" y="2722680"/>
            <a:ext cx="863280" cy="685440"/>
            <a:chOff x="2247840" y="2722680"/>
            <a:chExt cx="863280" cy="685440"/>
          </a:xfrm>
        </p:grpSpPr>
        <p:sp>
          <p:nvSpPr>
            <p:cNvPr id="349" name=""/>
            <p:cNvSpPr/>
            <p:nvPr/>
          </p:nvSpPr>
          <p:spPr>
            <a:xfrm>
              <a:off x="2247840" y="2722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55840" y="283896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64200" y="295560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72560" y="30722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027240" y="2724120"/>
            <a:ext cx="863280" cy="685440"/>
            <a:chOff x="3027240" y="2724120"/>
            <a:chExt cx="863280" cy="685440"/>
          </a:xfrm>
        </p:grpSpPr>
        <p:sp>
          <p:nvSpPr>
            <p:cNvPr id="354" name=""/>
            <p:cNvSpPr/>
            <p:nvPr/>
          </p:nvSpPr>
          <p:spPr>
            <a:xfrm>
              <a:off x="302724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3524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360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5196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203880" y="2724120"/>
            <a:ext cx="863280" cy="685440"/>
            <a:chOff x="6203880" y="2724120"/>
            <a:chExt cx="863280" cy="685440"/>
          </a:xfrm>
        </p:grpSpPr>
        <p:sp>
          <p:nvSpPr>
            <p:cNvPr id="359" name=""/>
            <p:cNvSpPr/>
            <p:nvPr/>
          </p:nvSpPr>
          <p:spPr>
            <a:xfrm>
              <a:off x="620388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1188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2024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860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650000" y="2719440"/>
            <a:ext cx="863280" cy="685440"/>
            <a:chOff x="7650000" y="2719440"/>
            <a:chExt cx="863280" cy="685440"/>
          </a:xfrm>
        </p:grpSpPr>
        <p:sp>
          <p:nvSpPr>
            <p:cNvPr id="364" name=""/>
            <p:cNvSpPr/>
            <p:nvPr/>
          </p:nvSpPr>
          <p:spPr>
            <a:xfrm>
              <a:off x="7650000" y="27194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58000" y="283572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66360" y="295236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74720" y="306900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465800" y="2714760"/>
            <a:ext cx="862920" cy="685440"/>
            <a:chOff x="4465800" y="2714760"/>
            <a:chExt cx="862920" cy="685440"/>
          </a:xfrm>
        </p:grpSpPr>
        <p:sp>
          <p:nvSpPr>
            <p:cNvPr id="369" name=""/>
            <p:cNvSpPr/>
            <p:nvPr/>
          </p:nvSpPr>
          <p:spPr>
            <a:xfrm>
              <a:off x="4465800" y="271476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3800" y="283104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81800" y="294768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90160" y="30643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63600" y="4710240"/>
            <a:ext cx="8505720" cy="59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иповая конфигу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387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8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389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91" name=""/>
          <p:cNvSpPr/>
          <p:nvPr/>
        </p:nvSpPr>
        <p:spPr>
          <a:xfrm>
            <a:off x="1382760" y="2351160"/>
            <a:ext cx="6950160" cy="19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ниверса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крыты для 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ддерживаются в актуальном состоя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дробно документир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48800" y="162072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им критериям удовлетвор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7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408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10" name=""/>
          <p:cNvSpPr/>
          <p:nvPr/>
        </p:nvSpPr>
        <p:spPr>
          <a:xfrm>
            <a:off x="1382760" y="2351160"/>
            <a:ext cx="695016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декватны требованиям пользова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носительно легко модифицир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оступны для самостоятельного из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11240" y="1650960"/>
            <a:ext cx="6456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 увеличивают скорость внед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924200" y="179280"/>
            <a:ext cx="702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 СИСТЕМЫ 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16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"/>
          <p:cNvGrpSpPr/>
          <p:nvPr/>
        </p:nvGrpSpPr>
        <p:grpSpPr>
          <a:xfrm>
            <a:off x="4545000" y="3632040"/>
            <a:ext cx="4230720" cy="2971800"/>
            <a:chOff x="4545000" y="3632040"/>
            <a:chExt cx="4230720" cy="2971800"/>
          </a:xfrm>
        </p:grpSpPr>
        <p:sp>
          <p:nvSpPr>
            <p:cNvPr id="424" name=""/>
            <p:cNvSpPr/>
            <p:nvPr/>
          </p:nvSpPr>
          <p:spPr>
            <a:xfrm>
              <a:off x="5046840" y="4157640"/>
              <a:ext cx="3422520" cy="1434960"/>
            </a:xfrm>
            <a:custGeom>
              <a:avLst/>
              <a:gdLst/>
              <a:ahLst/>
              <a:rect l="l" t="t" r="r" b="b"/>
              <a:pathLst>
                <a:path w="2489" h="1078">
                  <a:moveTo>
                    <a:pt x="0" y="1078"/>
                  </a:moveTo>
                  <a:cubicBezTo>
                    <a:pt x="127" y="883"/>
                    <a:pt x="255" y="688"/>
                    <a:pt x="411" y="556"/>
                  </a:cubicBezTo>
                  <a:cubicBezTo>
                    <a:pt x="567" y="424"/>
                    <a:pt x="715" y="365"/>
                    <a:pt x="933" y="289"/>
                  </a:cubicBezTo>
                  <a:cubicBezTo>
                    <a:pt x="1151" y="213"/>
                    <a:pt x="1463" y="148"/>
                    <a:pt x="1722" y="100"/>
                  </a:cubicBezTo>
                  <a:cubicBezTo>
                    <a:pt x="1981" y="52"/>
                    <a:pt x="2361" y="17"/>
                    <a:pt x="2489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31040" y="5900760"/>
              <a:ext cx="5446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45000" y="3632040"/>
              <a:ext cx="474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41800" y="3909960"/>
              <a:ext cx="0" cy="214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41800" y="6039000"/>
              <a:ext cx="3603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600960" y="4427640"/>
              <a:ext cx="0" cy="160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057640" y="4456080"/>
              <a:ext cx="155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26000" y="56656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42000" y="4092480"/>
              <a:ext cx="3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16640" y="410364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80880" y="1112760"/>
            <a:ext cx="3966840" cy="2827440"/>
            <a:chOff x="380880" y="1112760"/>
            <a:chExt cx="3966840" cy="2827440"/>
          </a:xfrm>
        </p:grpSpPr>
        <p:sp>
          <p:nvSpPr>
            <p:cNvPr id="435" name=""/>
            <p:cNvSpPr/>
            <p:nvPr/>
          </p:nvSpPr>
          <p:spPr>
            <a:xfrm flipV="1">
              <a:off x="2734560" y="2009880"/>
              <a:ext cx="0" cy="1285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10960" y="3257640"/>
              <a:ext cx="536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880" y="1112760"/>
              <a:ext cx="46836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0120" y="1344600"/>
              <a:ext cx="0" cy="197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0120" y="3301920"/>
              <a:ext cx="338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6240" y="1754280"/>
              <a:ext cx="3084120" cy="1206360"/>
            </a:xfrm>
            <a:custGeom>
              <a:avLst/>
              <a:gdLst/>
              <a:ahLst/>
              <a:rect l="l" t="t" r="r" b="b"/>
              <a:pathLst>
                <a:path w="2444" h="936">
                  <a:moveTo>
                    <a:pt x="0" y="934"/>
                  </a:moveTo>
                  <a:cubicBezTo>
                    <a:pt x="231" y="935"/>
                    <a:pt x="462" y="936"/>
                    <a:pt x="655" y="845"/>
                  </a:cubicBezTo>
                  <a:cubicBezTo>
                    <a:pt x="848" y="754"/>
                    <a:pt x="1016" y="496"/>
                    <a:pt x="1155" y="389"/>
                  </a:cubicBezTo>
                  <a:cubicBezTo>
                    <a:pt x="1294" y="282"/>
                    <a:pt x="1363" y="250"/>
                    <a:pt x="1489" y="200"/>
                  </a:cubicBezTo>
                  <a:cubicBezTo>
                    <a:pt x="1615" y="150"/>
                    <a:pt x="1752" y="122"/>
                    <a:pt x="1911" y="89"/>
                  </a:cubicBezTo>
                  <a:cubicBezTo>
                    <a:pt x="2070" y="56"/>
                    <a:pt x="2257" y="28"/>
                    <a:pt x="2444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1920" y="16462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866520" y="2009880"/>
              <a:ext cx="1867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59600" y="16462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94156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522680" y="1217520"/>
            <a:ext cx="4267440" cy="2743200"/>
            <a:chOff x="4522680" y="1217520"/>
            <a:chExt cx="4267440" cy="2743200"/>
          </a:xfrm>
        </p:grpSpPr>
        <p:sp>
          <p:nvSpPr>
            <p:cNvPr id="446" name=""/>
            <p:cNvSpPr/>
            <p:nvPr/>
          </p:nvSpPr>
          <p:spPr>
            <a:xfrm>
              <a:off x="8213760" y="3309840"/>
              <a:ext cx="5763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22680" y="1217520"/>
              <a:ext cx="5032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49720" y="1438200"/>
              <a:ext cx="0" cy="188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49720" y="3305160"/>
              <a:ext cx="357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054760" y="1695240"/>
              <a:ext cx="3485880" cy="13525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19680" y="29512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800760" y="2371320"/>
              <a:ext cx="0" cy="933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057640" y="2371680"/>
              <a:ext cx="174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19680" y="20080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76560" y="20080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792000" y="3976560"/>
            <a:ext cx="420552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 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оектный опы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едметные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накопленные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17720" y="83664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МЕРЫ БЫСТРЫХ ВНЕД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47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1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472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4" name=""/>
          <p:cNvSpPr/>
          <p:nvPr/>
        </p:nvSpPr>
        <p:spPr>
          <a:xfrm>
            <a:off x="1382760" y="2633760"/>
            <a:ext cx="69501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,5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чет заработной плат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т О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63280" y="2117880"/>
            <a:ext cx="36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АО «Порт Перм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82760" y="5294160"/>
            <a:ext cx="6950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78040" y="477828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Мостоотряд №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82760" y="4322880"/>
            <a:ext cx="6950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логовый уч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64360" y="380700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ОАО «Камкаб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17720" y="83664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МЕРЫ БЫСТРЫХ ВНЕД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4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7" name=""/>
          <p:cNvSpPr/>
          <p:nvPr/>
        </p:nvSpPr>
        <p:spPr>
          <a:xfrm>
            <a:off x="1382760" y="2589120"/>
            <a:ext cx="69501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чет заработной плат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т О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ухгалтерский уч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44640" y="207324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ЖБК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82760" y="4659480"/>
            <a:ext cx="69501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чет заработной плат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т НД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34200" y="41432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ТД Сте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505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0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5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5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7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1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520" name=""/>
          <p:cNvSpPr/>
          <p:nvPr/>
        </p:nvSpPr>
        <p:spPr>
          <a:xfrm>
            <a:off x="749160" y="1150920"/>
            <a:ext cx="7791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ТОИМОСТЬ ПРОЕКТА И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728800" y="1913040"/>
            <a:ext cx="6276600" cy="4166640"/>
            <a:chOff x="2728800" y="1913040"/>
            <a:chExt cx="6276600" cy="4166640"/>
          </a:xfrm>
        </p:grpSpPr>
        <p:sp>
          <p:nvSpPr>
            <p:cNvPr id="522" name=""/>
            <p:cNvSpPr/>
            <p:nvPr/>
          </p:nvSpPr>
          <p:spPr>
            <a:xfrm>
              <a:off x="8156520" y="5074920"/>
              <a:ext cx="8488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28800" y="1913040"/>
              <a:ext cx="740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02800" y="2255760"/>
              <a:ext cx="0" cy="291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502800" y="5152680"/>
              <a:ext cx="523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68040" y="3328920"/>
              <a:ext cx="767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5720" y="3808080"/>
              <a:ext cx="767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34560" y="4252680"/>
              <a:ext cx="766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15600" y="5037120"/>
              <a:ext cx="768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85000" y="5037120"/>
              <a:ext cx="768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67680" y="5059080"/>
              <a:ext cx="766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3313800" y="2438280"/>
              <a:ext cx="5216400" cy="2989800"/>
              <a:chOff x="3313800" y="2438280"/>
              <a:chExt cx="5216400" cy="2989800"/>
            </a:xfrm>
          </p:grpSpPr>
          <p:sp>
            <p:nvSpPr>
              <p:cNvPr id="533" name=""/>
              <p:cNvSpPr/>
              <p:nvPr/>
            </p:nvSpPr>
            <p:spPr>
              <a:xfrm>
                <a:off x="4001040" y="2438280"/>
                <a:ext cx="4529160" cy="2322000"/>
              </a:xfrm>
              <a:custGeom>
                <a:avLst/>
                <a:gdLst/>
                <a:ahLst/>
                <a:rect l="l" t="t" r="r" b="b"/>
                <a:pathLst>
                  <a:path w="2268" h="1222">
                    <a:moveTo>
                      <a:pt x="0" y="0"/>
                    </a:moveTo>
                    <a:cubicBezTo>
                      <a:pt x="81" y="334"/>
                      <a:pt x="162" y="668"/>
                      <a:pt x="312" y="864"/>
                    </a:cubicBezTo>
                    <a:cubicBezTo>
                      <a:pt x="462" y="1060"/>
                      <a:pt x="698" y="1130"/>
                      <a:pt x="900" y="1176"/>
                    </a:cubicBezTo>
                    <a:cubicBezTo>
                      <a:pt x="1102" y="1222"/>
                      <a:pt x="1340" y="1186"/>
                      <a:pt x="1524" y="1140"/>
                    </a:cubicBezTo>
                    <a:cubicBezTo>
                      <a:pt x="1708" y="1094"/>
                      <a:pt x="1880" y="978"/>
                      <a:pt x="2004" y="900"/>
                    </a:cubicBezTo>
                    <a:cubicBezTo>
                      <a:pt x="2128" y="822"/>
                      <a:pt x="2198" y="747"/>
                      <a:pt x="2268" y="672"/>
                    </a:cubicBezTo>
                  </a:path>
                </a:pathLst>
              </a:custGeom>
              <a:noFill/>
              <a:ln w="101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3313800" y="3420360"/>
                <a:ext cx="4381560" cy="2007720"/>
                <a:chOff x="3313800" y="3420360"/>
                <a:chExt cx="4381560" cy="2007720"/>
              </a:xfrm>
            </p:grpSpPr>
            <p:sp>
              <p:nvSpPr>
                <p:cNvPr id="535" name=""/>
                <p:cNvSpPr/>
                <p:nvPr/>
              </p:nvSpPr>
              <p:spPr>
                <a:xfrm flipV="1">
                  <a:off x="4443480" y="3837240"/>
                  <a:ext cx="0" cy="12841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69240" y="478548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3493080" y="3794760"/>
                  <a:ext cx="96480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313800" y="342036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313800" y="434880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313800" y="405216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269240" y="342972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"/>
                <p:cNvGrpSpPr/>
                <p:nvPr/>
              </p:nvGrpSpPr>
              <p:grpSpPr>
                <a:xfrm>
                  <a:off x="6022800" y="4353480"/>
                  <a:ext cx="393480" cy="1073880"/>
                  <a:chOff x="6022800" y="4353480"/>
                  <a:chExt cx="393480" cy="1073880"/>
                </a:xfrm>
              </p:grpSpPr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6035400" y="4703760"/>
                    <a:ext cx="368280" cy="723600"/>
                    <a:chOff x="6035400" y="4703760"/>
                    <a:chExt cx="368280" cy="72360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6216120" y="4703760"/>
                      <a:ext cx="0" cy="45036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6035400" y="4784760"/>
                      <a:ext cx="36828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"/>
                  <p:cNvSpPr/>
                  <p:nvPr/>
                </p:nvSpPr>
                <p:spPr>
                  <a:xfrm>
                    <a:off x="6022800" y="4353480"/>
                    <a:ext cx="393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7327080" y="4055040"/>
                  <a:ext cx="368280" cy="1372680"/>
                  <a:chOff x="7327080" y="4055040"/>
                  <a:chExt cx="368280" cy="13726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flipV="1">
                    <a:off x="7503120" y="4444920"/>
                    <a:ext cx="0" cy="69804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7327080" y="4785120"/>
                    <a:ext cx="368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327080" y="4055040"/>
                    <a:ext cx="368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" name=""/>
                <p:cNvSpPr/>
                <p:nvPr/>
              </p:nvSpPr>
              <p:spPr>
                <a:xfrm flipH="1" flipV="1">
                  <a:off x="3492720" y="4431240"/>
                  <a:ext cx="401004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3518280" y="4713840"/>
                  <a:ext cx="270540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3" name=""/>
          <p:cNvSpPr/>
          <p:nvPr/>
        </p:nvSpPr>
        <p:spPr>
          <a:xfrm>
            <a:off x="372960" y="2052720"/>
            <a:ext cx="24336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7956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КОРОСТЬ ВНЕДРЕНИЯ ИС - КРИТЕРИЙ ПОЛУЧЕНИЯ ЗАК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3320" y="2782800"/>
            <a:ext cx="700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валификационные критерии И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81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" name=""/>
          <p:cNvSpPr/>
          <p:nvPr/>
        </p:nvSpPr>
        <p:spPr>
          <a:xfrm>
            <a:off x="1382760" y="3171960"/>
            <a:ext cx="695016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хнологи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ибк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пешная ист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558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6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8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5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0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7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573" name=""/>
          <p:cNvSpPr/>
          <p:nvPr/>
        </p:nvSpPr>
        <p:spPr>
          <a:xfrm>
            <a:off x="233280" y="901800"/>
            <a:ext cx="8737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ТОИМОСТЬ ВЛАДЕНИЯ СИСТЕ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21120" y="5219640"/>
            <a:ext cx="57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оимость владения ИС при внедр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- Исполнителем; 2 - Заказчи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- Исполнителем и далее Заказч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805120" y="1471680"/>
            <a:ext cx="5676840" cy="3768480"/>
            <a:chOff x="2805120" y="1471680"/>
            <a:chExt cx="5676840" cy="3768480"/>
          </a:xfrm>
        </p:grpSpPr>
        <p:sp>
          <p:nvSpPr>
            <p:cNvPr id="576" name=""/>
            <p:cNvSpPr/>
            <p:nvPr/>
          </p:nvSpPr>
          <p:spPr>
            <a:xfrm>
              <a:off x="7745400" y="4400640"/>
              <a:ext cx="73656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2805120" y="1471680"/>
              <a:ext cx="5487840" cy="2963880"/>
              <a:chOff x="2805120" y="1471680"/>
              <a:chExt cx="5487840" cy="2963880"/>
            </a:xfrm>
          </p:grpSpPr>
          <p:sp>
            <p:nvSpPr>
              <p:cNvPr id="578" name=""/>
              <p:cNvSpPr/>
              <p:nvPr/>
            </p:nvSpPr>
            <p:spPr>
              <a:xfrm>
                <a:off x="2805120" y="1471680"/>
                <a:ext cx="64260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 Cyr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477240" y="1736640"/>
                <a:ext cx="0" cy="269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477240" y="4422600"/>
                <a:ext cx="4815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3477240" y="1927080"/>
                <a:ext cx="4294080" cy="192240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3477240" y="3160440"/>
                <a:ext cx="4255920" cy="6886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461920" y="2584440"/>
                <a:ext cx="2290320" cy="387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801200" y="162396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813440" y="227160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09840" y="28465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5191200" y="4395960"/>
              <a:ext cx="73656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 Cyr"/>
                </a:rPr>
                <a:t>п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24400" y="407196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19720" y="256536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31040" y="2927520"/>
              <a:ext cx="0" cy="1488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754200" y="2548080"/>
            <a:ext cx="2433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17720" y="1103400"/>
            <a:ext cx="63691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НЕОБХОДИМО ДЛЯ ВНЕДРЕНИЯ ИС ЗАКАЗ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6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607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9" name=""/>
          <p:cNvSpPr/>
          <p:nvPr/>
        </p:nvSpPr>
        <p:spPr>
          <a:xfrm>
            <a:off x="1382760" y="3014640"/>
            <a:ext cx="69501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ладение современными 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ния в предметных обл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варительное изучение ИС Капит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ффективная организация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ЛИЧЕНИЯ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6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4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625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7" name=""/>
          <p:cNvSpPr/>
          <p:nvPr/>
        </p:nvSpPr>
        <p:spPr>
          <a:xfrm>
            <a:off x="1382760" y="2595600"/>
            <a:ext cx="69501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нение новых 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инструментальных средств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стемы Капит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тимизация существующи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новы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71200" y="202572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Тех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49600" y="474516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Метод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376280" y="5227560"/>
            <a:ext cx="695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ражирование предметн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ражирование проект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635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3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6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7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4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650" name=""/>
          <p:cNvSpPr/>
          <p:nvPr/>
        </p:nvSpPr>
        <p:spPr>
          <a:xfrm>
            <a:off x="233280" y="901800"/>
            <a:ext cx="8737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АУТСОРС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25680" y="5372280"/>
            <a:ext cx="544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оимость владения 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 внедрении и сопровожд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- Исполнителем; 2 - Заказч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776680" y="1420920"/>
            <a:ext cx="5956200" cy="3977640"/>
            <a:chOff x="2776680" y="1420920"/>
            <a:chExt cx="5956200" cy="3977640"/>
          </a:xfrm>
        </p:grpSpPr>
        <p:sp>
          <p:nvSpPr>
            <p:cNvPr id="653" name=""/>
            <p:cNvSpPr/>
            <p:nvPr/>
          </p:nvSpPr>
          <p:spPr>
            <a:xfrm>
              <a:off x="7996320" y="4559040"/>
              <a:ext cx="73656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76680" y="1420920"/>
              <a:ext cx="6429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449880" y="1719000"/>
              <a:ext cx="0" cy="287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449880" y="4581360"/>
              <a:ext cx="507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3449880" y="2877480"/>
              <a:ext cx="1346040" cy="1339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467160" y="1899720"/>
              <a:ext cx="4691160" cy="231732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232840" y="2211120"/>
              <a:ext cx="3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23480" y="1669680"/>
              <a:ext cx="3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768920" y="2442600"/>
              <a:ext cx="3399120" cy="4518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10360" y="4554360"/>
              <a:ext cx="73656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 Cyr"/>
                </a:rPr>
                <a:t>з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99360" y="423036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92880" y="253188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86560" y="2925360"/>
              <a:ext cx="0" cy="1649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773280" y="2548080"/>
            <a:ext cx="2433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17720" y="998640"/>
            <a:ext cx="3822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УТСОРС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68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682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84" name=""/>
          <p:cNvSpPr/>
          <p:nvPr/>
        </p:nvSpPr>
        <p:spPr>
          <a:xfrm>
            <a:off x="1382760" y="4262400"/>
            <a:ext cx="695016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нижение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нижение рисков, связанных с изменениям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предметных обл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влечение дополнительной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768680" y="369252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Досто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792440" y="1900080"/>
            <a:ext cx="21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376280" y="2382840"/>
            <a:ext cx="69534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ложнение коммуник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ереквалификация сотрудников служб 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ЕЗЮ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9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7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2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703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05" name=""/>
          <p:cNvSpPr/>
          <p:nvPr/>
        </p:nvSpPr>
        <p:spPr>
          <a:xfrm>
            <a:off x="1382760" y="1601640"/>
            <a:ext cx="7532640" cy="51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 - критерий получения за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кторы, влияющие на С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ыт реализации крупных проек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ния в предметных областя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зовые решения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величение С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особствует уменьшению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ектных затр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Геликон Про обладает возможностям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практическим опытом быстрых внед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Геликон Про готова оказывать услуги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утсорси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1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71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0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721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3" name=""/>
          <p:cNvSpPr/>
          <p:nvPr/>
        </p:nvSpPr>
        <p:spPr>
          <a:xfrm>
            <a:off x="1879560" y="1246320"/>
            <a:ext cx="709308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Федосеев Серг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ректор по внедрению 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886040" y="3960720"/>
            <a:ext cx="702144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тел.: (3422) 103-101, 103-178, 103-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88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9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9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0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3" name=""/>
          <p:cNvSpPr/>
          <p:nvPr/>
        </p:nvSpPr>
        <p:spPr>
          <a:xfrm>
            <a:off x="392040" y="1093680"/>
            <a:ext cx="5985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ТАПЫ РАЗВИТИЯ СИСТЕМЫ КАПИТАЛ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35320" y="2357280"/>
            <a:ext cx="5868720" cy="3797280"/>
            <a:chOff x="2335320" y="2357280"/>
            <a:chExt cx="5868720" cy="3797280"/>
          </a:xfrm>
        </p:grpSpPr>
        <p:sp>
          <p:nvSpPr>
            <p:cNvPr id="105" name=""/>
            <p:cNvSpPr/>
            <p:nvPr/>
          </p:nvSpPr>
          <p:spPr>
            <a:xfrm>
              <a:off x="6735600" y="5526000"/>
              <a:ext cx="14684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кор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нед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35320" y="2357280"/>
              <a:ext cx="152856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ешенные задач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21120" y="2467080"/>
              <a:ext cx="0" cy="29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21120" y="5442120"/>
              <a:ext cx="3459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64040" y="5533920"/>
              <a:ext cx="113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Низ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49960" y="5533920"/>
              <a:ext cx="1353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ысо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21120" y="302580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1120" y="421956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5080" y="302580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40240" y="302580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71720" y="3444840"/>
              <a:ext cx="9921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76400" y="4649760"/>
              <a:ext cx="9921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а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630680" y="3654360"/>
              <a:ext cx="0" cy="1152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64240" y="3654360"/>
              <a:ext cx="1241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АВИЛО ПАРЕ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86040" y="2381400"/>
            <a:ext cx="70088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решение 80% задач тратится 20% ресурсов проекта. Оставшихся 80% ресурсов проекта тратится на 20%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шение 80% задач позволяет начать промышленную эксплуатацию системы, но не приводит к формальному завершению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78120" y="1633680"/>
            <a:ext cx="574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80х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137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АКТОРЫ, ОПРЕДЕЛЯЮЩИЕ СКОРОСТЬ ВНЕДРЕНИЯ 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С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154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6" name=""/>
          <p:cNvSpPr/>
          <p:nvPr/>
        </p:nvSpPr>
        <p:spPr>
          <a:xfrm>
            <a:off x="1382760" y="2916360"/>
            <a:ext cx="69501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ыт крупных проектов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roject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ния в предметных областях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nowl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я прикладных задач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4591080"/>
            <a:ext cx="481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 Cyr"/>
              </a:rPr>
              <a:t>v=f(p, k, s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162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66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1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4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77" name=""/>
          <p:cNvSpPr/>
          <p:nvPr/>
        </p:nvSpPr>
        <p:spPr>
          <a:xfrm>
            <a:off x="531720" y="1093680"/>
            <a:ext cx="8194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ВИСИМОСТЬ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 ПРОЕКТНОГО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830680" y="2452680"/>
            <a:ext cx="6009840" cy="3867120"/>
            <a:chOff x="2830680" y="2452680"/>
            <a:chExt cx="6009840" cy="3867120"/>
          </a:xfrm>
        </p:grpSpPr>
        <p:sp>
          <p:nvSpPr>
            <p:cNvPr id="179" name=""/>
            <p:cNvSpPr/>
            <p:nvPr/>
          </p:nvSpPr>
          <p:spPr>
            <a:xfrm>
              <a:off x="8028000" y="5386320"/>
              <a:ext cx="81252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30680" y="2452680"/>
              <a:ext cx="7092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73360" y="2770200"/>
              <a:ext cx="0" cy="270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3360" y="5442120"/>
              <a:ext cx="501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79840" y="3328920"/>
              <a:ext cx="4673520" cy="1652760"/>
            </a:xfrm>
            <a:custGeom>
              <a:avLst/>
              <a:gdLst/>
              <a:ahLst/>
              <a:rect l="l" t="t" r="r" b="b"/>
              <a:pathLst>
                <a:path w="2444" h="936">
                  <a:moveTo>
                    <a:pt x="0" y="934"/>
                  </a:moveTo>
                  <a:cubicBezTo>
                    <a:pt x="231" y="935"/>
                    <a:pt x="462" y="936"/>
                    <a:pt x="655" y="845"/>
                  </a:cubicBezTo>
                  <a:cubicBezTo>
                    <a:pt x="848" y="754"/>
                    <a:pt x="1016" y="496"/>
                    <a:pt x="1155" y="389"/>
                  </a:cubicBezTo>
                  <a:cubicBezTo>
                    <a:pt x="1294" y="282"/>
                    <a:pt x="1363" y="250"/>
                    <a:pt x="1489" y="200"/>
                  </a:cubicBezTo>
                  <a:cubicBezTo>
                    <a:pt x="1615" y="150"/>
                    <a:pt x="1752" y="122"/>
                    <a:pt x="1911" y="89"/>
                  </a:cubicBezTo>
                  <a:cubicBezTo>
                    <a:pt x="2070" y="56"/>
                    <a:pt x="2257" y="28"/>
                    <a:pt x="2444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92000" y="3252960"/>
            <a:ext cx="24339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оек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оп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189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9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1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04" name=""/>
          <p:cNvSpPr/>
          <p:nvPr/>
        </p:nvSpPr>
        <p:spPr>
          <a:xfrm>
            <a:off x="617400" y="865080"/>
            <a:ext cx="80931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ВИСИМОСТЬ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ОБЪЕМА ПРЕДМЕТ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843280" y="2549520"/>
            <a:ext cx="5994360" cy="4149720"/>
            <a:chOff x="2843280" y="2549520"/>
            <a:chExt cx="5994360" cy="4149720"/>
          </a:xfrm>
        </p:grpSpPr>
        <p:sp>
          <p:nvSpPr>
            <p:cNvPr id="206" name=""/>
            <p:cNvSpPr/>
            <p:nvPr/>
          </p:nvSpPr>
          <p:spPr>
            <a:xfrm>
              <a:off x="8026560" y="5732280"/>
              <a:ext cx="81108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43280" y="2549520"/>
              <a:ext cx="7081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83080" y="2877840"/>
              <a:ext cx="0" cy="28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83080" y="5648040"/>
              <a:ext cx="500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591000" y="3258720"/>
              <a:ext cx="4896000" cy="20113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58800" y="3309840"/>
            <a:ext cx="24336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216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2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2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8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3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1" name=""/>
          <p:cNvSpPr/>
          <p:nvPr/>
        </p:nvSpPr>
        <p:spPr>
          <a:xfrm>
            <a:off x="582480" y="903240"/>
            <a:ext cx="8002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ВИСИМОСТЬ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КОЛИЧЕСТВА РЕШЕННЫХ ПРИКЛАДНЫХ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957400" y="2598840"/>
            <a:ext cx="5711400" cy="3849120"/>
            <a:chOff x="2957400" y="2598840"/>
            <a:chExt cx="5711400" cy="3849120"/>
          </a:xfrm>
        </p:grpSpPr>
        <p:sp>
          <p:nvSpPr>
            <p:cNvPr id="233" name=""/>
            <p:cNvSpPr/>
            <p:nvPr/>
          </p:nvSpPr>
          <p:spPr>
            <a:xfrm>
              <a:off x="7895880" y="5519520"/>
              <a:ext cx="77292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57400" y="2598840"/>
              <a:ext cx="6746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61920" y="2914560"/>
              <a:ext cx="0" cy="269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61920" y="5573520"/>
              <a:ext cx="476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9040" y="3105000"/>
              <a:ext cx="4522680" cy="1891800"/>
            </a:xfrm>
            <a:custGeom>
              <a:avLst/>
              <a:gdLst/>
              <a:ahLst/>
              <a:rect l="l" t="t" r="r" b="b"/>
              <a:pathLst>
                <a:path w="2489" h="1078">
                  <a:moveTo>
                    <a:pt x="0" y="1078"/>
                  </a:moveTo>
                  <a:cubicBezTo>
                    <a:pt x="127" y="883"/>
                    <a:pt x="255" y="688"/>
                    <a:pt x="411" y="556"/>
                  </a:cubicBezTo>
                  <a:cubicBezTo>
                    <a:pt x="567" y="424"/>
                    <a:pt x="715" y="365"/>
                    <a:pt x="933" y="289"/>
                  </a:cubicBezTo>
                  <a:cubicBezTo>
                    <a:pt x="1151" y="213"/>
                    <a:pt x="1463" y="148"/>
                    <a:pt x="1722" y="100"/>
                  </a:cubicBezTo>
                  <a:cubicBezTo>
                    <a:pt x="1981" y="52"/>
                    <a:pt x="2361" y="17"/>
                    <a:pt x="2489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01560" y="3252960"/>
            <a:ext cx="24336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накоп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ОПЫТ РЕАЛИЗАЦИИ КРУП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3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254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"/>
          <p:cNvSpPr/>
          <p:nvPr/>
        </p:nvSpPr>
        <p:spPr>
          <a:xfrm>
            <a:off x="1382760" y="4010040"/>
            <a:ext cx="69501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«ЛУКОЙЛ-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энер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Камкаб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тоотряд №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тури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орт 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86040" y="2730600"/>
            <a:ext cx="7008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нией Геликон Про реализовано более 20 крупных проектов, в том числе на таких предприятиях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11240" y="212256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Чем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fsa</cp:lastModifiedBy>
  <cp:lastPrinted>2003-12-07T15:18:39Z</cp:lastPrinted>
  <dcterms:modified xsi:type="dcterms:W3CDTF">2003-12-07T15:20:21Z</dcterms:modified>
  <cp:revision>432</cp:revision>
  <dc:subject/>
  <dc:title>Слайд 1</dc:title>
</cp:coreProperties>
</file>