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11955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19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555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3003480" cy="555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69440" y="923400"/>
            <a:ext cx="591516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1366280"/>
            <a:ext cx="3003480" cy="554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b">
            <a:noAutofit/>
          </a:bodyPr>
          <a:lstStyle>
            <a:lvl1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0920" y="11366280"/>
            <a:ext cx="3003480" cy="554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b">
            <a:noAutofit/>
          </a:bodyPr>
          <a:lstStyle>
            <a:lvl1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BA12C00D-FA97-4D08-831D-1FF2BF67B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обрый день, уважаемые дамы и господа, меня зовут Герасимов Сергей, я являюсь ведущим специалистом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АО «Геликон Про»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по автоматизации финансового планирования и бюджетирова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ма моего доклада «Автоматизация финансового планирования в ОАО «Пермэнерго»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начале марта этого года перед нами была поставлена задача автоматизации бюджетного процесса в ОАО «Пермэнерго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о внедрения нашей системы в ОАО «Пермэнерго» составление бюджетов всех филиалов (а их 30) производилось в электронных таблицах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о при таком подходе имелись существенные проблем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)Во-первых. Нужно сказать, что планирование в ОАО «Пермэнерго» проводится на квартал, отчеты об исполнении собираются раз в меся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перь посчитаем: по 4 файла на каждый филиал (1 файл – план на квартал, 3 файла – факт за каждый месяц квартала). Филиалов 30, получаем 120 файлов. И это за один бюджетный период. Если взять период – год, то получается уже 480 файлов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Довольно сложно было оперировать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таким количеством файлов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К этому нужно еще добавить то, что каждый файл постоянно корректировался (создавались версии файлов), соответственно количество файлов росло просто в геометрической прогрессии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2)Во-вторых, нельзя было быть уверенным в том, что консолидированный бюджет содержит в себе актуальные суммы бюджетов филиалов (бюджеты подразделений постоянно корректировались, причем в файлах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естественно никакой истории изменений не хранится и восстановить утерянную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нформацию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е представлялось никакой возможности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3)В третьих, очень большие проблемы возникали при изменении структуры статей бюджета (представьте: при добавлении или удалении одной статьи требовалось вносить изменения в 120 файлов, но даже не в этом проблема – основная проблема при изменении структуры бюджета была в том, что очень часто терялись некоторые суммы бюджетов и отследить это было просто невозможно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з-за большого количества файл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4)В четвертых,  главная проблема заключалась в следующем. После того, как бюджетный отдел Исполнительного Аппарата (управляющей компании) получил от каждого филиала по файлу с бюджетом (30 файлов) и собрал консолидированный бюджет Общества, проводилась корректировка бюджета. Причем в корректировке участвовали порядка 12 отделов и служб Исполнительного Аппарата (каждый отдел отвечает за свои статьи бюджета). Сотрудники бюджетного отдела из 30 файлов с бюджетами филиалов вручную формировали 12 файлов для каждого отдела (в течении 3 недель!!!). Отделы корректировали суммы. Но потом эти откорректированные отделами суммы уже не попадали в файлы с бюджетами филиалов, т.к. это было слишком трудоемко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енно, получалось парадоксальная ситуация – филиалы прислали свои первоначальные планы в управляющую компанию (в Исполнительный Аппарата ОАО «Пермэнерго»), затем эти данные хотя и долго, но  корректировались внутри Исполнительного Аппарата, но филиалы эти откорректированные планы не получали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ля решения этих и ряда других проблем было решено внедрить подсистему «Финансовое планирование» системы «Капитал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SE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данной подсистемы в части базовой функциональности было произведено за 3 месяц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«Определение структуры статей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производится во вкладке «Структура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татей бюджета имеет древовидную структуру произвольного уровня влож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каждая статья бюджета может быть задана в определенном пери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Конструктор бюджетов» позволяет также «определять показатели бюджета» (т.е. столбцы бюдже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показателей задается во вкладке «Показатели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ь бюджета может иметь разный тип (План, Факт, Прогноз), для него может быть задан разный тип финансовых средств (деньги, векселя,…), а также у него могут быть разные единицы изме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также проводится «Настройка прав на ячейки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а производится во вкладке «Элементы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каждой ячейки бюджета можно задать права определенным пользов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 права можно дать на «Просмотр», «Добавление», «Изменение», «Удаление» суммы ячей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например, можно дать права сотруднику определенного отдела только на «свои» статьи, причем, например, по плану дать полный доступ (на просмотр, добавление, изменение, удаление), а по факту дать доступ только на просмотр (или вообще не дава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же в модуле «Конструктор бюджетов» для каждого отдела Исполнительного Аппарата (для каждого Центра Финансового Учета) определяется набор статей, за которые отвечает данный от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набора статей для отделов (Центров Финансового Учета) производится во вкладке «Макеты ЦФО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исунке приведен пример набора статей для Центра Финансового Учета – Топливно-транспортная служб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й отдел отвечает за 8 статей:  Уголь, Мазут, Газ, Прочие виды топлива, ГСМ, Услуги 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а, услуги автотранспорта, приобретение лицензий, пропусков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йдем теперь к рассмотрению функциональности следующего модуля – «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редназначен, как я уже говорил выше, для непосредственной работы с суммами бюдж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АО «Пермэнерго» в модуле «Планирование» выполняются следующие этапы бюджетного процес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ервоначальных план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вод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тировка первоначальных планов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отчета об исполнени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1-ый этап - «Формирование первоначальных планов филиал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структура сводного бюджета предприятия делится на три основных бюджета: Операционный, Инвестиционный и Финансовы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нашего доклада мы акцентируем внимание на финансовом бюджете, а именно на бюджете движения денежных средств, поскольку в Пермэнерго используется именно этот бюдж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движения движения денежных средств представляет собой отток и приток денежных средств за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о может производится непосредственно в модуле «Планирование», путем занесения плановых сумм по филиалам за пери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обратите внимание, у каждой статьи есть две строчки: верхняя – для сумм, запланированных «сверху» (используется при планировании «сверху»), нижняя – для сумм, запланированных «снизу» (используется при планировании «сниз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формировании первоначальных планов филиалов суммы заносятся в суммы, запланированные «снизу» (т.к. на данном этапе происходит планирование «сниз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ервоначальных планов филиалов также может производится путем загрузки данных из файл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филиал заполняет свой файл (со своим бюджетом) и отправляет его в Бюджетный отдел Исполнительного Аппарата по электронной поч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этап бюджетного процесса данного предприятия, который производится в модуле «Планирование», - это «Формирование сводного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епосредственно ввода в модуле или загрузки бюджетов филиалов из файл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модуле «Планирование» содержится сводный бюджет в разрезе фил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сумма сводного бюджета по статье «Культурно-массовые мероприятия» 251 детализируется по филиалам (см. рис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Планирование» проходит также этап «Корректировки первоначальных планов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разбивается на два этапа: корректировка «сверху» руководством и корректировка «снизу» Центрами Финансов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руководство корректирует «сверху» цифры сводного бюджета (т.е., например, урезает сумму по статье «ГСМ» сразу на все филиалы), а Центры Финансового Учета уже корректируют «снизу» суммы бюджетов филиалов так, чтобы общая сумма по всем филиалам по этой статье не превосходила спущенной сверху руко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тировка «сверху» выполняется в модуле «Планирование», причем сумма заносится в верхнюю сумму статьи (т.к. происходит планирование «сверх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о статье «ГСМ» снизу филиалами было запланировано 230 (это на все филиалы), а руководство урезало эту сумму,  и запланировало «сверху» меньшую сумму – 200 (т.е. 200 дало в целом на все филиал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производится корректировка «снизу» центрами финансового учета своих ста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ы корректируют суммы «снизу» по филиалам так, чтобы в общем эти суммы были равны той общей, заданной «сверху» руко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м случает Топливно-транспортная служба урезает свою статью «ГСМ» с 230 до 2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сумма «снизу» после корректировки становится равной сумме «свер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ую корректировку можно проводить как непосредственно в модуле «Планирование» во вкладке «Макет ЦФО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путем загрузки из фай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ждого Центра Финансового Учета создается свой файл, они производят корректировку в нем (по филиалам) и затем откорректированные планы загружаются в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ведения корректировки бюджета следует этап «Утверждение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ведения корректировки «снизу» Центрами Финансового Учета сотрудники, ответственные за те или иные статьи, проверяют их и если они откорректированы правильно, то закрывают их для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начальник Топливно-транспортной службы может проверить свою статью «ГСМ» и, если сумма «снизу» сходится с суммой «сверху», спущенной руководством), то закрывает ее для изменения – устанавливает статус статьи «Статья согласован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утверждаются все статьи бюджета за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ОАО «Пермэнерго» в процессе бюджетирования выглядит следующим обр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остоит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го отдела Исполнительного Аппарата (Управляющей компании ОАО «Пермэнерго»). В этом отделе собираются бюджеты всех филиалов и отчеты об их исполн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ов Исполнительного Аппарата (Центров Финансового Учета - сокращенно ЦФУ). Каждый ЦФУ отвечает за свои статьи сводного бюджета (в разрезе фил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-ти филиалов, которые составляют каждый свой бюджет, которые потом консолидируются в сводный бюдже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Планирование» происходит также этап «формирования отчета об исполнении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может производится путем занесения сумм об исполнении бюджетов филиалов как непосредственно  в модуле «Планирование»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’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ских файлах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филиал присылает по почте заполненный файл с фактическим исполнением бюджета, который потом загружается в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пособ более удобен, поскольку филиалы территориально уда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дсистеме «Финансовое планирование» реализован большой блок от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астности, на данном слайде представлены отчеты, касающиеся пл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едующем слайде представлены отчеты, касающиеся отчетов об исполнении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ом слайде представлены план-фактные отчеты – отчеты, позволяющие увидеть одновременно и план и факт бюджета. Данные отчеты используются для анали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ы, получаемые в подсистеме «Финансовое планирование», можно не только распечатать, но и выгрузить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дополнительной обраб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Итак, что же получило предприятие ОАО «Пермэнерго» после внедрения данной подсистемы «Финансовое 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1.Быстрый сбор консолидированного бюджета на основе первоначальных планов филиалов (1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2.Быстрая и качественная корректировка первоначальных планов филиалов отделами управляющей компании (Центрами Финансового Учета) (3-4 д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3.Получение филиалами откорректированных бюджетов (на следующий день после корректиров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4.Ежемесячный контроль за исполнением бюджет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5.Хранение любых изменений сумм бюджетов всех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6.Возможность получения информации о бюджетном процессе в режиме реаль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7.Автоматизация сбора информации о фактическом исполнении бюджета на основе данных бухгалтерского у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 доклад законч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бюджетного процесса ОАО «Пермэнерго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юджета, которое подразделяется на ряд подэтап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Формирование свод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Корректировка первоначальных 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Утвержд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3. Формирование отчета об исполнени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ся с терм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в представляет из себя таблиц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ертикали идут статьи бюджета (строки табл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горизонтали идут показатели бюджета (столбцы табл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показателей в бюджете может быть много, и они могут быть разного типа: плановые, фактические, прогноз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в этом бюджете 4 плановых показателя и 5 – фактичес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ересечении статьи и показателя (строки и столбца) лежит ячейка бюдже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рисунке приведен пример ячейки бюджета на пересечении статьи «Поступления от реализации продукции, работ, услуг промышленного характера» и показателя «Расчеты за счет собственных средств филиал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чейка бюджета может иметь сумму, в данном случае она равна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истема «Финансовое планирование» в нашей системе состоит из двух модулей: модуль «Конструктор бюджетов» и модуль «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задается структура бюджета, а в модуле «Планирование» идет работа непосредственно с суммами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одробнее каждый из этих моду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производи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статей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казателей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ройка прав на ячейк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набора статей для каждого отдела Исполнительного Аппарата (для каждого Центра Финансового Уч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449-F999-4F85-8BC7-39BB2CD1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01A-70DB-4521-8623-EEE48B4B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2F1-5662-40D6-91F2-829CAD43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875-1A13-4E4D-A23F-7F8B7588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C06-1D30-415A-A169-D827C2D7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E2D-64F3-4DF2-B65D-CDAD127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965-6DF6-4697-9785-E1AAFD7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8AC-681D-4B45-B176-53377E3A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11B-26F1-46D1-BF4A-34193A58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42C-DD8C-46C4-9327-73377C07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1B5-69BA-4BC3-A3C8-BD6056C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3E4-43E0-4487-A834-F351579E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D0E6-DD26-43DF-852F-A307D1026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430360"/>
            <a:ext cx="5238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ТОМАТИЗАЦИЯ ФИНАНСОВОГО ПЛАН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ОАО «Пермэнер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ергей Гераси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07960" y="2631960"/>
            <a:ext cx="3086280" cy="183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СТРУКТУРЫ СТАТ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Конструктор%20бюджетов%20Структура" descr=""/>
          <p:cNvPicPr/>
          <p:nvPr/>
        </p:nvPicPr>
        <p:blipFill>
          <a:blip r:embed="rId2"/>
          <a:stretch/>
        </p:blipFill>
        <p:spPr>
          <a:xfrm>
            <a:off x="582480" y="1287360"/>
            <a:ext cx="8007480" cy="4888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17680" y="1832040"/>
            <a:ext cx="736560" cy="25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6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КАЗАТЕЛ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8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Конструктор%20бюджетов%20Показатели" descr=""/>
          <p:cNvPicPr/>
          <p:nvPr/>
        </p:nvPicPr>
        <p:blipFill>
          <a:blip r:embed="rId2"/>
          <a:stretch/>
        </p:blipFill>
        <p:spPr>
          <a:xfrm>
            <a:off x="569880" y="1295280"/>
            <a:ext cx="8028000" cy="4878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03480" y="1846440"/>
            <a:ext cx="736560" cy="250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СТРОЙКА ПРАВ НА ЯЧЕЙК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2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Конструктор%20бюджетов%20Элементы" descr=""/>
          <p:cNvPicPr/>
          <p:nvPr/>
        </p:nvPicPr>
        <p:blipFill>
          <a:blip r:embed="rId2"/>
          <a:stretch/>
        </p:blipFill>
        <p:spPr>
          <a:xfrm>
            <a:off x="561960" y="1292400"/>
            <a:ext cx="8016840" cy="4887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71640" y="1846440"/>
            <a:ext cx="736560" cy="250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3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7348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848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51800" y="3881520"/>
            <a:ext cx="222084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НАБОРА СТАТЕЙ ДЛЯ КАЖДОГО ОТДЕЛА (ЦФ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5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Конструктор%20бюджетов%20Макет%20ЦФУ%20ТТС" descr=""/>
          <p:cNvPicPr/>
          <p:nvPr/>
        </p:nvPicPr>
        <p:blipFill>
          <a:blip r:embed="rId2"/>
          <a:stretch/>
        </p:blipFill>
        <p:spPr>
          <a:xfrm>
            <a:off x="558720" y="1295280"/>
            <a:ext cx="8032680" cy="4875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522520" y="1852560"/>
            <a:ext cx="792360" cy="25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7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7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929040"/>
            <a:ext cx="2673360" cy="12430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РУКТУРА СВОДНОГО БЮДЖЕТА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3681360" y="1197000"/>
            <a:ext cx="2503440" cy="91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вод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760" y="1195560"/>
            <a:ext cx="9144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0-о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" y="2959200"/>
            <a:ext cx="890640" cy="58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1-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0320" y="5154480"/>
            <a:ext cx="8445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2-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916360"/>
            <a:ext cx="2262240" cy="9172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Операционный б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9960" y="2903400"/>
            <a:ext cx="2586240" cy="91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нвестицио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00880" y="2916360"/>
            <a:ext cx="2020680" cy="9172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Финансов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28600" y="5119560"/>
            <a:ext cx="2224080" cy="13622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огноз отчета о прибылях и убы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1960" y="5081760"/>
            <a:ext cx="2173320" cy="14000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Бюджет движения денеж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50120" y="5094360"/>
            <a:ext cx="2109600" cy="138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Бюджет по балансовому л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362320" y="2136600"/>
            <a:ext cx="2481120" cy="67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61080" y="2112840"/>
            <a:ext cx="28440" cy="7113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0680" y="2128680"/>
            <a:ext cx="2527200" cy="6796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96800" y="3873600"/>
            <a:ext cx="5143320" cy="11206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024520" y="3844800"/>
            <a:ext cx="2427120" cy="109404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6040" y="3832200"/>
            <a:ext cx="3240" cy="11764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ПЕРВОНАЧАЛЬНЫХ ПЛАНОВ ФИЛИАЛОВ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ланирование%20Статьи%20бюджета" descr=""/>
          <p:cNvPicPr/>
          <p:nvPr/>
        </p:nvPicPr>
        <p:blipFill>
          <a:blip r:embed="rId2"/>
          <a:stretch/>
        </p:blipFill>
        <p:spPr>
          <a:xfrm>
            <a:off x="577800" y="1254240"/>
            <a:ext cx="8029800" cy="493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649840" y="2921040"/>
            <a:ext cx="2360520" cy="12826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96080" y="3154320"/>
            <a:ext cx="704880" cy="409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ПЕРВОНАЧАЛЬНЫХ ПЛАНОВ ФИЛИАЛОВ 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ЙЛАХ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55480" y="1292400"/>
            <a:ext cx="8061480" cy="4894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19000" y="2211480"/>
            <a:ext cx="1528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4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5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СВОДНОГО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7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Проект%20консолидированного%20бюджета" descr=""/>
          <p:cNvPicPr/>
          <p:nvPr/>
        </p:nvPicPr>
        <p:blipFill>
          <a:blip r:embed="rId2"/>
          <a:stretch/>
        </p:blipFill>
        <p:spPr>
          <a:xfrm>
            <a:off x="577800" y="1268280"/>
            <a:ext cx="8020080" cy="4923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454800" y="2976480"/>
            <a:ext cx="2004840" cy="15289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954840" y="3251160"/>
            <a:ext cx="792000" cy="250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30240" y="4440240"/>
            <a:ext cx="4802400" cy="1447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978160" y="3429000"/>
            <a:ext cx="1090440" cy="1230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8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17760" y="4076640"/>
            <a:ext cx="2548080" cy="1230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РЕКТИРОВКА «СВЕРХ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1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Планирование%20Корректировка%20Сверху" descr=""/>
          <p:cNvPicPr/>
          <p:nvPr/>
        </p:nvPicPr>
        <p:blipFill>
          <a:blip r:embed="rId2"/>
          <a:stretch/>
        </p:blipFill>
        <p:spPr>
          <a:xfrm>
            <a:off x="566640" y="1260360"/>
            <a:ext cx="8023320" cy="4940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172200" y="3706920"/>
            <a:ext cx="995400" cy="2617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151080" y="3825360"/>
            <a:ext cx="478080" cy="18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05680" y="3714840"/>
            <a:ext cx="949320" cy="1220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РЕКТИРОВКА «СНИЗУ»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2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Планирование%20Корректировка%20Снизу%20в%20модуле" descr=""/>
          <p:cNvPicPr/>
          <p:nvPr/>
        </p:nvPicPr>
        <p:blipFill>
          <a:blip r:embed="rId2"/>
          <a:stretch/>
        </p:blipFill>
        <p:spPr>
          <a:xfrm>
            <a:off x="568440" y="1258920"/>
            <a:ext cx="8021520" cy="493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186600" y="3706920"/>
            <a:ext cx="995400" cy="261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151080" y="3825360"/>
            <a:ext cx="478080" cy="18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814480" y="2149560"/>
            <a:ext cx="792360" cy="309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13040" y="2637000"/>
            <a:ext cx="3200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ТИРОВКА «СНИЗУ»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4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5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Планирование%20Корректировка%20Снизу%20в%20Excel" descr=""/>
          <p:cNvPicPr/>
          <p:nvPr/>
        </p:nvPicPr>
        <p:blipFill>
          <a:blip r:embed="rId2"/>
          <a:stretch/>
        </p:blipFill>
        <p:spPr>
          <a:xfrm>
            <a:off x="582480" y="1270080"/>
            <a:ext cx="800748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5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ГЛАСОВАНИЕ СТАТ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8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Планирование%20Утверждение%20бюджета" descr=""/>
          <p:cNvPicPr/>
          <p:nvPr/>
        </p:nvPicPr>
        <p:blipFill>
          <a:blip r:embed="rId2"/>
          <a:stretch/>
        </p:blipFill>
        <p:spPr>
          <a:xfrm>
            <a:off x="582480" y="1254240"/>
            <a:ext cx="79376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ГАНИЗАЦИОННАЯ СТРУКТУРА В ПРОЦЕССЕ БЮДЖЕ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397320" y="1092240"/>
            <a:ext cx="246384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Бюджетный отдел Исполнитель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7360" y="2817720"/>
            <a:ext cx="268596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дел Исполнительного Аппарата 1 (ЦФУ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52960" y="2782800"/>
            <a:ext cx="255924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дел Исполнительного Аппарат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ЦФУ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3000" y="4913280"/>
            <a:ext cx="141624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1 (ЦФО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63880" y="4951440"/>
            <a:ext cx="141624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2 (ЦФ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18480" y="4951440"/>
            <a:ext cx="141588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ЦФ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380988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860640"/>
            <a:ext cx="2971800" cy="1054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5880" y="3835440"/>
            <a:ext cx="5499000" cy="107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45320" y="3759120"/>
            <a:ext cx="0" cy="119376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749480" y="3772080"/>
            <a:ext cx="2832120" cy="110484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480" y="3797280"/>
            <a:ext cx="5461200" cy="106668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311560" y="2336760"/>
            <a:ext cx="2070000" cy="29592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26240" y="5011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572000" y="2298600"/>
            <a:ext cx="0" cy="261648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749840" y="2324160"/>
            <a:ext cx="2108160" cy="294624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790640" y="1778040"/>
            <a:ext cx="1371600" cy="85104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070680" y="1891800"/>
            <a:ext cx="1270080" cy="62244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10320" y="3836880"/>
            <a:ext cx="2355840" cy="1257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ОТЧЕТА  ОБ ИСПОЛНЕНИИ БЮДЖЕТА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Контроль%20исполнения%20бюджета%20Планирование" descr=""/>
          <p:cNvPicPr/>
          <p:nvPr/>
        </p:nvPicPr>
        <p:blipFill>
          <a:blip r:embed="rId2"/>
          <a:stretch/>
        </p:blipFill>
        <p:spPr>
          <a:xfrm>
            <a:off x="576360" y="1297080"/>
            <a:ext cx="8022960" cy="49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102360" y="2978280"/>
            <a:ext cx="2319480" cy="507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ОТЧЕТА ОБ ИСПОЛНЕНИИ  БЮДЖЕТА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3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Отчет%20об%20исполнении%20бюджета%20(БТЭЦ-4)" descr=""/>
          <p:cNvPicPr/>
          <p:nvPr/>
        </p:nvPicPr>
        <p:blipFill>
          <a:blip r:embed="rId2"/>
          <a:stretch/>
        </p:blipFill>
        <p:spPr>
          <a:xfrm>
            <a:off x="569880" y="1295280"/>
            <a:ext cx="803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5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59" name=""/>
          <p:cNvSpPr/>
          <p:nvPr/>
        </p:nvSpPr>
        <p:spPr>
          <a:xfrm>
            <a:off x="1300320" y="2111400"/>
            <a:ext cx="7164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Бюджет движения денежных средств фил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Сводный бюджет движения денеж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движения денежных средств филиал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Консолидированный план финансовых средств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централизованных расчетов филиал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14480" y="1519200"/>
            <a:ext cx="574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л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7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8" name=""/>
          <p:cNvSpPr/>
          <p:nvPr/>
        </p:nvSpPr>
        <p:spPr>
          <a:xfrm>
            <a:off x="1273320" y="2031840"/>
            <a:ext cx="7164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финансового плана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консолидированного план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плана централизованных расчетов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плана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БДФС по источникам вып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14480" y="1519200"/>
            <a:ext cx="5749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тчеты об исполнении бюдж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9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7" name=""/>
          <p:cNvSpPr/>
          <p:nvPr/>
        </p:nvSpPr>
        <p:spPr>
          <a:xfrm>
            <a:off x="1300320" y="2163600"/>
            <a:ext cx="7164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-факт централизованных расчетов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Сводный план-факт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14480" y="1519200"/>
            <a:ext cx="574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План-фактные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Ч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Печатная%20форма%203" descr=""/>
          <p:cNvPicPr/>
          <p:nvPr/>
        </p:nvPicPr>
        <p:blipFill>
          <a:blip r:embed="rId2"/>
          <a:stretch/>
        </p:blipFill>
        <p:spPr>
          <a:xfrm>
            <a:off x="573120" y="858960"/>
            <a:ext cx="4572000" cy="324936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  <p:pic>
        <p:nvPicPr>
          <p:cNvPr id="712" name="Печатная%20форма%201" descr=""/>
          <p:cNvPicPr/>
          <p:nvPr/>
        </p:nvPicPr>
        <p:blipFill>
          <a:blip r:embed="rId3"/>
          <a:stretch/>
        </p:blipFill>
        <p:spPr>
          <a:xfrm>
            <a:off x="2473200" y="1311120"/>
            <a:ext cx="4575240" cy="423396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  <p:pic>
        <p:nvPicPr>
          <p:cNvPr id="713" name="Печатная%20форма%202" descr=""/>
          <p:cNvPicPr/>
          <p:nvPr/>
        </p:nvPicPr>
        <p:blipFill>
          <a:blip r:embed="rId4"/>
          <a:stretch/>
        </p:blipFill>
        <p:spPr>
          <a:xfrm>
            <a:off x="3683160" y="2571840"/>
            <a:ext cx="5087880" cy="386712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835280" y="674640"/>
            <a:ext cx="7092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Е ПРЕИМУЩЕСТВА ОТ ВНЕДРЕНИЯ ПОДСИСТЕМЫ «ФИНАСОВОЕ ПЛАНИРОВАНИЕ»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1" name=""/>
          <p:cNvSpPr/>
          <p:nvPr/>
        </p:nvSpPr>
        <p:spPr>
          <a:xfrm>
            <a:off x="1366920" y="2189160"/>
            <a:ext cx="72262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Быстрый сбор консолидированного бюджета на основе первоначальных планов филиалов (1 ден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Быстрая и качественная корректировка первоначальных планов филиалов отделами управляющей компании (Центрами Финансового Учета) (3-4 дн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Получение филиалами откорректированных бюджетов (на следующий день после корректировк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Ежемесячный контроль за исполнением бюджетов филиал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Хранение любых изменений сумм бюджетов всех подраздел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Возможность получения информации о бюджетном процессе в режиме реального време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Автоматизация сбора информации о фактическом исполнении бюджета на основе данных бухгалтерского уче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4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4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9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ергей Гераси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АПЫ БЮДЖЕТ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90520" y="2062080"/>
            <a:ext cx="667728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пределение структуры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Формирование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Формирование сводно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Корректировка первоначаль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Утверждение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Формирование отчета об исполнени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3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ТЬ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4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3429000"/>
            <a:ext cx="3340080" cy="2476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1000" y="272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ь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048120"/>
            <a:ext cx="0" cy="380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КАЗАТЕЛ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62520" y="2254320"/>
            <a:ext cx="1726920" cy="142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000" y="272880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казател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89320" y="2933640"/>
            <a:ext cx="4572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53160" y="2241720"/>
            <a:ext cx="2108160" cy="142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2273400"/>
            <a:ext cx="609480" cy="152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7600" y="2286000"/>
            <a:ext cx="660600" cy="152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ЧЕЙК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5372280"/>
            <a:ext cx="3244680" cy="260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1360" y="2728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чейк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048120"/>
            <a:ext cx="2248200" cy="2247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419200"/>
            <a:ext cx="320760" cy="1251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3666960"/>
            <a:ext cx="0" cy="1705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10040" y="5477040"/>
            <a:ext cx="695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1240" y="154080"/>
            <a:ext cx="7020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ЛИ ПОДСИСТЕМЫ «ФИНАНСОВОЕ ПЛАНИРОВА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 «Капита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S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244440" y="265104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2654280"/>
            <a:ext cx="3743280" cy="154944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429000"/>
            <a:ext cx="927000" cy="0"/>
          </a:xfrm>
          <a:prstGeom prst="line">
            <a:avLst/>
          </a:prstGeom>
          <a:ln w="1144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Sergei Gerasimov</cp:lastModifiedBy>
  <cp:lastPrinted>2003-11-27T08:17:54Z</cp:lastPrinted>
  <dcterms:modified xsi:type="dcterms:W3CDTF">2003-12-08T10:56:45Z</dcterms:modified>
  <cp:revision>411</cp:revision>
  <dc:subject/>
  <dc:title>Слайд 1</dc:title>
</cp:coreProperties>
</file>