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11955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1195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555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0920" y="-360"/>
            <a:ext cx="3003480" cy="555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lstStyle>
            <a:lvl1pPr indent="0" algn="r"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469440" y="923400"/>
            <a:ext cx="5915160" cy="443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11366280"/>
            <a:ext cx="3003480" cy="55404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b">
            <a:noAutofit/>
          </a:bodyPr>
          <a:lstStyle>
            <a:lvl1pPr indent="0"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0920" y="11366280"/>
            <a:ext cx="3003480" cy="55404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b">
            <a:noAutofit/>
          </a:bodyPr>
          <a:lstStyle>
            <a:lvl1pPr indent="0" algn="r"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fld id="{89E5D6FD-46C0-4FEF-A4AF-DC5569DDA3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marL="228600"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Добрый день, уважаемые дамы и господа, меня зовут Герасимов Сергей, я являюсь ведущим специалистом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ЗАО «Геликон Про»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 по автоматизации финансового планирования и бюджетирования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Тема моего доклада «Автоматизация финансового планирования в ОАО «Пермэнерго»»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В начале марта этого года перед нами была поставлена задача автоматизации бюджетного процесса в ОАО «Пермэнерго»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До внедрения нашей системы в ОАО «Пермэнерго» составление бюджетов всех филиалов (а их 30) производилось в электронных таблицах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Excel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Но при таком подходе имелись существенные проблемы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1)Во-первых. Нужно сказать, что планирование в ОАО «Пермэнерго» проводится на квартал, отчеты об исполнении собираются раз в месяц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Теперь посчитаем: по 4 файла на каждый филиал (1 файл – план на квартал, 3 файла – факт за каждый месяц квартала). Филиалов 30, получаем 120 файлов. И это за один бюджетный период. Если взять период – год, то получается уже 480 файлов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Excel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. Довольно сложно было оперировать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 таким количеством файлов.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К этому нужно еще добавить то, что каждый файл постоянно корректировался (создавались версии файлов), соответственно количество файлов росло просто в геометрической прогрессии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2)Во-вторых, нельзя было быть уверенным в том, что консолидированный бюджет содержит в себе актуальные суммы бюджетов филиалов (бюджеты подразделений постоянно корректировались, причем в файлах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Excel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 естественно никакой истории изменений не хранится и восстановить утерянную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информацию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не представлялось никакой возможности)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3)В третьих, очень большие проблемы возникали при изменении структуры статей бюджета (представьте: при добавлении или удалении одной статьи требовалось вносить изменения в 120 файлов, но даже не в этом проблема – основная проблема при изменении структуры бюджета была в том, что очень часто терялись некоторые суммы бюджетов и отследить это было просто невозможно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из-за большого количества файлов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)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4)В четвертых,  главная проблема заключалась в следующем. После того, как бюджетный отдел Исполнительного Аппарата (управляющей компании) получил от каждого филиала по файлу с бюджетом (30 файлов) и собрал консолидированный бюджет Общества, проводилась корректировка бюджета. Причем в корректировке участвовали порядка 12 отделов и служб Исполнительного Аппарата (каждый отдел отвечает за свои статьи бюджета). Сотрудники бюджетного отдела из 30 файлов с бюджетами филиалов вручную формировали 12 файлов для каждого отдела (в течении 3 недель!!!). Отделы корректировали суммы. Но потом эти откорректированные отделами суммы уже не попадали в файлы с бюджетами филиалов, т.к. это было слишком трудоемко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Соответственно, получалось парадоксальная ситуация – филиалы прислали свои первоначальные планы в управляющую компанию (в Исполнительный Аппарата ОАО «Пермэнерго»), затем эти данные хотя и долго, но  корректировались внутри Исполнительного Аппарата, но филиалы эти откорректированные планы не получали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Для решения этих и ряда других проблем было решено внедрить подсистему «Финансовое планирование» системы «Капитал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SE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»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Внедрение данной подсистемы в части базовой функциональности было произведено за 3 месяца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мотрим «Определение структуры статей бюджет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о производится во вкладке «Структура» модуля «Конструктор бюджетов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статей бюджета имеет древовидную структуру произвольного уровня вложен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чем каждая статья бюджета может быть задана в определенном период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«Конструктор бюджетов» позволяет также «определять показатели бюджета» (т.е. столбцы бюджет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бор показателей задается во вкладке «Показатели» модуля «Конструктор бюджетов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азатель бюджета может иметь разный тип (План, Факт, Прогноз), для него может быть задан разный тип финансовых средств (деньги, векселя,…), а также у него могут быть разные единицы измер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одуле «Конструктор бюджетов» также проводится «Настройка прав на ячейки бюджет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на производится во вкладке «Элементы» модуля «Конструктор бюджетов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ля каждой ячейки бюджета можно задать права определенным пользовател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ичем права можно дать на «Просмотр», «Добавление», «Изменение», «Удаление» суммы ячей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аким образом, например, можно дать права сотруднику определенного отдела только на «свои» статьи, причем, например, по плану дать полный доступ (на просмотр, добавление, изменение, удаление), а по факту дать доступ только на просмотр (или вообще не давать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акже в модуле «Конструктор бюджетов» для каждого отдела Исполнительного Аппарата (для каждого Центра Финансового Учета) определяется набор статей, за которые отвечает данный отде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набора статей для отделов (Центров Финансового Учета) производится во вкладке «Макеты ЦФО» модуля «Конструктор бюджетов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рисунке приведен пример набора статей для Центра Финансового Учета – Топливно-транспортная служб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нный отдел отвечает за 8 статей:  Уголь, Мазут, Газ, Прочие виды топлива, ГСМ, Услуги ж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нспорта, услуги автотранспорта, приобретение лицензий, пропусков и т.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йдем теперь к рассмотрению функциональности следующего модуля – «Планирование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 предназначен, как я уже говорил выше, для непосредственной работы с суммами бюдже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АО «Пермэнерго» в модуле «Планирование» выполняются следующие этапы бюджетного процесс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первоначальных планов филиал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сводного бюдж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рректировка первоначальных планов бюдж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тверждение бюдж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отчета об исполнении бюдж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мотрим 1-ый этап - «Формирование первоначальных планов филиалов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правило, структура сводного бюджета предприятия делится на три основных бюджета: Операционный, Инвестиционный и Финансовы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амках нашего доклада мы акцентируем внимание на финансовом бюджете, а именно на бюджете движения денежных средств, поскольку в Пермэнерго используется именно этот бюдже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юджет движения движения денежных средств представляет собой отток и приток денежных средств за пери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но может производится непосредственно в модуле «Планирование», путем занесения плановых сумм по филиалам за период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ичем, обратите внимание, у каждой статьи есть две строчки: верхняя – для сумм, запланированных «сверху» (используется при планировании «сверху»), нижняя – для сумм, запланированных «снизу» (используется при планировании «снизу»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и формировании первоначальных планов филиалов суммы заносятся в суммы, запланированные «снизу» (т.к. на данном этапе происходит планирование «снизу»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первоначальных планов филиалов также может производится путем загрузки данных из файло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ый филиал заполняет свой файл (со своим бюджетом) и отправляет его в Бюджетный отдел Исполнительного Аппарата по электронной поч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едующий этап бюджетного процесса данного предприятия, который производится в модуле «Планирование», - это «Формирование сводного бюджет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 непосредственно ввода в модуле или загрузки бюджетов филиалов из файло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в модуле «Планирование» содержится сводный бюджет в разрезе филиал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имер, сумма сводного бюджета по статье «Культурно-массовые мероприятия» 251 детализируется по филиалам (см. рис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одуле «Планирование» проходит также этап «Корректировки первоначальных планов бюджет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а разбивается на два этапа: корректировка «сверху» руководством и корректировка «снизу» Центрами Финансового Уч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чем руководство корректирует «сверху» цифры сводного бюджета (т.е., например, урезает сумму по статье «ГСМ» сразу на все филиалы), а Центры Финансового Учета уже корректируют «снизу» суммы бюджетов филиалов так, чтобы общая сумма по всем филиалам по этой статье не превосходила спущенной сверху руководств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рректировка «сверху» выполняется в модуле «Планирование», причем сумма заносится в верхнюю сумму статьи (т.к. происходит планирование «сверху»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имер, по статье «ГСМ» снизу филиалами было запланировано 230 (это на все филиалы), а руководство урезало эту сумму,  и запланировало «сверху» меньшую сумму – 200 (т.е. 200 дало в целом на все филиал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ее производится корректировка «снизу» центрами финансового учета своих ста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делы корректируют суммы «снизу» по филиалам так, чтобы в общем эти суммы были равны той общей, заданной «сверху» руководств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данном случает Топливно-транспортная служба урезает свою статью «ГСМ» с 230 до 2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им образом, сумма «снизу» после корректировки становится равной сумме «сверху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нную корректировку можно проводить как непосредственно в модуле «Планирование» во вкладке «Макет ЦФО»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 и путем загрузки из файл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каждого Центра Финансового Учета создается свой файл, они производят корректировку в нем (по филиалам) и затем откорректированные планы загружаются в систе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 проведения корректировки бюджета следует этап «Утверждение бюджет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 проведения корректировки «снизу» Центрами Финансового Учета сотрудники, ответственные за те или иные статьи, проверяют их и если они откорректированы правильно, то закрывают их для измен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имер, начальник Топливно-транспортной службы может проверить свою статью «ГСМ» и, если сумма «снизу» сходится с суммой «сверху», спущенной руководством), то закрывает ее для изменения – устанавливает статус статьи «Статья согласован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 утверждаются все статьи бюджета за пери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ая структура ОАО «Пермэнерго» в процессе бюджетирования выглядит следующим образ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а состоит из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юджетного отдела Исполнительного Аппарата (Управляющей компании ОАО «Пермэнерго»). В этом отделе собираются бюджеты всех филиалов и отчеты об их исполне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делов Исполнительного Аппарата (Центров Финансового Учета - сокращенно ЦФУ). Каждый ЦФУ отвечает за свои статьи сводного бюджета (в разрезе филиал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-ти филиалов, которые составляют каждый свой бюджет, которые потом консолидируются в сводный бюджет Об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одуле «Планирование» происходит также этап «формирования отчета об исполнении бюджет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о может производится путем занесения сумм об исполнении бюджетов филиалов как непосредственно  в модуле «Планирование»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 и 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l’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вских файлах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ый филиал присылает по почте заполненный файл с фактическим исполнением бюджета, который потом загружается в систе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т способ более удобен, поскольку филиалы территориально удале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одсистеме «Финансовое планирование» реализован большой блок отче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частности, на данном слайде представлены отчеты, касающиеся план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следующем слайде представлены отчеты, касающиеся отчетов об исполнении бюдже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данном слайде представлены план-фактные отчеты – отчеты, позволяющие увидеть одновременно и план и факт бюджета. Данные отчеты используются для анализ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четы, получаемые в подсистеме «Финансовое планирование», можно не только распечатать, но и выгрузить 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ля дополнительной обработ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Tahoma"/>
              </a:rPr>
              <a:t>Итак, что же получило предприятие ОАО «Пермэнерго» после внедрения данной подсистемы «Финансовое планирование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Tahoma"/>
              </a:rPr>
              <a:t>1.Быстрый сбор консолидированного бюджета на основе первоначальных планов филиалов (1 ден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Tahoma"/>
              </a:rPr>
              <a:t>2.Быстрая и качественная корректировка первоначальных планов филиалов отделами управляющей компании (Центрами Финансового Учета) (3-4 дн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Tahoma"/>
              </a:rPr>
              <a:t>3.Получение филиалами откорректированных бюджетов (на следующий день после корректировк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Tahoma"/>
              </a:rPr>
              <a:t>4.Ежемесячный контроль за исполнением бюджетов филиал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Tahoma"/>
              </a:rPr>
              <a:t>5.Хранение любых изменений сумм бюджетов всех подраздел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Tahoma"/>
              </a:rPr>
              <a:t>6.Возможность получения информации о бюджетном процессе в режиме реального време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Tahoma"/>
              </a:rPr>
              <a:t>7.Автоматизация сбора информации о фактическом исполнении бюджета на основе данных бухгалтерского уч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й доклад законч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асибо за вним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жалуйста, вопрос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этапы бюджетного процесса ОАО «Пермэнерго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структуры бюдж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бюджета, которое подразделяется на ряд подэтап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Tahoma"/>
              </a:rPr>
              <a:t>Формирование первоначальных планов филиал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Tahoma"/>
              </a:rPr>
              <a:t>Формирование сводного бюдж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Tahoma"/>
              </a:rPr>
              <a:t>Корректировка первоначальных план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Tahoma"/>
              </a:rPr>
              <a:t>Утверждение бюдж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Tahoma"/>
              </a:rPr>
              <a:t>3. Формирование отчета об исполнении бюдж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имся с термин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юджет в представляет из себя таблиц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вертикали идут статьи бюджета (строки таблиц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горизонтали идут показатели бюджета (столбцы таблиц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чем показателей в бюджете может быть много, и они могут быть разного типа: плановые, фактические, прогнозны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имер, в этом бюджете 4 плановых показателя и 5 – фактическ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а пересечении статьи и показателя (строки и столбца) лежит ячейка бюджета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а рисунке приведен пример ячейки бюджета на пересечении статьи «Поступления от реализации продукции, работ, услуг промышленного характера» и показателя «Расчеты за счет собственных средств филиала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Ячейка бюджета может иметь сумму, в данном случае она равна 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система «Финансовое планирование» в нашей системе состоит из двух модулей: модуль «Конструктор бюджетов» и модуль «Планирование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одуле «Конструктор бюджетов» задается структура бюджета, а в модуле «Планирование» идет работа непосредственно с суммами бюдж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мотрим подробнее каждый из этих моду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одуле «Конструктор бюджетов» производи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структуры статей бюдж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показателей бюдж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тройка прав на ячейки бюдж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набора статей для каждого отдела Исполнительного Аппарата (для каждого Центра Финансового Учет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166B-BE87-4A08-A862-82F814FC9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E8A2-4DA5-4240-A50E-83ECB8714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92F0-55D0-4B04-94AB-767048BA3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758B-D196-400B-922C-DD5945AA5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3EEC-F3F1-472D-A34A-606216071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BD2C-61F4-4A40-95D2-65836DF14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8DC1-655D-4CF5-9A25-42570CB9C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3EEB-7919-41F6-BF97-F188576A8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F4F8-8A34-4781-92DE-80842B88C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82F6-E1BB-404F-80D8-037688EB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49A2-6AE1-4860-8FA7-C41021DC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AED1-974C-4D41-924C-0C9CE699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57546-30AC-410E-8317-58CAAB232E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00360" y="1495440"/>
            <a:ext cx="5543640" cy="536256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5400000">
            <a:off x="5429880" y="-2823480"/>
            <a:ext cx="695520" cy="6732720"/>
          </a:xfrm>
          <a:prstGeom prst="rect">
            <a:avLst/>
          </a:prstGeom>
          <a:gradFill rotWithShape="0">
            <a:gsLst>
              <a:gs pos="0">
                <a:srgbClr val="6181c1"/>
              </a:gs>
              <a:gs pos="100000">
                <a:srgbClr val="90a7d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215640" y="1501920"/>
            <a:ext cx="2190600" cy="5356080"/>
          </a:xfrm>
          <a:prstGeom prst="rect">
            <a:avLst/>
          </a:prstGeom>
          <a:gradFill rotWithShape="0">
            <a:gsLst>
              <a:gs pos="0">
                <a:srgbClr val="6181c1"/>
              </a:gs>
              <a:gs pos="100000">
                <a:srgbClr val="90a7d4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/>
          </p:cNvPr>
          <p:cNvSpPr/>
          <p:nvPr/>
        </p:nvSpPr>
        <p:spPr>
          <a:xfrm>
            <a:off x="476280" y="6114960"/>
            <a:ext cx="3124080" cy="36216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w</a:t>
            </a:r>
            <a:r>
              <a:rPr b="1" lang="ru-RU" sz="1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w w . g e l i c o n . b i 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70200" y="2430360"/>
            <a:ext cx="523872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АВТОМАТИЗАЦИЯ ФИНАНСОВОГО ПЛАНИРО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В ОАО «Пермэнерг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76680" y="5052960"/>
            <a:ext cx="53053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Сергей Гераси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Ведущий специалист ЗАО «Геликон Пр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80960" y="523800"/>
            <a:ext cx="3129120" cy="97812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3666960" y="576360"/>
            <a:ext cx="4000680" cy="871560"/>
            <a:chOff x="3666960" y="576360"/>
            <a:chExt cx="4000680" cy="871560"/>
          </a:xfrm>
        </p:grpSpPr>
        <p:sp>
          <p:nvSpPr>
            <p:cNvPr id="57" name=""/>
            <p:cNvSpPr/>
            <p:nvPr/>
          </p:nvSpPr>
          <p:spPr>
            <a:xfrm>
              <a:off x="3666960" y="576360"/>
              <a:ext cx="400068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3399"/>
                  </a:solidFill>
                  <a:latin typeface="Tahoma"/>
                </a:rPr>
                <a:t>        </a:t>
              </a: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  </a:t>
              </a:r>
              <a:r>
                <a:rPr b="1" lang="en-US" sz="1700" spc="-1" strike="noStrike">
                  <a:solidFill>
                    <a:srgbClr val="003399"/>
                  </a:solidFill>
                  <a:latin typeface="Tahoma"/>
                </a:rPr>
                <a:t>      </a:t>
              </a: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Г  Р  А  М  М  Н  О  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О  Б  Е  С  П  Е  Ч  Е  Н  И  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В  А  Ш  Е  Г  О     Б  И  З  Н  Е  С  А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" name="" descr=""/>
            <p:cNvPicPr/>
            <p:nvPr/>
          </p:nvPicPr>
          <p:blipFill>
            <a:blip r:embed="rId3"/>
            <a:stretch/>
          </p:blipFill>
          <p:spPr>
            <a:xfrm>
              <a:off x="3789360" y="679320"/>
              <a:ext cx="942840" cy="15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" name=""/>
          <p:cNvSpPr/>
          <p:nvPr/>
        </p:nvSpPr>
        <p:spPr>
          <a:xfrm>
            <a:off x="0" y="528480"/>
            <a:ext cx="9144000" cy="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494000"/>
            <a:ext cx="9144000" cy="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84200" y="0"/>
            <a:ext cx="0" cy="685800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03600" y="0"/>
            <a:ext cx="0" cy="685800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07960" y="2631960"/>
            <a:ext cx="3086280" cy="18338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924200" y="179280"/>
            <a:ext cx="7019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МОДУЛЬ «КОНСТРУКТОР БЮДЖЕТО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6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0" name=""/>
          <p:cNvSpPr/>
          <p:nvPr/>
        </p:nvSpPr>
        <p:spPr>
          <a:xfrm>
            <a:off x="2681280" y="1190520"/>
            <a:ext cx="3781440" cy="1554120"/>
          </a:xfrm>
          <a:prstGeom prst="rect">
            <a:avLst/>
          </a:prstGeom>
          <a:solidFill>
            <a:srgbClr val="bbe0e3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МОДУЛЬ «КОНСТРУКТОР БЮДЖЕТО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8120" y="3819600"/>
            <a:ext cx="2084400" cy="1257120"/>
          </a:xfrm>
          <a:prstGeom prst="ellipse">
            <a:avLst/>
          </a:prstGeom>
          <a:solidFill>
            <a:srgbClr val="bbe0e3"/>
          </a:solidFill>
          <a:ln w="127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Определение </a:t>
            </a:r>
            <a:r>
              <a:rPr b="1" lang="ru-RU" sz="1400" spc="-1" strike="noStrike">
                <a:solidFill>
                  <a:srgbClr val="003399"/>
                </a:solidFill>
                <a:latin typeface="Tahoma"/>
              </a:rPr>
              <a:t>структуры </a:t>
            </a: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статей бюджет</a:t>
            </a:r>
            <a:r>
              <a:rPr b="1" lang="ru-RU" sz="1400" spc="-1" strike="noStrike">
                <a:solidFill>
                  <a:srgbClr val="003399"/>
                </a:solidFill>
                <a:latin typeface="Tahoma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01920" y="3808440"/>
            <a:ext cx="2084400" cy="125712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Определение </a:t>
            </a: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показателей</a:t>
            </a: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 бюджет</a:t>
            </a: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707000" y="3832200"/>
            <a:ext cx="2084400" cy="125748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Настройка прав на ячейки</a:t>
            </a: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 бюджет</a:t>
            </a: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931080" y="3881520"/>
            <a:ext cx="2084400" cy="125712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Определение </a:t>
            </a: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набора </a:t>
            </a: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статей </a:t>
            </a: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для каждого отдела (ЦФУ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1596960" y="2882880"/>
            <a:ext cx="1663920" cy="816120"/>
          </a:xfrm>
          <a:prstGeom prst="line">
            <a:avLst/>
          </a:prstGeom>
          <a:ln w="2030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3468240" y="2817720"/>
            <a:ext cx="668520" cy="85752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746680" y="2835360"/>
            <a:ext cx="1542960" cy="96660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857840" y="2819520"/>
            <a:ext cx="695160" cy="87768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924200" y="179280"/>
            <a:ext cx="701964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ПРЕДЕЛЕНИЕ СТРУКТУРЫ СТАТЕЙ БЮДЖ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253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254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6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259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0" name=""/>
          <p:cNvSpPr/>
          <p:nvPr/>
        </p:nvSpPr>
        <p:spPr>
          <a:xfrm>
            <a:off x="895320" y="3110040"/>
            <a:ext cx="71690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Tahoma"/>
              </a:rPr>
              <a:t>ДИАГРАММА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23800" y="1247760"/>
            <a:ext cx="8115480" cy="4971960"/>
          </a:xfrm>
          <a:prstGeom prst="rect">
            <a:avLst/>
          </a:prstGeom>
          <a:noFill/>
          <a:ln w="76320">
            <a:solidFill>
              <a:srgbClr val="5073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Конструктор%20бюджетов%20Структура" descr=""/>
          <p:cNvPicPr/>
          <p:nvPr/>
        </p:nvPicPr>
        <p:blipFill>
          <a:blip r:embed="rId2"/>
          <a:stretch/>
        </p:blipFill>
        <p:spPr>
          <a:xfrm>
            <a:off x="582480" y="1287360"/>
            <a:ext cx="8007480" cy="488808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517680" y="1832040"/>
            <a:ext cx="736560" cy="2509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924200" y="179280"/>
            <a:ext cx="7019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МОДУЛЬ «КОНСТРУКТОР БЮДЖЕТО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268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269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1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274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5" name=""/>
          <p:cNvSpPr/>
          <p:nvPr/>
        </p:nvSpPr>
        <p:spPr>
          <a:xfrm>
            <a:off x="2681280" y="1190520"/>
            <a:ext cx="3781440" cy="1554120"/>
          </a:xfrm>
          <a:prstGeom prst="rect">
            <a:avLst/>
          </a:prstGeom>
          <a:solidFill>
            <a:srgbClr val="bbe0e3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МОДУЛЬ «КОНСТРУКТОР БЮДЖЕТО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68120" y="3819600"/>
            <a:ext cx="2084400" cy="125712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Определение </a:t>
            </a:r>
            <a:r>
              <a:rPr b="1" lang="ru-RU" sz="1400" spc="-1" strike="noStrike">
                <a:solidFill>
                  <a:srgbClr val="003399"/>
                </a:solidFill>
                <a:latin typeface="Tahoma"/>
              </a:rPr>
              <a:t>структуры </a:t>
            </a: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статей бюджет</a:t>
            </a:r>
            <a:r>
              <a:rPr b="1" lang="ru-RU" sz="1400" spc="-1" strike="noStrike">
                <a:solidFill>
                  <a:srgbClr val="003399"/>
                </a:solidFill>
                <a:latin typeface="Tahoma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401920" y="3808440"/>
            <a:ext cx="2084400" cy="1257120"/>
          </a:xfrm>
          <a:prstGeom prst="ellipse">
            <a:avLst/>
          </a:prstGeom>
          <a:solidFill>
            <a:srgbClr val="bbe0e3"/>
          </a:solidFill>
          <a:ln w="127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Определение </a:t>
            </a: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показателей</a:t>
            </a: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 бюджет</a:t>
            </a: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707000" y="3832200"/>
            <a:ext cx="2084400" cy="125748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Настройка прав на ячейки</a:t>
            </a: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 бюджет</a:t>
            </a: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931080" y="3881520"/>
            <a:ext cx="2084400" cy="125712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Определение </a:t>
            </a: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набора </a:t>
            </a: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статей </a:t>
            </a: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для каждого отдела (ЦФУ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1596960" y="2882880"/>
            <a:ext cx="1663920" cy="81612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3468240" y="2817720"/>
            <a:ext cx="668520" cy="857520"/>
          </a:xfrm>
          <a:prstGeom prst="line">
            <a:avLst/>
          </a:prstGeom>
          <a:ln w="2030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746680" y="2835360"/>
            <a:ext cx="1542960" cy="96660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857840" y="2819520"/>
            <a:ext cx="695160" cy="87768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924200" y="179280"/>
            <a:ext cx="701964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ПРЕДЕЛЕНИЕ ПОКАЗАТЕЛЕЙ БЮДЖ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288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289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1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294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5" name=""/>
          <p:cNvSpPr/>
          <p:nvPr/>
        </p:nvSpPr>
        <p:spPr>
          <a:xfrm>
            <a:off x="895320" y="3110040"/>
            <a:ext cx="71690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Tahoma"/>
              </a:rPr>
              <a:t>ДИАГРАММА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23800" y="1247760"/>
            <a:ext cx="8115480" cy="4971960"/>
          </a:xfrm>
          <a:prstGeom prst="rect">
            <a:avLst/>
          </a:prstGeom>
          <a:noFill/>
          <a:ln w="76320">
            <a:solidFill>
              <a:srgbClr val="5073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Конструктор%20бюджетов%20Показатели" descr=""/>
          <p:cNvPicPr/>
          <p:nvPr/>
        </p:nvPicPr>
        <p:blipFill>
          <a:blip r:embed="rId2"/>
          <a:stretch/>
        </p:blipFill>
        <p:spPr>
          <a:xfrm>
            <a:off x="569880" y="1295280"/>
            <a:ext cx="8028000" cy="487836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1203480" y="1846440"/>
            <a:ext cx="736560" cy="2505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24200" y="179280"/>
            <a:ext cx="7019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МОДУЛЬ «КОНСТРУКТОР БЮДЖЕТО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303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304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6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309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0" name=""/>
          <p:cNvSpPr/>
          <p:nvPr/>
        </p:nvSpPr>
        <p:spPr>
          <a:xfrm>
            <a:off x="2681280" y="1190520"/>
            <a:ext cx="3781440" cy="1554120"/>
          </a:xfrm>
          <a:prstGeom prst="rect">
            <a:avLst/>
          </a:prstGeom>
          <a:solidFill>
            <a:srgbClr val="bbe0e3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МОДУЛЬ «КОНСТРУКТОР БЮДЖЕТО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68120" y="3819600"/>
            <a:ext cx="2084400" cy="125712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Определение </a:t>
            </a:r>
            <a:r>
              <a:rPr b="1" lang="ru-RU" sz="1400" spc="-1" strike="noStrike">
                <a:solidFill>
                  <a:srgbClr val="003399"/>
                </a:solidFill>
                <a:latin typeface="Tahoma"/>
              </a:rPr>
              <a:t>структуры </a:t>
            </a: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статей бюджет</a:t>
            </a:r>
            <a:r>
              <a:rPr b="1" lang="ru-RU" sz="1400" spc="-1" strike="noStrike">
                <a:solidFill>
                  <a:srgbClr val="003399"/>
                </a:solidFill>
                <a:latin typeface="Tahoma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401920" y="3808440"/>
            <a:ext cx="2084400" cy="125712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Определение </a:t>
            </a: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показателей</a:t>
            </a: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 бюджет</a:t>
            </a: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707000" y="3832200"/>
            <a:ext cx="2084400" cy="1257480"/>
          </a:xfrm>
          <a:prstGeom prst="ellipse">
            <a:avLst/>
          </a:prstGeom>
          <a:solidFill>
            <a:srgbClr val="bbe0e3"/>
          </a:solidFill>
          <a:ln w="127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Настройка прав на ячейки</a:t>
            </a: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 бюджет</a:t>
            </a: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931080" y="3881520"/>
            <a:ext cx="2084400" cy="125712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Определение </a:t>
            </a: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набора </a:t>
            </a: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статей </a:t>
            </a: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для каждого отдела (ЦФУ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1596960" y="2882880"/>
            <a:ext cx="1663920" cy="81612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3468240" y="2817720"/>
            <a:ext cx="668520" cy="85752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746680" y="2835360"/>
            <a:ext cx="1542960" cy="96660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857840" y="2819520"/>
            <a:ext cx="695160" cy="877680"/>
          </a:xfrm>
          <a:prstGeom prst="line">
            <a:avLst/>
          </a:prstGeom>
          <a:ln w="2030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924200" y="179280"/>
            <a:ext cx="701964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НАСТРОЙКА ПРАВ НА ЯЧЕЙКИ БЮДЖ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323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324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6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329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0" name=""/>
          <p:cNvSpPr/>
          <p:nvPr/>
        </p:nvSpPr>
        <p:spPr>
          <a:xfrm>
            <a:off x="895320" y="3110040"/>
            <a:ext cx="71690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Tahoma"/>
              </a:rPr>
              <a:t>ДИАГРАММА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23800" y="1247760"/>
            <a:ext cx="8115480" cy="4971960"/>
          </a:xfrm>
          <a:prstGeom prst="rect">
            <a:avLst/>
          </a:prstGeom>
          <a:noFill/>
          <a:ln w="76320">
            <a:solidFill>
              <a:srgbClr val="5073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Конструктор%20бюджетов%20Элементы" descr=""/>
          <p:cNvPicPr/>
          <p:nvPr/>
        </p:nvPicPr>
        <p:blipFill>
          <a:blip r:embed="rId2"/>
          <a:stretch/>
        </p:blipFill>
        <p:spPr>
          <a:xfrm>
            <a:off x="561960" y="1292400"/>
            <a:ext cx="8016840" cy="488772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1871640" y="1846440"/>
            <a:ext cx="736560" cy="2505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924200" y="179280"/>
            <a:ext cx="7019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МОДУЛЬ «КОНСТРУКТОР БЮДЖЕТО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338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339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1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344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" name=""/>
          <p:cNvSpPr/>
          <p:nvPr/>
        </p:nvSpPr>
        <p:spPr>
          <a:xfrm>
            <a:off x="2681280" y="1190520"/>
            <a:ext cx="3781440" cy="1554120"/>
          </a:xfrm>
          <a:prstGeom prst="rect">
            <a:avLst/>
          </a:prstGeom>
          <a:solidFill>
            <a:srgbClr val="bbe0e3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МОДУЛЬ «КОНСТРУКТОР БЮДЖЕТО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68120" y="3819600"/>
            <a:ext cx="2084400" cy="125712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Определение </a:t>
            </a:r>
            <a:r>
              <a:rPr b="1" lang="ru-RU" sz="1400" spc="-1" strike="noStrike">
                <a:solidFill>
                  <a:srgbClr val="003399"/>
                </a:solidFill>
                <a:latin typeface="Tahoma"/>
              </a:rPr>
              <a:t>структуры </a:t>
            </a: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статей бюджет</a:t>
            </a:r>
            <a:r>
              <a:rPr b="1" lang="ru-RU" sz="1400" spc="-1" strike="noStrike">
                <a:solidFill>
                  <a:srgbClr val="003399"/>
                </a:solidFill>
                <a:latin typeface="Tahoma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373480" y="3808440"/>
            <a:ext cx="2084400" cy="125712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Определение </a:t>
            </a: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показателей</a:t>
            </a: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 бюджет</a:t>
            </a: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578480" y="3832200"/>
            <a:ext cx="2084400" cy="125748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Настройка прав на ячейки</a:t>
            </a: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 бюджет</a:t>
            </a: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751800" y="3881520"/>
            <a:ext cx="2220840" cy="1257120"/>
          </a:xfrm>
          <a:prstGeom prst="ellipse">
            <a:avLst/>
          </a:prstGeom>
          <a:solidFill>
            <a:srgbClr val="bbe0e3"/>
          </a:solidFill>
          <a:ln w="127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Определение </a:t>
            </a: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набора </a:t>
            </a: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статей </a:t>
            </a: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для каждого отдела (ЦФУ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1596960" y="2882880"/>
            <a:ext cx="1663920" cy="81612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3468240" y="2817720"/>
            <a:ext cx="668520" cy="85752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746680" y="2835360"/>
            <a:ext cx="1542960" cy="966600"/>
          </a:xfrm>
          <a:prstGeom prst="line">
            <a:avLst/>
          </a:prstGeom>
          <a:ln w="2030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857840" y="2819520"/>
            <a:ext cx="695160" cy="87768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924200" y="179280"/>
            <a:ext cx="701964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ПРЕДЕЛЕНИЕ НАБОРА СТАТЕЙ ДЛЯ КАЖДОГО ОТДЕЛА (ЦФ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358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359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1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364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5" name=""/>
          <p:cNvSpPr/>
          <p:nvPr/>
        </p:nvSpPr>
        <p:spPr>
          <a:xfrm>
            <a:off x="895320" y="3110040"/>
            <a:ext cx="71690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Tahoma"/>
              </a:rPr>
              <a:t>ДИАГРАММА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23800" y="1247760"/>
            <a:ext cx="8115480" cy="4971960"/>
          </a:xfrm>
          <a:prstGeom prst="rect">
            <a:avLst/>
          </a:prstGeom>
          <a:noFill/>
          <a:ln w="76320">
            <a:solidFill>
              <a:srgbClr val="5073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Конструктор%20бюджетов%20Макет%20ЦФУ%20ТТС" descr=""/>
          <p:cNvPicPr/>
          <p:nvPr/>
        </p:nvPicPr>
        <p:blipFill>
          <a:blip r:embed="rId2"/>
          <a:stretch/>
        </p:blipFill>
        <p:spPr>
          <a:xfrm>
            <a:off x="558720" y="1295280"/>
            <a:ext cx="8032680" cy="487548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2522520" y="1852560"/>
            <a:ext cx="792360" cy="2509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924200" y="179280"/>
            <a:ext cx="7019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МОДУЛЬ «ПЛАНИРОВАН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373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374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6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379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0" name=""/>
          <p:cNvSpPr/>
          <p:nvPr/>
        </p:nvSpPr>
        <p:spPr>
          <a:xfrm>
            <a:off x="2681280" y="1190520"/>
            <a:ext cx="3781440" cy="1554120"/>
          </a:xfrm>
          <a:prstGeom prst="rect">
            <a:avLst/>
          </a:prstGeom>
          <a:solidFill>
            <a:srgbClr val="bbe0e3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МОДУЛЬ «ПЛАНИРОВАН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90440" y="3929040"/>
            <a:ext cx="2455920" cy="124308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Tahoma"/>
              </a:rPr>
              <a:t>Формирование первоначальных планов филиал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306440" y="5119560"/>
            <a:ext cx="2293920" cy="105264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Формирование сводного бюдж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317760" y="4076640"/>
            <a:ext cx="2452680" cy="123048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Корректировка первоначальных планов бюдж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691240" y="5056200"/>
            <a:ext cx="2084400" cy="110664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Утверждение бюдж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1898640" y="2882880"/>
            <a:ext cx="1308240" cy="96840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2719080" y="2846520"/>
            <a:ext cx="1297080" cy="202860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472000" y="2862360"/>
            <a:ext cx="984240" cy="197784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4570560" y="2846520"/>
            <a:ext cx="1440" cy="116496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746760" y="3836880"/>
            <a:ext cx="2219400" cy="125748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Формирование отчета об исполнении бюдж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099120" y="2868480"/>
            <a:ext cx="1162080" cy="94320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924200" y="179280"/>
            <a:ext cx="7019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МОДУЛЬ «ПЛАНИРОВАН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395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396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8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401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2" name=""/>
          <p:cNvSpPr/>
          <p:nvPr/>
        </p:nvSpPr>
        <p:spPr>
          <a:xfrm>
            <a:off x="2681280" y="1190520"/>
            <a:ext cx="3781440" cy="1554120"/>
          </a:xfrm>
          <a:prstGeom prst="rect">
            <a:avLst/>
          </a:prstGeom>
          <a:solidFill>
            <a:srgbClr val="bbe0e3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МОДУЛЬ «ПЛАНИРОВАН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3929040"/>
            <a:ext cx="2673360" cy="1243080"/>
          </a:xfrm>
          <a:prstGeom prst="ellipse">
            <a:avLst/>
          </a:prstGeom>
          <a:solidFill>
            <a:srgbClr val="bbe0e3"/>
          </a:solidFill>
          <a:ln w="127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Tahoma"/>
              </a:rPr>
              <a:t>Формирование первоначальных планов филиал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306440" y="5119560"/>
            <a:ext cx="2293920" cy="105264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Формирование сводного бюдж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317760" y="4076640"/>
            <a:ext cx="2452680" cy="123048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Корректировка первоначальных планов бюдж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691240" y="5056200"/>
            <a:ext cx="2084400" cy="110664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Утверждение бюдж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1898640" y="2882880"/>
            <a:ext cx="1308240" cy="968400"/>
          </a:xfrm>
          <a:prstGeom prst="line">
            <a:avLst/>
          </a:prstGeom>
          <a:ln w="2030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2719080" y="2846520"/>
            <a:ext cx="1297080" cy="202860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472000" y="2862360"/>
            <a:ext cx="984240" cy="197784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4570560" y="2846520"/>
            <a:ext cx="1440" cy="116496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746760" y="3836880"/>
            <a:ext cx="2219400" cy="125748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Формирование отчета об исполнении бюдж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099120" y="2868480"/>
            <a:ext cx="1162080" cy="94320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924200" y="179280"/>
            <a:ext cx="701964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ТРУКТУРА СВОДНОГО БЮДЖЕТА ПРЕД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68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69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1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72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74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"/>
          <p:cNvSpPr/>
          <p:nvPr/>
        </p:nvSpPr>
        <p:spPr>
          <a:xfrm>
            <a:off x="3681360" y="1197000"/>
            <a:ext cx="2503440" cy="917640"/>
          </a:xfrm>
          <a:prstGeom prst="rect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Сводный бюд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4760" y="1195560"/>
            <a:ext cx="91440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0-ой урове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8920" y="2959200"/>
            <a:ext cx="890640" cy="582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1-ый урове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0320" y="5154480"/>
            <a:ext cx="844560" cy="549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2-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урове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16000" y="2916360"/>
            <a:ext cx="2262240" cy="917280"/>
          </a:xfrm>
          <a:prstGeom prst="rect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Операционный б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юд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39960" y="2903400"/>
            <a:ext cx="2586240" cy="917640"/>
          </a:xfrm>
          <a:prstGeom prst="rect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Инвестиционный бюд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500880" y="2916360"/>
            <a:ext cx="2020680" cy="917280"/>
          </a:xfrm>
          <a:prstGeom prst="rect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Финансовый бюд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128600" y="5119560"/>
            <a:ext cx="2224080" cy="1362240"/>
          </a:xfrm>
          <a:prstGeom prst="rect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Прогноз отчета о прибылях и убытк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1960" y="5081760"/>
            <a:ext cx="2173320" cy="1400040"/>
          </a:xfrm>
          <a:prstGeom prst="rect">
            <a:avLst/>
          </a:prstGeom>
          <a:solidFill>
            <a:srgbClr val="bbe0e3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Бюджет движения денежных сред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450120" y="5094360"/>
            <a:ext cx="2109600" cy="1387440"/>
          </a:xfrm>
          <a:prstGeom prst="rect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Бюджет по балансовому лис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2362320" y="2136600"/>
            <a:ext cx="2481120" cy="671760"/>
          </a:xfrm>
          <a:prstGeom prst="line">
            <a:avLst/>
          </a:prstGeom>
          <a:ln w="10152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61080" y="2112840"/>
            <a:ext cx="28440" cy="711360"/>
          </a:xfrm>
          <a:prstGeom prst="line">
            <a:avLst/>
          </a:prstGeom>
          <a:ln w="10152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900680" y="2128680"/>
            <a:ext cx="2527200" cy="679680"/>
          </a:xfrm>
          <a:prstGeom prst="line">
            <a:avLst/>
          </a:prstGeom>
          <a:ln w="10152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96800" y="3873600"/>
            <a:ext cx="5143320" cy="1120680"/>
          </a:xfrm>
          <a:prstGeom prst="line">
            <a:avLst/>
          </a:prstGeom>
          <a:ln w="10152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5024520" y="3844800"/>
            <a:ext cx="2427120" cy="1094040"/>
          </a:xfrm>
          <a:prstGeom prst="line">
            <a:avLst/>
          </a:prstGeom>
          <a:ln w="10152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466040" y="3832200"/>
            <a:ext cx="3240" cy="1176480"/>
          </a:xfrm>
          <a:prstGeom prst="line">
            <a:avLst/>
          </a:prstGeom>
          <a:ln w="10152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924200" y="179280"/>
            <a:ext cx="701964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ФОРМИРОВАНИЕ ПЕРВОНАЧАЛЬНЫХ ПЛАНОВ ФИЛИАЛОВ В МОДУ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417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418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0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421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423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4" name=""/>
          <p:cNvSpPr/>
          <p:nvPr/>
        </p:nvSpPr>
        <p:spPr>
          <a:xfrm>
            <a:off x="895320" y="3110040"/>
            <a:ext cx="71690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Tahoma"/>
              </a:rPr>
              <a:t>ДИАГРАММА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23800" y="1247760"/>
            <a:ext cx="8115480" cy="4971960"/>
          </a:xfrm>
          <a:prstGeom prst="rect">
            <a:avLst/>
          </a:prstGeom>
          <a:noFill/>
          <a:ln w="76320">
            <a:solidFill>
              <a:srgbClr val="5073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Планирование%20Статьи%20бюджета" descr=""/>
          <p:cNvPicPr/>
          <p:nvPr/>
        </p:nvPicPr>
        <p:blipFill>
          <a:blip r:embed="rId2"/>
          <a:stretch/>
        </p:blipFill>
        <p:spPr>
          <a:xfrm>
            <a:off x="577800" y="1254240"/>
            <a:ext cx="8029800" cy="493236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5649840" y="2921040"/>
            <a:ext cx="2360520" cy="128268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796080" y="3154320"/>
            <a:ext cx="704880" cy="40968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924200" y="179280"/>
            <a:ext cx="701964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ОРМИРОВАНИЕ ПЕРВОНАЧАЛЬНЫХ ПЛАНОВ ФИЛИАЛОВ В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АЙЛАХ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433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434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6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439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0" name=""/>
          <p:cNvSpPr/>
          <p:nvPr/>
        </p:nvSpPr>
        <p:spPr>
          <a:xfrm>
            <a:off x="895320" y="3110040"/>
            <a:ext cx="71690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Tahoma"/>
              </a:rPr>
              <a:t>ДИАГРАММА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23800" y="1247760"/>
            <a:ext cx="8115480" cy="4971960"/>
          </a:xfrm>
          <a:prstGeom prst="rect">
            <a:avLst/>
          </a:prstGeom>
          <a:noFill/>
          <a:ln w="76320">
            <a:solidFill>
              <a:srgbClr val="5073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Пример%20бюджета%20(БТЭЦ-4)" descr=""/>
          <p:cNvPicPr/>
          <p:nvPr/>
        </p:nvPicPr>
        <p:blipFill>
          <a:blip r:embed="rId2"/>
          <a:stretch/>
        </p:blipFill>
        <p:spPr>
          <a:xfrm>
            <a:off x="555480" y="1292400"/>
            <a:ext cx="8061480" cy="489420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819000" y="2211480"/>
            <a:ext cx="152892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924200" y="179280"/>
            <a:ext cx="7019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МОДУЛЬ «ПЛАНИРОВАН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448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449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1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452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454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5" name=""/>
          <p:cNvSpPr/>
          <p:nvPr/>
        </p:nvSpPr>
        <p:spPr>
          <a:xfrm>
            <a:off x="2681280" y="1190520"/>
            <a:ext cx="3781440" cy="1554120"/>
          </a:xfrm>
          <a:prstGeom prst="rect">
            <a:avLst/>
          </a:prstGeom>
          <a:solidFill>
            <a:srgbClr val="bbe0e3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МОДУЛЬ «ПЛАНИРОВАН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90440" y="3929040"/>
            <a:ext cx="2455920" cy="124308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Tahoma"/>
              </a:rPr>
              <a:t>Формирование первоначальных планов филиал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306440" y="5119560"/>
            <a:ext cx="2293920" cy="1052640"/>
          </a:xfrm>
          <a:prstGeom prst="ellipse">
            <a:avLst/>
          </a:prstGeom>
          <a:solidFill>
            <a:srgbClr val="bbe0e3"/>
          </a:solidFill>
          <a:ln w="127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Формирование сводного бюдж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317760" y="4076640"/>
            <a:ext cx="2452680" cy="123048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Корректировка первоначальных планов бюдж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691240" y="5056200"/>
            <a:ext cx="2084400" cy="110664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Утверждение бюдж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1898640" y="2882880"/>
            <a:ext cx="1308240" cy="96840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2719080" y="2846520"/>
            <a:ext cx="1297080" cy="2028600"/>
          </a:xfrm>
          <a:prstGeom prst="line">
            <a:avLst/>
          </a:prstGeom>
          <a:ln w="2030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472000" y="2862360"/>
            <a:ext cx="984240" cy="197784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4570560" y="2846520"/>
            <a:ext cx="1440" cy="116496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746760" y="3836880"/>
            <a:ext cx="2219400" cy="125748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Формирование отчета об исполнении бюдж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099120" y="2868480"/>
            <a:ext cx="1162080" cy="94320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924200" y="179280"/>
            <a:ext cx="701964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ФОРМИРОВАНИЕ СВОДНОГО БЮДЖ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470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471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3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476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7" name=""/>
          <p:cNvSpPr/>
          <p:nvPr/>
        </p:nvSpPr>
        <p:spPr>
          <a:xfrm>
            <a:off x="895320" y="3110040"/>
            <a:ext cx="71690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Tahoma"/>
              </a:rPr>
              <a:t>ДИАГРАММА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23800" y="1247760"/>
            <a:ext cx="8115480" cy="4971960"/>
          </a:xfrm>
          <a:prstGeom prst="rect">
            <a:avLst/>
          </a:prstGeom>
          <a:noFill/>
          <a:ln w="76320">
            <a:solidFill>
              <a:srgbClr val="5073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Проект%20консолидированного%20бюджета" descr=""/>
          <p:cNvPicPr/>
          <p:nvPr/>
        </p:nvPicPr>
        <p:blipFill>
          <a:blip r:embed="rId2"/>
          <a:stretch/>
        </p:blipFill>
        <p:spPr>
          <a:xfrm>
            <a:off x="577800" y="1268280"/>
            <a:ext cx="8020080" cy="492300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6454800" y="2976480"/>
            <a:ext cx="2004840" cy="152892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954840" y="3251160"/>
            <a:ext cx="792000" cy="25092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830240" y="4440240"/>
            <a:ext cx="4802400" cy="144792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5978160" y="3429000"/>
            <a:ext cx="1090440" cy="123048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924200" y="179280"/>
            <a:ext cx="7019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МОДУЛЬ «ПЛАНИРОВАН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488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489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1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494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5" name=""/>
          <p:cNvSpPr/>
          <p:nvPr/>
        </p:nvSpPr>
        <p:spPr>
          <a:xfrm>
            <a:off x="2681280" y="1190520"/>
            <a:ext cx="3781440" cy="1554120"/>
          </a:xfrm>
          <a:prstGeom prst="rect">
            <a:avLst/>
          </a:prstGeom>
          <a:solidFill>
            <a:srgbClr val="bbe0e3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МОДУЛЬ «ПЛАНИРОВАН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90440" y="3929040"/>
            <a:ext cx="2455920" cy="124308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Tahoma"/>
              </a:rPr>
              <a:t>Формирование первоначальных планов филиал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306440" y="5119560"/>
            <a:ext cx="2293920" cy="105264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Формирование сводного бюдж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317760" y="4076640"/>
            <a:ext cx="2548080" cy="1230480"/>
          </a:xfrm>
          <a:prstGeom prst="ellipse">
            <a:avLst/>
          </a:prstGeom>
          <a:solidFill>
            <a:srgbClr val="bbe0e3"/>
          </a:solidFill>
          <a:ln w="127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Корректировка первоначальных планов бюдж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691240" y="5056200"/>
            <a:ext cx="2084400" cy="110664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Утверждение бюдж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H="1">
            <a:off x="1898640" y="2882880"/>
            <a:ext cx="1308240" cy="96840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2719080" y="2846520"/>
            <a:ext cx="1297080" cy="202860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472000" y="2862360"/>
            <a:ext cx="984240" cy="197784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flipH="1">
            <a:off x="4570560" y="2846520"/>
            <a:ext cx="1440" cy="1164960"/>
          </a:xfrm>
          <a:prstGeom prst="line">
            <a:avLst/>
          </a:prstGeom>
          <a:ln w="2030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746760" y="3836880"/>
            <a:ext cx="2219400" cy="125748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Формирование отчета об исполнении бюдж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099120" y="2868480"/>
            <a:ext cx="1162080" cy="94320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924200" y="179280"/>
            <a:ext cx="7019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ОРРЕКТИРОВКА «СВЕРХУ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510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511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3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514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516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7" name=""/>
          <p:cNvSpPr/>
          <p:nvPr/>
        </p:nvSpPr>
        <p:spPr>
          <a:xfrm>
            <a:off x="523800" y="1247760"/>
            <a:ext cx="8115480" cy="4971960"/>
          </a:xfrm>
          <a:prstGeom prst="rect">
            <a:avLst/>
          </a:prstGeom>
          <a:noFill/>
          <a:ln w="76320">
            <a:solidFill>
              <a:srgbClr val="5073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895320" y="3110040"/>
            <a:ext cx="71690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Tahoma"/>
              </a:rPr>
              <a:t>ДИАГРАММА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Планирование%20Корректировка%20Сверху" descr=""/>
          <p:cNvPicPr/>
          <p:nvPr/>
        </p:nvPicPr>
        <p:blipFill>
          <a:blip r:embed="rId2"/>
          <a:stretch/>
        </p:blipFill>
        <p:spPr>
          <a:xfrm>
            <a:off x="566640" y="1260360"/>
            <a:ext cx="8023320" cy="494028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6172200" y="3706920"/>
            <a:ext cx="995400" cy="26172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3151080" y="3825360"/>
            <a:ext cx="478080" cy="180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205680" y="3714840"/>
            <a:ext cx="949320" cy="122040"/>
          </a:xfrm>
          <a:prstGeom prst="rect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924200" y="179280"/>
            <a:ext cx="7019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ОРРЕКТИРОВКА «СНИЗУ» В МОДУ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527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528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0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531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533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4" name=""/>
          <p:cNvSpPr/>
          <p:nvPr/>
        </p:nvSpPr>
        <p:spPr>
          <a:xfrm>
            <a:off x="895320" y="3110040"/>
            <a:ext cx="71690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Tahoma"/>
              </a:rPr>
              <a:t>ДИАГРАММА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23800" y="1247760"/>
            <a:ext cx="8115480" cy="4971960"/>
          </a:xfrm>
          <a:prstGeom prst="rect">
            <a:avLst/>
          </a:prstGeom>
          <a:noFill/>
          <a:ln w="76320">
            <a:solidFill>
              <a:srgbClr val="5073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Планирование%20Корректировка%20Снизу%20в%20модуле" descr=""/>
          <p:cNvPicPr/>
          <p:nvPr/>
        </p:nvPicPr>
        <p:blipFill>
          <a:blip r:embed="rId2"/>
          <a:stretch/>
        </p:blipFill>
        <p:spPr>
          <a:xfrm>
            <a:off x="568440" y="1258920"/>
            <a:ext cx="8021520" cy="493884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/>
          <p:nvPr/>
        </p:nvSpPr>
        <p:spPr>
          <a:xfrm>
            <a:off x="6186600" y="3706920"/>
            <a:ext cx="995400" cy="26172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3151080" y="3825360"/>
            <a:ext cx="478080" cy="180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2814480" y="2149560"/>
            <a:ext cx="792360" cy="3096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813040" y="2637000"/>
            <a:ext cx="320040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924200" y="179280"/>
            <a:ext cx="7019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РРЕКТИРОВКА «СНИЗУ» В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el’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545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546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8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549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551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2" name=""/>
          <p:cNvSpPr/>
          <p:nvPr/>
        </p:nvSpPr>
        <p:spPr>
          <a:xfrm>
            <a:off x="895320" y="3110040"/>
            <a:ext cx="71690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Tahoma"/>
              </a:rPr>
              <a:t>ДИАГРАММА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23800" y="1247760"/>
            <a:ext cx="8115480" cy="4971960"/>
          </a:xfrm>
          <a:prstGeom prst="rect">
            <a:avLst/>
          </a:prstGeom>
          <a:noFill/>
          <a:ln w="76320">
            <a:solidFill>
              <a:srgbClr val="5073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Планирование%20Корректировка%20Снизу%20в%20Excel" descr=""/>
          <p:cNvPicPr/>
          <p:nvPr/>
        </p:nvPicPr>
        <p:blipFill>
          <a:blip r:embed="rId2"/>
          <a:stretch/>
        </p:blipFill>
        <p:spPr>
          <a:xfrm>
            <a:off x="582480" y="1270080"/>
            <a:ext cx="8007480" cy="48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924200" y="179280"/>
            <a:ext cx="7019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МОДУЛЬ «ПЛАНИРОВАН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559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560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2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563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565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6" name=""/>
          <p:cNvSpPr/>
          <p:nvPr/>
        </p:nvSpPr>
        <p:spPr>
          <a:xfrm>
            <a:off x="2681280" y="1190520"/>
            <a:ext cx="3781440" cy="1554120"/>
          </a:xfrm>
          <a:prstGeom prst="rect">
            <a:avLst/>
          </a:prstGeom>
          <a:solidFill>
            <a:srgbClr val="bbe0e3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МОДУЛЬ «ПЛАНИРОВАН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90440" y="3929040"/>
            <a:ext cx="2455920" cy="124308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Tahoma"/>
              </a:rPr>
              <a:t>Формирование первоначальных планов филиал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306440" y="5119560"/>
            <a:ext cx="2293920" cy="105264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Формирование сводного бюдж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317760" y="4076640"/>
            <a:ext cx="2452680" cy="123048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Корректировка первоначальных планов бюдж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691240" y="5056200"/>
            <a:ext cx="2084400" cy="1106640"/>
          </a:xfrm>
          <a:prstGeom prst="ellipse">
            <a:avLst/>
          </a:prstGeom>
          <a:solidFill>
            <a:srgbClr val="bbe0e3"/>
          </a:solidFill>
          <a:ln w="127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Утверждение бюдж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1898640" y="2882880"/>
            <a:ext cx="1308240" cy="96840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2719080" y="2846520"/>
            <a:ext cx="1297080" cy="202860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472000" y="2862360"/>
            <a:ext cx="984240" cy="1977840"/>
          </a:xfrm>
          <a:prstGeom prst="line">
            <a:avLst/>
          </a:prstGeom>
          <a:ln w="2030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4570560" y="2846520"/>
            <a:ext cx="1440" cy="116496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746760" y="3836880"/>
            <a:ext cx="2219400" cy="125748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Формирование отчета об исполнении бюдж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099120" y="2868480"/>
            <a:ext cx="1162080" cy="94320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1924200" y="179280"/>
            <a:ext cx="7019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ОГЛАСОВАНИЕ СТАТЕЙ БЮДЖ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581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582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4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585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587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895320" y="3110040"/>
            <a:ext cx="71690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Tahoma"/>
              </a:rPr>
              <a:t>ДИАГРАММА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23800" y="1247760"/>
            <a:ext cx="8115480" cy="4971960"/>
          </a:xfrm>
          <a:prstGeom prst="rect">
            <a:avLst/>
          </a:prstGeom>
          <a:noFill/>
          <a:ln w="76320">
            <a:solidFill>
              <a:srgbClr val="5073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Планирование%20Утверждение%20бюджета" descr=""/>
          <p:cNvPicPr/>
          <p:nvPr/>
        </p:nvPicPr>
        <p:blipFill>
          <a:blip r:embed="rId2"/>
          <a:stretch/>
        </p:blipFill>
        <p:spPr>
          <a:xfrm>
            <a:off x="582480" y="1254240"/>
            <a:ext cx="7937640" cy="49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24200" y="179280"/>
            <a:ext cx="701964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РГАНИЗАЦИОННАЯ СТРУКТУРА В ПРОЦЕССЕ БЮДЖЕТИР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95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96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"/>
          <p:cNvSpPr/>
          <p:nvPr/>
        </p:nvSpPr>
        <p:spPr>
          <a:xfrm>
            <a:off x="3397320" y="1092240"/>
            <a:ext cx="2463840" cy="916920"/>
          </a:xfrm>
          <a:prstGeom prst="rect">
            <a:avLst/>
          </a:prstGeom>
          <a:solidFill>
            <a:srgbClr val="bbe0e3"/>
          </a:solidFill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Бюджетный отдел Исполнительного Аппа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57360" y="2817720"/>
            <a:ext cx="2685960" cy="916920"/>
          </a:xfrm>
          <a:prstGeom prst="rect">
            <a:avLst/>
          </a:prstGeom>
          <a:solidFill>
            <a:srgbClr val="bbe0e3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тдел Исполнительного Аппарата 1 (ЦФУ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952960" y="2782800"/>
            <a:ext cx="2559240" cy="916920"/>
          </a:xfrm>
          <a:prstGeom prst="rect">
            <a:avLst/>
          </a:prstGeom>
          <a:solidFill>
            <a:srgbClr val="bbe0e3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тдел Исполнительного Аппарата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N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(ЦФУ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N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73000" y="4913280"/>
            <a:ext cx="1416240" cy="642600"/>
          </a:xfrm>
          <a:prstGeom prst="rect">
            <a:avLst/>
          </a:prstGeom>
          <a:solidFill>
            <a:srgbClr val="bbe0e3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Филиал 1 (ЦФО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63880" y="4951440"/>
            <a:ext cx="1416240" cy="642600"/>
          </a:xfrm>
          <a:prstGeom prst="rect">
            <a:avLst/>
          </a:prstGeom>
          <a:solidFill>
            <a:srgbClr val="bbe0e3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Филиал 2 (ЦФО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18480" y="4951440"/>
            <a:ext cx="1415880" cy="642600"/>
          </a:xfrm>
          <a:prstGeom prst="rect">
            <a:avLst/>
          </a:prstGeom>
          <a:solidFill>
            <a:srgbClr val="bbe0e3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Филиал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m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(ЦФО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m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62040" y="3809880"/>
            <a:ext cx="0" cy="11430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00200" y="3860640"/>
            <a:ext cx="2971800" cy="1054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55880" y="3835440"/>
            <a:ext cx="5499000" cy="10796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645320" y="3759120"/>
            <a:ext cx="0" cy="1193760"/>
          </a:xfrm>
          <a:prstGeom prst="line">
            <a:avLst/>
          </a:prstGeom>
          <a:ln w="76320">
            <a:solidFill>
              <a:srgbClr val="00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4749480" y="3772080"/>
            <a:ext cx="2832120" cy="1104840"/>
          </a:xfrm>
          <a:prstGeom prst="line">
            <a:avLst/>
          </a:prstGeom>
          <a:ln w="76320">
            <a:solidFill>
              <a:srgbClr val="00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752480" y="3797280"/>
            <a:ext cx="5461200" cy="1066680"/>
          </a:xfrm>
          <a:prstGeom prst="line">
            <a:avLst/>
          </a:prstGeom>
          <a:ln w="76320">
            <a:solidFill>
              <a:srgbClr val="00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311560" y="2336760"/>
            <a:ext cx="2070000" cy="2959200"/>
          </a:xfrm>
          <a:prstGeom prst="line">
            <a:avLst/>
          </a:prstGeom>
          <a:ln w="5724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826240" y="5011560"/>
            <a:ext cx="69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4572000" y="2298600"/>
            <a:ext cx="0" cy="2616480"/>
          </a:xfrm>
          <a:prstGeom prst="line">
            <a:avLst/>
          </a:prstGeom>
          <a:ln w="5724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4749840" y="2324160"/>
            <a:ext cx="2108160" cy="2946240"/>
          </a:xfrm>
          <a:prstGeom prst="line">
            <a:avLst/>
          </a:prstGeom>
          <a:ln w="5724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790640" y="1778040"/>
            <a:ext cx="1371600" cy="851040"/>
          </a:xfrm>
          <a:prstGeom prst="line">
            <a:avLst/>
          </a:prstGeom>
          <a:ln w="1522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6070680" y="1891800"/>
            <a:ext cx="1270080" cy="622440"/>
          </a:xfrm>
          <a:prstGeom prst="line">
            <a:avLst/>
          </a:prstGeom>
          <a:ln w="1522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924200" y="179280"/>
            <a:ext cx="7019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МОДУЛЬ «ПЛАНИРОВАН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595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596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8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599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601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2" name=""/>
          <p:cNvSpPr/>
          <p:nvPr/>
        </p:nvSpPr>
        <p:spPr>
          <a:xfrm>
            <a:off x="2681280" y="1190520"/>
            <a:ext cx="3781440" cy="1554120"/>
          </a:xfrm>
          <a:prstGeom prst="rect">
            <a:avLst/>
          </a:prstGeom>
          <a:solidFill>
            <a:srgbClr val="bbe0e3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МОДУЛЬ «ПЛАНИРОВАН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90440" y="3929040"/>
            <a:ext cx="2455920" cy="124308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Tahoma"/>
              </a:rPr>
              <a:t>Формирование первоначальных планов филиал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306440" y="5119560"/>
            <a:ext cx="2293920" cy="105264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Формирование сводного бюдж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317760" y="4076640"/>
            <a:ext cx="2452680" cy="123048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Корректировка первоначальных планов бюдж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691240" y="5056200"/>
            <a:ext cx="2084400" cy="110664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Утверждение бюдж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1898640" y="2882880"/>
            <a:ext cx="1308240" cy="96840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719080" y="2846520"/>
            <a:ext cx="1297080" cy="202860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472000" y="2862360"/>
            <a:ext cx="984240" cy="197784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flipH="1">
            <a:off x="4570560" y="2846520"/>
            <a:ext cx="1440" cy="116496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610320" y="3836880"/>
            <a:ext cx="2355840" cy="1257480"/>
          </a:xfrm>
          <a:prstGeom prst="ellipse">
            <a:avLst/>
          </a:prstGeom>
          <a:solidFill>
            <a:srgbClr val="bbe0e3"/>
          </a:solidFill>
          <a:ln w="127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Формирование отчета об исполнении бюдж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099120" y="2868480"/>
            <a:ext cx="1162080" cy="943200"/>
          </a:xfrm>
          <a:prstGeom prst="line">
            <a:avLst/>
          </a:prstGeom>
          <a:ln w="2030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924200" y="179280"/>
            <a:ext cx="701964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ФОРМИРОВАНИЕ ОТЧЕТА  ОБ ИСПОЛНЕНИИ БЮДЖЕТА В МОДУ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617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618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0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623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4" name=""/>
          <p:cNvSpPr/>
          <p:nvPr/>
        </p:nvSpPr>
        <p:spPr>
          <a:xfrm>
            <a:off x="895320" y="3110040"/>
            <a:ext cx="71690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Tahoma"/>
              </a:rPr>
              <a:t>ДИАГРАММА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523800" y="1247760"/>
            <a:ext cx="8115480" cy="4971960"/>
          </a:xfrm>
          <a:prstGeom prst="rect">
            <a:avLst/>
          </a:prstGeom>
          <a:noFill/>
          <a:ln w="76320">
            <a:solidFill>
              <a:srgbClr val="5073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Контроль%20исполнения%20бюджета%20Планирование" descr=""/>
          <p:cNvPicPr/>
          <p:nvPr/>
        </p:nvPicPr>
        <p:blipFill>
          <a:blip r:embed="rId2"/>
          <a:stretch/>
        </p:blipFill>
        <p:spPr>
          <a:xfrm>
            <a:off x="576360" y="1297080"/>
            <a:ext cx="8022960" cy="4905360"/>
          </a:xfrm>
          <a:prstGeom prst="rect">
            <a:avLst/>
          </a:prstGeom>
          <a:ln w="0">
            <a:noFill/>
          </a:ln>
        </p:spPr>
      </p:pic>
      <p:sp>
        <p:nvSpPr>
          <p:cNvPr id="627" name=""/>
          <p:cNvSpPr/>
          <p:nvPr/>
        </p:nvSpPr>
        <p:spPr>
          <a:xfrm>
            <a:off x="6102360" y="2978280"/>
            <a:ext cx="2319480" cy="5079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924200" y="179280"/>
            <a:ext cx="701964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ОРМИРОВАНИЕ ОТЧЕТА ОБ ИСПОЛНЕНИИ  БЮДЖЕТА В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el’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632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633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5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638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9" name=""/>
          <p:cNvSpPr/>
          <p:nvPr/>
        </p:nvSpPr>
        <p:spPr>
          <a:xfrm>
            <a:off x="895320" y="3110040"/>
            <a:ext cx="71690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Tahoma"/>
              </a:rPr>
              <a:t>ДИАГРАММА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3800" y="1247760"/>
            <a:ext cx="8115480" cy="4971960"/>
          </a:xfrm>
          <a:prstGeom prst="rect">
            <a:avLst/>
          </a:prstGeom>
          <a:noFill/>
          <a:ln w="76320">
            <a:solidFill>
              <a:srgbClr val="5073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Отчет%20об%20исполнении%20бюджета%20(БТЭЦ-4)" descr=""/>
          <p:cNvPicPr/>
          <p:nvPr/>
        </p:nvPicPr>
        <p:blipFill>
          <a:blip r:embed="rId2"/>
          <a:stretch/>
        </p:blipFill>
        <p:spPr>
          <a:xfrm>
            <a:off x="569880" y="1295280"/>
            <a:ext cx="80359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917720" y="893880"/>
            <a:ext cx="7093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ПЕРЕЧЕНЬ ОТЧЕ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0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655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6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657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5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59" name=""/>
          <p:cNvSpPr/>
          <p:nvPr/>
        </p:nvSpPr>
        <p:spPr>
          <a:xfrm>
            <a:off x="1300320" y="2111400"/>
            <a:ext cx="7164360" cy="47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666720" indent="-6667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Бюджет движения денежных средств фили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Сводный бюджет движения денежных сред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План движения денежных средств филиала за квартал по месяц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Консолидированный план финансовых средств за кварт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План централизованных расчетов филиала за квартал по месяц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План централизованных расчетов за квартал (по филиала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914480" y="1519200"/>
            <a:ext cx="5749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План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917720" y="893880"/>
            <a:ext cx="7093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ПЕРЕЧЕНЬ ОТЧЕ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69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674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75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676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7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78" name=""/>
          <p:cNvSpPr/>
          <p:nvPr/>
        </p:nvSpPr>
        <p:spPr>
          <a:xfrm>
            <a:off x="1273320" y="2031840"/>
            <a:ext cx="7164360" cy="47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666720" indent="-6667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Отчет об исполнении финансового плана филиала за кварт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Отчет об исполнении консолидированного плана за квартал по месяц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Отчет об исполнении плана централизованных расчетов филиала за кварт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Отчет об исполнении плана централизованных расчетов за квартал (по филиала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Отчет об исполнении БДФС по источникам выпл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1914480" y="1519200"/>
            <a:ext cx="574992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Отчеты об исполнении бюджет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1917720" y="893880"/>
            <a:ext cx="7093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ПЕРЕЧЕНЬ ОТЧЕ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88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2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693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94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695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9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97" name=""/>
          <p:cNvSpPr/>
          <p:nvPr/>
        </p:nvSpPr>
        <p:spPr>
          <a:xfrm>
            <a:off x="1300320" y="2163600"/>
            <a:ext cx="716436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666720" indent="-6667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План-факт централизованных расчетов филиала за кварт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Сводный план-факт централизованных расчетов за квартал (по филиала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914480" y="1519200"/>
            <a:ext cx="5749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ff"/>
                </a:solidFill>
                <a:latin typeface="Tahoma"/>
              </a:rPr>
              <a:t>План-фактные форм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924200" y="179280"/>
            <a:ext cx="7019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ТЧЕ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2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703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704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6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707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709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0" name=""/>
          <p:cNvSpPr/>
          <p:nvPr/>
        </p:nvSpPr>
        <p:spPr>
          <a:xfrm>
            <a:off x="895320" y="3110040"/>
            <a:ext cx="71690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Tahoma"/>
              </a:rPr>
              <a:t>ДИАГРАММА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1" name="Печатная%20форма%203" descr=""/>
          <p:cNvPicPr/>
          <p:nvPr/>
        </p:nvPicPr>
        <p:blipFill>
          <a:blip r:embed="rId2"/>
          <a:stretch/>
        </p:blipFill>
        <p:spPr>
          <a:xfrm>
            <a:off x="573120" y="858960"/>
            <a:ext cx="4572000" cy="3249360"/>
          </a:xfrm>
          <a:prstGeom prst="rect">
            <a:avLst/>
          </a:prstGeom>
          <a:ln w="57240">
            <a:solidFill>
              <a:srgbClr val="597abd"/>
            </a:solidFill>
            <a:miter/>
          </a:ln>
        </p:spPr>
      </p:pic>
      <p:pic>
        <p:nvPicPr>
          <p:cNvPr id="712" name="Печатная%20форма%201" descr=""/>
          <p:cNvPicPr/>
          <p:nvPr/>
        </p:nvPicPr>
        <p:blipFill>
          <a:blip r:embed="rId3"/>
          <a:stretch/>
        </p:blipFill>
        <p:spPr>
          <a:xfrm>
            <a:off x="2473200" y="1311120"/>
            <a:ext cx="4575240" cy="4233960"/>
          </a:xfrm>
          <a:prstGeom prst="rect">
            <a:avLst/>
          </a:prstGeom>
          <a:ln w="57240">
            <a:solidFill>
              <a:srgbClr val="597abd"/>
            </a:solidFill>
            <a:miter/>
          </a:ln>
        </p:spPr>
      </p:pic>
      <p:pic>
        <p:nvPicPr>
          <p:cNvPr id="713" name="Печатная%20форма%202" descr=""/>
          <p:cNvPicPr/>
          <p:nvPr/>
        </p:nvPicPr>
        <p:blipFill>
          <a:blip r:embed="rId4"/>
          <a:stretch/>
        </p:blipFill>
        <p:spPr>
          <a:xfrm>
            <a:off x="3683160" y="2571840"/>
            <a:ext cx="5087880" cy="3867120"/>
          </a:xfrm>
          <a:prstGeom prst="rect">
            <a:avLst/>
          </a:prstGeom>
          <a:ln w="57240">
            <a:solidFill>
              <a:srgbClr val="597a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1835280" y="674640"/>
            <a:ext cx="709272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СНОВНЫЕ ПРЕИМУЩЕСТВА ОТ ВНЕДРЕНИЯ ПОДСИСТЕМЫ «ФИНАСОВОЕ ПЛАНИРОВАНИЕ»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АО «Пермэнерг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22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727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28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729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3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731" name=""/>
          <p:cNvSpPr/>
          <p:nvPr/>
        </p:nvSpPr>
        <p:spPr>
          <a:xfrm>
            <a:off x="1366920" y="2189160"/>
            <a:ext cx="7226280" cy="49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71680" indent="-571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99"/>
                </a:solidFill>
                <a:latin typeface="Tahoma"/>
              </a:rPr>
              <a:t>Быстрый сбор консолидированного бюджета на основе первоначальных планов филиалов (1 день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99"/>
                </a:solidFill>
                <a:latin typeface="Tahoma"/>
              </a:rPr>
              <a:t>Быстрая и качественная корректировка первоначальных планов филиалов отделами управляющей компании (Центрами Финансового Учета) (3-4 дня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99"/>
                </a:solidFill>
                <a:latin typeface="Tahoma"/>
              </a:rPr>
              <a:t>Получение филиалами откорректированных бюджетов (на следующий день после корректировки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99"/>
                </a:solidFill>
                <a:latin typeface="Tahoma"/>
              </a:rPr>
              <a:t>Ежемесячный контроль за исполнением бюджетов филиалов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99"/>
                </a:solidFill>
                <a:latin typeface="Tahoma"/>
              </a:rPr>
              <a:t>Хранение любых изменений сумм бюджетов всех подразделений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99"/>
                </a:solidFill>
                <a:latin typeface="Tahoma"/>
              </a:rPr>
              <a:t>Возможность получения информации о бюджетном процессе в режиме реального времен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99"/>
                </a:solidFill>
                <a:latin typeface="Tahoma"/>
              </a:rPr>
              <a:t>Автоматизация сбора информации о фактическом исполнении бюджета на основе данных бухгалтерского учет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40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4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745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46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747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4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749" name=""/>
          <p:cNvSpPr/>
          <p:nvPr/>
        </p:nvSpPr>
        <p:spPr>
          <a:xfrm>
            <a:off x="1879560" y="1246320"/>
            <a:ext cx="7093080" cy="15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Сергей Герасим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Ведущий специали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ЗАО «Геликон Пр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886040" y="3367080"/>
            <a:ext cx="702000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3399"/>
                </a:solidFill>
                <a:latin typeface="Tahoma"/>
              </a:rPr>
              <a:t>тел.: (3422) 103-101, 103-178, 103-76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Tahoma"/>
              </a:rPr>
              <a:t>E-mail: info@gelicon.b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Tahoma"/>
              </a:rPr>
              <a:t>www. gelicon.b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917720" y="893880"/>
            <a:ext cx="70930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ЭТАПЫ БЮДЖЕТНОГО ПРОЦЕС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>
            <a:hlinkClick r:id="rId1"/>
          </p:cNvPr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90520" y="2062080"/>
            <a:ext cx="6677280" cy="39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71680" indent="-343080">
              <a:lnSpc>
                <a:spcPct val="100000"/>
              </a:lnSpc>
              <a:buClr>
                <a:srgbClr val="33cc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Определение структуры бюдж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lnSpc>
                <a:spcPct val="100000"/>
              </a:lnSpc>
              <a:buClr>
                <a:srgbClr val="33cc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Формирование бюдж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Формирование первоначальных планов филиа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Формирование сводного бюдж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Корректировка первоначальных пл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Утверждение бюдж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lnSpc>
                <a:spcPct val="100000"/>
              </a:lnSpc>
              <a:buClr>
                <a:srgbClr val="33ccff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Формирование отчета об исполнении бюдж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9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134" name="" descr=""/>
            <p:cNvPicPr/>
            <p:nvPr/>
          </p:nvPicPr>
          <p:blipFill>
            <a:blip r:embed="rId2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5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136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24200" y="179280"/>
            <a:ext cx="7019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ТАТЬИ БЮДЖ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142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143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9" name=""/>
          <p:cNvSpPr/>
          <p:nvPr/>
        </p:nvSpPr>
        <p:spPr>
          <a:xfrm>
            <a:off x="895320" y="3110040"/>
            <a:ext cx="71690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Tahoma"/>
              </a:rPr>
              <a:t>ДИАГРАММА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23800" y="1247760"/>
            <a:ext cx="8115480" cy="4971960"/>
          </a:xfrm>
          <a:prstGeom prst="rect">
            <a:avLst/>
          </a:prstGeom>
          <a:noFill/>
          <a:ln w="76320">
            <a:solidFill>
              <a:srgbClr val="5073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Пример%20бюджета%20(БТЭЦ-4)" descr=""/>
          <p:cNvPicPr/>
          <p:nvPr/>
        </p:nvPicPr>
        <p:blipFill>
          <a:blip r:embed="rId2"/>
          <a:stretch/>
        </p:blipFill>
        <p:spPr>
          <a:xfrm>
            <a:off x="560520" y="1300320"/>
            <a:ext cx="8024760" cy="48718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3429000"/>
            <a:ext cx="3340080" cy="247644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21000" y="2728800"/>
            <a:ext cx="194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татьи бюдж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438280" y="3048120"/>
            <a:ext cx="0" cy="38088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924200" y="179280"/>
            <a:ext cx="7019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ОКАЗАТЕЛИ БЮДЖ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159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160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65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6" name=""/>
          <p:cNvSpPr/>
          <p:nvPr/>
        </p:nvSpPr>
        <p:spPr>
          <a:xfrm>
            <a:off x="895320" y="3110040"/>
            <a:ext cx="71690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Tahoma"/>
              </a:rPr>
              <a:t>ДИАГРАММА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23800" y="1247760"/>
            <a:ext cx="8115480" cy="4971960"/>
          </a:xfrm>
          <a:prstGeom prst="rect">
            <a:avLst/>
          </a:prstGeom>
          <a:noFill/>
          <a:ln w="76320">
            <a:solidFill>
              <a:srgbClr val="5073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Пример%20бюджета%20(БТЭЦ-4)" descr=""/>
          <p:cNvPicPr/>
          <p:nvPr/>
        </p:nvPicPr>
        <p:blipFill>
          <a:blip r:embed="rId2"/>
          <a:stretch/>
        </p:blipFill>
        <p:spPr>
          <a:xfrm>
            <a:off x="560520" y="1300320"/>
            <a:ext cx="8024760" cy="48718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962520" y="2254320"/>
            <a:ext cx="1726920" cy="14223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10000" y="2728800"/>
            <a:ext cx="243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казатели бюдж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89320" y="2933640"/>
            <a:ext cx="457200" cy="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753160" y="2241720"/>
            <a:ext cx="2108160" cy="14223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62520" y="2273400"/>
            <a:ext cx="609480" cy="15228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27600" y="2286000"/>
            <a:ext cx="660600" cy="15228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924200" y="179280"/>
            <a:ext cx="7019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ЯЧЕЙКИ БЮДЖ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179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180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2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85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6" name=""/>
          <p:cNvSpPr/>
          <p:nvPr/>
        </p:nvSpPr>
        <p:spPr>
          <a:xfrm>
            <a:off x="895320" y="3110040"/>
            <a:ext cx="71690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Tahoma"/>
              </a:rPr>
              <a:t>ДИАГРАММА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3800" y="1247760"/>
            <a:ext cx="8115480" cy="4971960"/>
          </a:xfrm>
          <a:prstGeom prst="rect">
            <a:avLst/>
          </a:prstGeom>
          <a:noFill/>
          <a:ln w="76320">
            <a:solidFill>
              <a:srgbClr val="5073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Пример%20бюджета%20(БТЭЦ-4)" descr=""/>
          <p:cNvPicPr/>
          <p:nvPr/>
        </p:nvPicPr>
        <p:blipFill>
          <a:blip r:embed="rId2"/>
          <a:stretch/>
        </p:blipFill>
        <p:spPr>
          <a:xfrm>
            <a:off x="560520" y="1300320"/>
            <a:ext cx="8024760" cy="48718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762120" y="5372280"/>
            <a:ext cx="3244680" cy="26028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521360" y="272880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Ячейка бюдж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438280" y="3048120"/>
            <a:ext cx="2248200" cy="224784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24280" y="2419200"/>
            <a:ext cx="320760" cy="12510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76920" y="3666960"/>
            <a:ext cx="0" cy="17053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010040" y="5477040"/>
            <a:ext cx="69516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11240" y="154080"/>
            <a:ext cx="70200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ОДУЛИ ПОДСИСТЕМЫ «ФИНАНСОВОЕ ПЛАНИРОВАНИЕ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 «Капитал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CSE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199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200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2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205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6" name=""/>
          <p:cNvSpPr/>
          <p:nvPr/>
        </p:nvSpPr>
        <p:spPr>
          <a:xfrm>
            <a:off x="244440" y="2651040"/>
            <a:ext cx="3781440" cy="1554120"/>
          </a:xfrm>
          <a:prstGeom prst="rect">
            <a:avLst/>
          </a:prstGeom>
          <a:solidFill>
            <a:srgbClr val="bbe0e3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МОДУЛЬ «КОНСТРУКТОР БЮДЖЕТО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143680" y="2654280"/>
            <a:ext cx="3743280" cy="1549440"/>
          </a:xfrm>
          <a:prstGeom prst="rect">
            <a:avLst/>
          </a:prstGeom>
          <a:solidFill>
            <a:srgbClr val="bbe0e3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МОДУЛЬ «ПЛАНИРОВАН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114800" y="3429000"/>
            <a:ext cx="927000" cy="0"/>
          </a:xfrm>
          <a:prstGeom prst="line">
            <a:avLst/>
          </a:prstGeom>
          <a:ln w="1144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924200" y="179280"/>
            <a:ext cx="7019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МОДУЛЬ «КОНСТРУКТОР БЮДЖЕТО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213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214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6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219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/>
          <p:cNvSpPr/>
          <p:nvPr/>
        </p:nvSpPr>
        <p:spPr>
          <a:xfrm>
            <a:off x="2681280" y="1190520"/>
            <a:ext cx="3781440" cy="1554120"/>
          </a:xfrm>
          <a:prstGeom prst="rect">
            <a:avLst/>
          </a:prstGeom>
          <a:solidFill>
            <a:srgbClr val="bbe0e3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МОДУЛЬ «КОНСТРУКТОР БЮДЖЕТО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68120" y="3819600"/>
            <a:ext cx="2084400" cy="125712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Определение </a:t>
            </a:r>
            <a:r>
              <a:rPr b="1" lang="ru-RU" sz="1400" spc="-1" strike="noStrike">
                <a:solidFill>
                  <a:srgbClr val="003399"/>
                </a:solidFill>
                <a:latin typeface="Tahoma"/>
              </a:rPr>
              <a:t>структуры </a:t>
            </a: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статей бюджет</a:t>
            </a:r>
            <a:r>
              <a:rPr b="1" lang="ru-RU" sz="1400" spc="-1" strike="noStrike">
                <a:solidFill>
                  <a:srgbClr val="003399"/>
                </a:solidFill>
                <a:latin typeface="Tahoma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01920" y="3808440"/>
            <a:ext cx="2084400" cy="125712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Определение </a:t>
            </a: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показателей</a:t>
            </a: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 бюджет</a:t>
            </a: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707000" y="3832200"/>
            <a:ext cx="2084400" cy="125748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Настройка прав на ячейки</a:t>
            </a: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 бюджет</a:t>
            </a: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931080" y="3881520"/>
            <a:ext cx="2084400" cy="125712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Определение </a:t>
            </a: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набора </a:t>
            </a: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статей </a:t>
            </a: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для каждого отдела (ЦФУ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1596960" y="2882880"/>
            <a:ext cx="1663920" cy="81612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3468240" y="2817720"/>
            <a:ext cx="668520" cy="85752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46680" y="2835360"/>
            <a:ext cx="1542960" cy="96660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857840" y="2819520"/>
            <a:ext cx="695160" cy="87768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11:03:08Z</dcterms:created>
  <dc:creator>Alexander</dc:creator>
  <dc:description/>
  <dc:language>en-US</dc:language>
  <cp:lastModifiedBy>Sergei Gerasimov</cp:lastModifiedBy>
  <cp:lastPrinted>2003-11-27T08:17:54Z</cp:lastPrinted>
  <dcterms:modified xsi:type="dcterms:W3CDTF">2003-12-08T10:56:45Z</dcterms:modified>
  <cp:revision>411</cp:revision>
  <dc:subject/>
  <dc:title>Слайд 1</dc:title>
</cp:coreProperties>
</file>