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603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D7CA-8336-4B36-B790-5A1EEBE91A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характеристик программного продукта является способность к инсталляции, конфигурированию и обновлению с минимальным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ыдущей версии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3.039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появилось интеллектуальное ядро обновления метаданных, которое значительно облегчает процесс инсталляции и обновления системы. Мы продолжаем работать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одно из направлений – это развертывание на корпоративном сервере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ы технической поддержки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читаем, что задачи решаемые в рамках данно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ы, повысят качество сопровожден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заключении хочу отметить, что Капитал CSE 4 - это не только новая версия системы, - это  платформа для дальнейшего развития функциональности Капитал CSE в сторону ERP-сист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видов деятельности компании является производство программного обеспе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фере постоянно занято от 5 до 7 высококвалифицированных сотрудников. Ежемесячные трудозатраты составляют более 700 ч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. За 10 лет своего существования компания Геликон Про инвестировала в разработку программных продуктов более полумиллиона долл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вляющее большинство трудозатрат и инвестиций можно отнести к нашему основному продукту – системе управления финансово-хозяйственной деятельностью предприятия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В результате, с периодичностью раз в 2 года выпускается новая версия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 в полгода – пакет исправлений, улучшающий эксплуатационные характеристики продукта. Также осуществляется оперативная техническая поддержка, которая, с одной стороны, помогает решать неотложные задачи наших заказчиков, а с другой, реализует обратную связь между заказчиком и разработ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содержащий в себе не только базовую функциональность, но и совокупность инструментов, позволяющих адаптировать бизнес-приложения под существующие у заказчика бизнес-процессы. При создании новой 4 версии продукта 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изменили его концепцию, что позволяет говорить 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овой платформе для построения бизнес-при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выделить 4 отличительных момента новой верс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. слай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к уж повелось, что разработчики большинство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стем обращают мало внимания на проектирование и разработку интерфейса пользователя. Наверное, это вызвано чрезвычайной сложностью задач, которые решаются в рамках подобных систем, поэтому как говорится «руки не доходят»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Это положение дел усугубляется попытками превратить проблему нехватки времени и желания в идеологию. Некоторые разработчики и менеджеры, по старинке, считают пользователей – операторами ЭВМ, полагая, что основными потребителями информации, являются руководители высшего и среднего звена, которым нужны уже результаты, причем в бумажном виде. А раз так, то нет особой необходимости трудится над интерфейсом пользователя, ведь лицам принимающим решение с этим не работа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ы думаем несколько инач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все большее число руководителей начинают напрямую пользоваться информационными систем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все большее число сотрудников вовлекается в управление компаниями (например, это одна из прямых рекомендаций стандарта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-9000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), что приводит к необходимости предоставления им удобного и функционально-развитого интерфейса пользовател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, мы считаем, что правильно спроектированный и реализованный интерфейс позволяет экономить средства, выделяемые на обучение и переподготовку сотрудников заказчика, что приносит прямой экономический эффек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SE 4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удет иметь новый интерфейс пользователя, который облегчит управление бизнес-приложениями и предоставит еще больше полезных функций, расширяющих возможности управления данными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удет изменена технология доступа к данным. До сих пор мы пользовалис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новой вер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ет использова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land dbExpr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это высокопроизводительный, кросс-платформенный и простой в развертывании механизм доступа к данным. Например, реализац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СУБ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щается в одной динамической библиотеке, а конфигурация в двух конфигурационных файл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драйве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на основе открытого стандарта, что позволяет использовать продукты сторонних компаний разработчиков. Мы уже воспользовались данной возможностью, приобретя у компании Core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ставку вместе с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го лучшего драйвера для СУБ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показана принципиальная схема взаимодействия различного программного обеспечения в процессе доступа к да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метить, что с целью обеспечения совместимости, нашей компаний были разработаны компонен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E Bridge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рактически полностью совпадают с известными компонентам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DE Data Acc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акими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Query, TStoredProc, T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es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ует только однонаправленный курсор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необходимость в использован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land Mida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й предназначен для кэширования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тороне кли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аконец, драйве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ют управление соединением, курсорами и хранимыми процедурами. Следует отметить, что для доступа к локальным файлам используется драйве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Express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работает чере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доступа к данным, изображенная на рисунке уже реализована. По результатам ее тестирования она была признана весьма эффектив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проблемно-ориентированный язык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ыдущих верси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лся механизм интерпретации программ, что снижало их надежность и производ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ащен однопроходным компилятор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ным на основе методов синтаксически-управляемой трансля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сти, схема я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ана  в виде форм Бэкуса-Науе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специализированного метаязыка, что снижает вероятность возникновения ошибок в синтаксисе и семантике я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ащен специальным модул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Run-Time Manager. GRT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ет неограниченные возможности по расширению я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схема дает представление о компонентах GO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илятор GOAL имеет на входе исходную программу, а на выходе объектный код, в котором записаны инструкции виртуальной машины GO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туальная машина GOAL представляет собой модифицированную стековую машину. Модификация заключается в том, что машина имеет несколько специализированных регистров, например специальный регистр цикла for, который позволяет повысить производительность цик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илятор и виртуальная машина, используют GRTM, который поставляет информацию о зарегистрированных функциях и идентификаторах, а также классах их методах и свойствах. GRTM представляет собой совокупность COM-объектов, реализующих интерфейсы спецификации GRTM. Благодаря такой архитектуре, функции, объекты и их методы не зависит от языка реализации. Также GRTM реализует так называемый безопасный вызов. Аргументы функции, результат вызова и др. передаются через специализированный интерфейс, который мы назвали CallableSo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схема уже реализована. Созданы &gt; 1500 тестовых примеров, которые подтверждают работоспособность новой версии языка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FA8-AFD1-4ADF-BEDB-023F3BF7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DE7-B94E-4697-9003-729DC237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889-DA9D-4F61-A6EE-BDEA9FA8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7AD-88D8-463A-BF41-20933D9D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C5B-BBAF-4BD3-8B1E-BF9A095A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9DF-C212-4180-8899-D7738958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29F-E1BC-4D6E-B364-73EB9993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A9D-B7C8-4E9A-8E82-29385454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6DE-279A-4F03-B0EC-94C7ADA2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3D2-1024-4FA3-90DE-4AE1D3B0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62A-297E-489C-80CB-D63BE392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FC3-7C92-4BBB-870F-EFACC704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9AAF-9C83-47FE-A1E3-FA2EF6BC0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gelicon.bi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65480"/>
            <a:ext cx="52387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ПЕРСПЕКТИВЫ РАЗВИТИЯ ПРОГРАММНЫХ ПРОДУКТОВ КОМПАНИИ ГЕЛИКОН ПР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люев Андр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обеспечения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СТАЛЛЯЦИЯ И ОБНОВЛЕНИ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17600" y="2489040"/>
            <a:ext cx="7083360" cy="28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Дальнейшее развитие интеллектуального ядра обновления мета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новление, мониторинг и конфигурирование системы через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EB-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ервис «Служба технической поддержки» корпоративного сервера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3" name=""/>
          <p:cNvSpPr/>
          <p:nvPr/>
        </p:nvSpPr>
        <p:spPr>
          <a:xfrm>
            <a:off x="1879560" y="124632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юев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еспечения ЗАО «Геликон П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17720" y="81756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ИЗВОДСТВО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27080" y="169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ХАРАКТЕРИСТИКА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"/>
          <p:cNvSpPr/>
          <p:nvPr/>
        </p:nvSpPr>
        <p:spPr>
          <a:xfrm>
            <a:off x="1952640" y="376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ОБЪЕМЫ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136440" y="888840"/>
            <a:ext cx="1573200" cy="52628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739880" y="2158920"/>
            <a:ext cx="7404120" cy="14223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27080" y="2293920"/>
            <a:ext cx="7048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ол-во разработчиков ПО - 5-7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рудозатраты &gt;  700 чел.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час.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бъемы внутренних инвестиций &gt;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$500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 000 за десять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39880" y="4216320"/>
            <a:ext cx="7404120" cy="19432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0040" y="4300560"/>
            <a:ext cx="690876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новых версий с периодичностью в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пакетов исправлений (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rvice Pack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)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периодичностью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 пол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перативная техническая поддержка и выпуск «горячих» ис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17720" y="893880"/>
            <a:ext cx="709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E 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АЯ ПЛАТФОРМА ДЛЯ ПОСТРОЕНИЯ БИЗНЕС-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0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" name=""/>
          <p:cNvSpPr/>
          <p:nvPr/>
        </p:nvSpPr>
        <p:spPr>
          <a:xfrm>
            <a:off x="1355760" y="2674800"/>
            <a:ext cx="762012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овременный интерфейс пользователя, предоставляющий максимум возможностей для управления бизнес-приложения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овый механизм доступа к данным на основе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BEx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овая версия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AL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надежного и современного алгоритмического языка, ориентированного на управление бизнес-приложения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Удобная и простая процедура инсталляции и обновления системы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ОВЫЙ ИНТЕРФЕЙ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ЛЬЗОВ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55760" y="2306520"/>
            <a:ext cx="762012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«Плоский» интерфейс улучшает восприятие и упрощает управление бизнес-приложения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новленные компоненты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-47304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расширяют возможности управления данными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-47304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улучшают производительность обработки данных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Дизайн продукта в руки профессиона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154080"/>
            <a:ext cx="9144000" cy="501480"/>
            <a:chOff x="0" y="154080"/>
            <a:chExt cx="9144000" cy="501480"/>
          </a:xfrm>
        </p:grpSpPr>
        <p:sp>
          <p:nvSpPr>
            <p:cNvPr id="12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3160" y="800280"/>
            <a:ext cx="78757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7720" y="893880"/>
            <a:ext cx="7093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СТУП К ДАННЫМ НА ОСНОВ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rland dbExpres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7600" y="2489040"/>
            <a:ext cx="7620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Высокопроизводительный, кросс-платформенный и простой в развертывании слой ПО, соединяющий клиента СУБД и бизнес-приложения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ткрытый стандарт создания драйверов, что позволяет в полной мере использовать продукты сторон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/>
          </p:cNvPr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45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39760" y="1042920"/>
            <a:ext cx="6953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СТУП К ДАННЫМ НА ОСНОВ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rland dbExpres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924200" y="179280"/>
              <a:ext cx="701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АПИТАЛ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SE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39840" y="2478240"/>
            <a:ext cx="8648640" cy="3198600"/>
            <a:chOff x="339840" y="2478240"/>
            <a:chExt cx="8648640" cy="3198600"/>
          </a:xfrm>
        </p:grpSpPr>
        <p:sp>
          <p:nvSpPr>
            <p:cNvPr id="159" name=""/>
            <p:cNvSpPr/>
            <p:nvPr/>
          </p:nvSpPr>
          <p:spPr>
            <a:xfrm>
              <a:off x="5740560" y="2565360"/>
              <a:ext cx="380880" cy="2362320"/>
            </a:xfrm>
            <a:prstGeom prst="rightArrowCallout">
              <a:avLst>
                <a:gd name="adj1" fmla="val 66451"/>
                <a:gd name="adj2" fmla="val 75949"/>
                <a:gd name="adj3" fmla="val 53333"/>
                <a:gd name="adj4" fmla="val 15153"/>
              </a:avLst>
            </a:prstGeom>
            <a:solidFill>
              <a:srgbClr val="6181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39840" y="2543040"/>
              <a:ext cx="2419200" cy="2911680"/>
              <a:chOff x="339840" y="2543040"/>
              <a:chExt cx="2419200" cy="2911680"/>
            </a:xfrm>
          </p:grpSpPr>
          <p:sp>
            <p:nvSpPr>
              <p:cNvPr id="161" name=""/>
              <p:cNvSpPr/>
              <p:nvPr/>
            </p:nvSpPr>
            <p:spPr>
              <a:xfrm>
                <a:off x="339840" y="2543040"/>
                <a:ext cx="2419200" cy="291168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elico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DE Bridge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9800" y="3002040"/>
                <a:ext cx="2044800" cy="368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Que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7200" y="3497400"/>
                <a:ext cx="2044800" cy="342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StoredPro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200" y="3992400"/>
                <a:ext cx="2044800" cy="34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854440" y="2543040"/>
              <a:ext cx="425160" cy="29116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rland Midas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184800" y="3297240"/>
              <a:ext cx="1328760" cy="1108080"/>
              <a:chOff x="6184800" y="3297240"/>
              <a:chExt cx="1328760" cy="1108080"/>
            </a:xfrm>
          </p:grpSpPr>
          <p:sp>
            <p:nvSpPr>
              <p:cNvPr id="167" name="Cloud"/>
              <p:cNvSpPr/>
              <p:nvPr/>
            </p:nvSpPr>
            <p:spPr>
              <a:xfrm>
                <a:off x="6184800" y="3297240"/>
                <a:ext cx="1328760" cy="1108080"/>
              </a:xfrm>
              <a:prstGeom prst="pi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26360" y="3513240"/>
                <a:ext cx="869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TCP/IP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SQL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7543440" y="2478240"/>
              <a:ext cx="1445040" cy="3116520"/>
              <a:chOff x="7543440" y="2478240"/>
              <a:chExt cx="1445040" cy="311652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7986960" y="2478240"/>
                <a:ext cx="988920" cy="894240"/>
                <a:chOff x="7986960" y="2478240"/>
                <a:chExt cx="988920" cy="89424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7986960" y="2478240"/>
                  <a:ext cx="988920" cy="894240"/>
                  <a:chOff x="7986960" y="2478240"/>
                  <a:chExt cx="988920" cy="89424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7986960" y="2478240"/>
                    <a:ext cx="986760" cy="894240"/>
                    <a:chOff x="7986960" y="2478240"/>
                    <a:chExt cx="986760" cy="8942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7986960" y="3119040"/>
                      <a:ext cx="986760" cy="25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986960" y="2607480"/>
                      <a:ext cx="986760" cy="638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986960" y="2478240"/>
                      <a:ext cx="986760" cy="2559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6" name=""/>
                  <p:cNvSpPr/>
                  <p:nvPr/>
                </p:nvSpPr>
                <p:spPr>
                  <a:xfrm>
                    <a:off x="8972640" y="2603520"/>
                    <a:ext cx="3240" cy="63756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986960" y="2622600"/>
                    <a:ext cx="2880" cy="61848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" name=""/>
                <p:cNvSpPr txBox="1"/>
                <p:nvPr/>
              </p:nvSpPr>
              <p:spPr>
                <a:xfrm>
                  <a:off x="8061480" y="2817720"/>
                  <a:ext cx="844560" cy="34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Down">
                    <a:avLst>
                      <a:gd name="adj" fmla="val 333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ahoma"/>
                    </a:rPr>
                    <a:t>Oracle 8i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ahoma"/>
                    <a:ea typeface="Tahoma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986960" y="3595320"/>
                <a:ext cx="988920" cy="894240"/>
                <a:chOff x="7986960" y="3595320"/>
                <a:chExt cx="988920" cy="89424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7986960" y="3595320"/>
                  <a:ext cx="988920" cy="894240"/>
                  <a:chOff x="7986960" y="3595320"/>
                  <a:chExt cx="988920" cy="89424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7986960" y="3595320"/>
                    <a:ext cx="986760" cy="894240"/>
                    <a:chOff x="7986960" y="3595320"/>
                    <a:chExt cx="986760" cy="89424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986960" y="4236120"/>
                      <a:ext cx="986760" cy="25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7986960" y="3724560"/>
                      <a:ext cx="986760" cy="638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986960" y="3595320"/>
                      <a:ext cx="986760" cy="2559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8972640" y="3720600"/>
                    <a:ext cx="3240" cy="63756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986960" y="3739680"/>
                    <a:ext cx="2880" cy="61848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" name=""/>
                <p:cNvSpPr txBox="1"/>
                <p:nvPr/>
              </p:nvSpPr>
              <p:spPr>
                <a:xfrm>
                  <a:off x="8061480" y="3934800"/>
                  <a:ext cx="844560" cy="34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Down">
                    <a:avLst>
                      <a:gd name="adj" fmla="val 333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ahoma"/>
                    </a:rPr>
                    <a:t>Interbase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ahoma"/>
                    <a:ea typeface="Tahoma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999560" y="4700520"/>
                <a:ext cx="988920" cy="894240"/>
                <a:chOff x="7999560" y="4700520"/>
                <a:chExt cx="988920" cy="89424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7999560" y="4700520"/>
                  <a:ext cx="988920" cy="894240"/>
                  <a:chOff x="7999560" y="4700520"/>
                  <a:chExt cx="988920" cy="89424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999560" y="4700520"/>
                    <a:ext cx="986760" cy="894240"/>
                    <a:chOff x="7999560" y="4700520"/>
                    <a:chExt cx="986760" cy="894240"/>
                  </a:xfrm>
                </p:grpSpPr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999560" y="5341320"/>
                      <a:ext cx="986760" cy="253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7999560" y="4829760"/>
                      <a:ext cx="986760" cy="6386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7999560" y="4700520"/>
                      <a:ext cx="986760" cy="2559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0">
                      <a:solidFill>
                        <a:srgbClr val="99003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>
                    <a:off x="8985240" y="4825800"/>
                    <a:ext cx="3240" cy="63756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999560" y="4844880"/>
                    <a:ext cx="2880" cy="618480"/>
                  </a:xfrm>
                  <a:prstGeom prst="line">
                    <a:avLst/>
                  </a:prstGeom>
                  <a:ln w="0">
                    <a:solidFill>
                      <a:srgbClr val="99003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"/>
                <p:cNvSpPr txBox="1"/>
                <p:nvPr/>
              </p:nvSpPr>
              <p:spPr>
                <a:xfrm>
                  <a:off x="8074080" y="5040000"/>
                  <a:ext cx="844560" cy="345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nDown">
                    <a:avLst>
                      <a:gd name="adj" fmla="val 333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ahoma"/>
                    </a:rPr>
                    <a:t>FB,Yaffil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ahoma"/>
                    <a:ea typeface="Tahoma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H="1">
                <a:off x="7543080" y="2577960"/>
                <a:ext cx="381240" cy="2895120"/>
              </a:xfrm>
              <a:prstGeom prst="rightArrowCallout">
                <a:avLst>
                  <a:gd name="adj1" fmla="val 81361"/>
                  <a:gd name="adj2" fmla="val 92991"/>
                  <a:gd name="adj3" fmla="val 53333"/>
                  <a:gd name="adj4" fmla="val 15153"/>
                </a:avLst>
              </a:prstGeom>
              <a:solidFill>
                <a:srgbClr val="6181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425760" y="2556000"/>
              <a:ext cx="2279520" cy="2886120"/>
              <a:chOff x="3425760" y="2556000"/>
              <a:chExt cx="2279520" cy="2886120"/>
            </a:xfrm>
          </p:grpSpPr>
          <p:sp>
            <p:nvSpPr>
              <p:cNvPr id="199" name=""/>
              <p:cNvSpPr/>
              <p:nvPr/>
            </p:nvSpPr>
            <p:spPr>
              <a:xfrm>
                <a:off x="3425760" y="2556000"/>
                <a:ext cx="2279520" cy="288612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orland dbExpress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73440" y="3076920"/>
                <a:ext cx="36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P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3589200" y="2905200"/>
                <a:ext cx="896400" cy="612000"/>
                <a:chOff x="3589200" y="2905200"/>
                <a:chExt cx="896400" cy="6120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84400" y="2905200"/>
                  <a:ext cx="601200" cy="612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3589200" y="3041640"/>
                  <a:ext cx="295200" cy="324360"/>
                  <a:chOff x="3589200" y="3041640"/>
                  <a:chExt cx="295200" cy="3243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3589200" y="3041640"/>
                    <a:ext cx="1440" cy="32436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589200" y="3205080"/>
                    <a:ext cx="295200" cy="144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3555720" y="360252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racle Dri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43120" y="405576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nterbase Dri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43120" y="450900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B,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Yaffil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и др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3585960" y="3637080"/>
                <a:ext cx="333360" cy="260640"/>
                <a:chOff x="3585960" y="3637080"/>
                <a:chExt cx="333360" cy="260640"/>
              </a:xfrm>
            </p:grpSpPr>
            <p:sp>
              <p:nvSpPr>
                <p:cNvPr id="210" name="Gear"/>
                <p:cNvSpPr/>
                <p:nvPr/>
              </p:nvSpPr>
              <p:spPr>
                <a:xfrm>
                  <a:off x="3770640" y="363708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85960" y="368640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01160" y="373896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573360" y="4090320"/>
                <a:ext cx="333360" cy="260640"/>
                <a:chOff x="3573360" y="4090320"/>
                <a:chExt cx="333360" cy="260640"/>
              </a:xfrm>
            </p:grpSpPr>
            <p:sp>
              <p:nvSpPr>
                <p:cNvPr id="214" name="Gear"/>
                <p:cNvSpPr/>
                <p:nvPr/>
              </p:nvSpPr>
              <p:spPr>
                <a:xfrm>
                  <a:off x="3758040" y="409032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573360" y="413964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688560" y="419220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573360" y="4543560"/>
                <a:ext cx="333360" cy="260640"/>
                <a:chOff x="3573360" y="4543560"/>
                <a:chExt cx="333360" cy="260640"/>
              </a:xfrm>
            </p:grpSpPr>
            <p:sp>
              <p:nvSpPr>
                <p:cNvPr id="218" name="Gear"/>
                <p:cNvSpPr/>
                <p:nvPr/>
              </p:nvSpPr>
              <p:spPr>
                <a:xfrm>
                  <a:off x="3758040" y="454356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573360" y="459288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88560" y="464544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3543120" y="4962240"/>
                <a:ext cx="2044800" cy="365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DB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3585960" y="4996800"/>
                <a:ext cx="333360" cy="260640"/>
                <a:chOff x="3585960" y="4996800"/>
                <a:chExt cx="333360" cy="260640"/>
              </a:xfrm>
            </p:grpSpPr>
            <p:sp>
              <p:nvSpPr>
                <p:cNvPr id="223" name="Gear"/>
                <p:cNvSpPr/>
                <p:nvPr/>
              </p:nvSpPr>
              <p:spPr>
                <a:xfrm>
                  <a:off x="3770640" y="4996800"/>
                  <a:ext cx="148680" cy="1195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585960" y="5046120"/>
                  <a:ext cx="177480" cy="142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01160" y="5098680"/>
                  <a:ext cx="197280" cy="1587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5740560" y="4965840"/>
              <a:ext cx="380880" cy="482400"/>
            </a:xfrm>
            <a:prstGeom prst="rightArrowCallout">
              <a:avLst>
                <a:gd name="adj1" fmla="val 13570"/>
                <a:gd name="adj2" fmla="val 62078"/>
                <a:gd name="adj3" fmla="val 53333"/>
                <a:gd name="adj4" fmla="val 15153"/>
              </a:avLst>
            </a:prstGeom>
            <a:solidFill>
              <a:srgbClr val="6181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Documents"/>
            <p:cNvSpPr/>
            <p:nvPr/>
          </p:nvSpPr>
          <p:spPr>
            <a:xfrm>
              <a:off x="6346800" y="4807080"/>
              <a:ext cx="1098720" cy="869760"/>
            </a:xfrm>
            <a:prstGeom prst="pi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900000" y="2163600"/>
            <a:ext cx="567000" cy="420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4200" y="2163600"/>
            <a:ext cx="567000" cy="420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2163600"/>
            <a:ext cx="566640" cy="420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7720" y="893880"/>
            <a:ext cx="7093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АЯ ВЕРС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5920" y="154080"/>
            <a:ext cx="1604880" cy="501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17600" y="1824120"/>
            <a:ext cx="6647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Компиляция программ на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AL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овышает их надежность и производи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остроение компилятора на основе методов синтаксически-управляемой трансляции снижает вероятность ошибок в синтаксисе и семантике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4280" indent="-5842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Модуль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RTM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оздает неограниченные возможности расширения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248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82680" y="1042920"/>
            <a:ext cx="6635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АЯ ВЕРС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924200" y="179280"/>
              <a:ext cx="701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АПИТАЛ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SE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1" name=""/>
          <p:cNvCxnSpPr>
            <a:stCxn id="262" idx="2"/>
            <a:endCxn id="263" idx="11"/>
          </p:cNvCxnSpPr>
          <p:nvPr/>
        </p:nvCxnSpPr>
        <p:spPr>
          <a:xfrm rot="5400000">
            <a:off x="5033160" y="2573280"/>
            <a:ext cx="394560" cy="115200"/>
          </a:xfrm>
          <a:prstGeom prst="bentConnector3">
            <a:avLst>
              <a:gd name="adj1" fmla="val 49954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64" name=""/>
          <p:cNvGrpSpPr/>
          <p:nvPr/>
        </p:nvGrpSpPr>
        <p:grpSpPr>
          <a:xfrm>
            <a:off x="998640" y="2014560"/>
            <a:ext cx="7292880" cy="4029120"/>
            <a:chOff x="998640" y="2014560"/>
            <a:chExt cx="7292880" cy="4029120"/>
          </a:xfrm>
        </p:grpSpPr>
        <p:cxnSp>
          <p:nvCxnSpPr>
            <p:cNvPr id="265" name=""/>
            <p:cNvCxnSpPr>
              <a:stCxn id="266" idx="12"/>
              <a:endCxn id="267" idx="9"/>
            </p:cNvCxnSpPr>
            <p:nvPr/>
          </p:nvCxnSpPr>
          <p:spPr>
            <a:xfrm flipV="1" rot="16200000">
              <a:off x="4133520" y="4203000"/>
              <a:ext cx="391320" cy="1372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268" name=""/>
            <p:cNvCxnSpPr>
              <a:endCxn id="267" idx="8"/>
            </p:cNvCxnSpPr>
            <p:nvPr/>
          </p:nvCxnSpPr>
          <p:spPr>
            <a:xfrm flipH="1" flipV="1" rot="5400000">
              <a:off x="1904760" y="4285440"/>
              <a:ext cx="810360" cy="66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63" idx="8"/>
              <a:endCxn id="267" idx="10"/>
            </p:cNvCxnSpPr>
            <p:nvPr/>
          </p:nvCxnSpPr>
          <p:spPr>
            <a:xfrm rot="5400000">
              <a:off x="4261680" y="2818080"/>
              <a:ext cx="293040" cy="1530720"/>
            </a:xfrm>
            <a:prstGeom prst="bentConnector3">
              <a:avLst>
                <a:gd name="adj1" fmla="val 49938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63" idx="9"/>
              <a:endCxn id="271" idx="9"/>
            </p:cNvCxnSpPr>
            <p:nvPr/>
          </p:nvCxnSpPr>
          <p:spPr>
            <a:xfrm flipH="1" rot="16200000">
              <a:off x="5775840" y="2833560"/>
              <a:ext cx="293040" cy="1499400"/>
            </a:xfrm>
            <a:prstGeom prst="bentConnector3">
              <a:avLst>
                <a:gd name="adj1" fmla="val 49938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72" name="Documents"/>
            <p:cNvSpPr/>
            <p:nvPr/>
          </p:nvSpPr>
          <p:spPr>
            <a:xfrm>
              <a:off x="998640" y="5021280"/>
              <a:ext cx="1757160" cy="997200"/>
            </a:xfrm>
            <a:prstGeom prst="pi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ходный к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40240" y="3729240"/>
              <a:ext cx="2006280" cy="965160"/>
            </a:xfrm>
            <a:custGeom>
              <a:avLst/>
              <a:gdLst>
                <a:gd name="textAreaLeft" fmla="*/ 159120 w 2006280"/>
                <a:gd name="textAreaRight" fmla="*/ 1847160 w 2006280"/>
                <a:gd name="textAreaTop" fmla="*/ 159120 h 965160"/>
                <a:gd name="textAreaBottom" fmla="*/ 806040 h 965160"/>
              </a:gdLst>
              <a:ahLst/>
              <a:rect l="textAreaLeft" t="textAreaTop" r="textAreaRight" b="textAreaBottom"/>
              <a:pathLst>
                <a:path w="44891" h="21600">
                  <a:moveTo>
                    <a:pt x="0" y="0"/>
                  </a:moveTo>
                  <a:lnTo>
                    <a:pt x="0" y="21600"/>
                  </a:lnTo>
                  <a:lnTo>
                    <a:pt x="44891" y="21600"/>
                  </a:lnTo>
                  <a:lnTo>
                    <a:pt x="44891" y="0"/>
                  </a:lnTo>
                  <a:close/>
                  <a:moveTo>
                    <a:pt x="3562" y="3562"/>
                  </a:moveTo>
                  <a:lnTo>
                    <a:pt x="3562" y="18038"/>
                  </a:lnTo>
                  <a:lnTo>
                    <a:pt x="41329" y="18038"/>
                  </a:lnTo>
                  <a:lnTo>
                    <a:pt x="41329" y="3562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Goal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Documents"/>
            <p:cNvSpPr/>
            <p:nvPr/>
          </p:nvSpPr>
          <p:spPr>
            <a:xfrm>
              <a:off x="4097520" y="5085000"/>
              <a:ext cx="1834920" cy="958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ъектный к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49840" y="3729240"/>
              <a:ext cx="2044800" cy="965160"/>
            </a:xfrm>
            <a:custGeom>
              <a:avLst/>
              <a:gdLst>
                <a:gd name="textAreaLeft" fmla="*/ 159120 w 2044800"/>
                <a:gd name="textAreaRight" fmla="*/ 1885680 w 2044800"/>
                <a:gd name="textAreaTop" fmla="*/ 159120 h 965160"/>
                <a:gd name="textAreaBottom" fmla="*/ 806040 h 965160"/>
              </a:gdLst>
              <a:ahLst/>
              <a:rect l="textAreaLeft" t="textAreaTop" r="textAreaRight" b="textAreaBottom"/>
              <a:pathLst>
                <a:path w="45753" h="21600">
                  <a:moveTo>
                    <a:pt x="0" y="0"/>
                  </a:moveTo>
                  <a:lnTo>
                    <a:pt x="0" y="21600"/>
                  </a:lnTo>
                  <a:lnTo>
                    <a:pt x="45753" y="21600"/>
                  </a:lnTo>
                  <a:lnTo>
                    <a:pt x="45753" y="0"/>
                  </a:lnTo>
                  <a:close/>
                  <a:moveTo>
                    <a:pt x="3562" y="3562"/>
                  </a:moveTo>
                  <a:lnTo>
                    <a:pt x="3562" y="18038"/>
                  </a:lnTo>
                  <a:lnTo>
                    <a:pt x="42191" y="18038"/>
                  </a:lnTo>
                  <a:lnTo>
                    <a:pt x="42191" y="3562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Goal V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665440" y="2827440"/>
              <a:ext cx="5016600" cy="609480"/>
              <a:chOff x="2665440" y="2827440"/>
              <a:chExt cx="5016600" cy="6094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3084480" y="2979720"/>
                <a:ext cx="452520" cy="286920"/>
                <a:chOff x="3084480" y="2979720"/>
                <a:chExt cx="452520" cy="2869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233520" y="2979720"/>
                  <a:ext cx="303480" cy="286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solidFill>
                    <a:srgbClr val="1f1a17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3084480" y="3043800"/>
                  <a:ext cx="149040" cy="151920"/>
                  <a:chOff x="3084480" y="3043800"/>
                  <a:chExt cx="149040" cy="1519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3084480" y="3043800"/>
                    <a:ext cx="720" cy="15192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084480" y="3120480"/>
                    <a:ext cx="149040" cy="720"/>
                  </a:xfrm>
                  <a:prstGeom prst="line">
                    <a:avLst/>
                  </a:prstGeom>
                  <a:ln w="0">
                    <a:solidFill>
                      <a:srgbClr val="1f1a17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3" name=""/>
              <p:cNvSpPr/>
              <p:nvPr/>
            </p:nvSpPr>
            <p:spPr>
              <a:xfrm>
                <a:off x="2665440" y="2827440"/>
                <a:ext cx="5016600" cy="609480"/>
              </a:xfrm>
              <a:custGeom>
                <a:avLst/>
                <a:gdLst>
                  <a:gd name="textAreaLeft" fmla="*/ 100440 w 5016600"/>
                  <a:gd name="textAreaRight" fmla="*/ 4916160 w 5016600"/>
                  <a:gd name="textAreaTop" fmla="*/ 100440 h 609480"/>
                  <a:gd name="textAreaBottom" fmla="*/ 509040 h 609480"/>
                </a:gdLst>
                <a:ahLst/>
                <a:rect l="textAreaLeft" t="textAreaTop" r="textAreaRight" b="textAreaBottom"/>
                <a:pathLst>
                  <a:path w="177696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177696" y="21600"/>
                    </a:lnTo>
                    <a:lnTo>
                      <a:pt x="177696" y="0"/>
                    </a:lnTo>
                    <a:close/>
                    <a:moveTo>
                      <a:pt x="3562" y="3562"/>
                    </a:moveTo>
                    <a:lnTo>
                      <a:pt x="3562" y="18038"/>
                    </a:lnTo>
                    <a:lnTo>
                      <a:pt x="174134" y="18038"/>
                    </a:lnTo>
                    <a:lnTo>
                      <a:pt x="174134" y="3562"/>
                    </a:lnTo>
                    <a:close/>
                  </a:path>
                </a:pathLst>
              </a:cu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Goal Run-Time Manag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281240" y="2014560"/>
              <a:ext cx="2844720" cy="419040"/>
              <a:chOff x="1281240" y="2014560"/>
              <a:chExt cx="2844720" cy="419040"/>
            </a:xfrm>
          </p:grpSpPr>
          <p:sp>
            <p:nvSpPr>
              <p:cNvPr id="280" name=""/>
              <p:cNvSpPr/>
              <p:nvPr/>
            </p:nvSpPr>
            <p:spPr>
              <a:xfrm>
                <a:off x="1281240" y="2014560"/>
                <a:ext cx="2844720" cy="41904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oal Common Libr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1349280" y="2079720"/>
                <a:ext cx="333360" cy="263520"/>
                <a:chOff x="1349280" y="2079720"/>
                <a:chExt cx="333360" cy="263520"/>
              </a:xfrm>
            </p:grpSpPr>
            <p:sp>
              <p:nvSpPr>
                <p:cNvPr id="282" name="Gear"/>
                <p:cNvSpPr/>
                <p:nvPr/>
              </p:nvSpPr>
              <p:spPr>
                <a:xfrm>
                  <a:off x="1533960" y="2079720"/>
                  <a:ext cx="148680" cy="1209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49280" y="2129400"/>
                  <a:ext cx="1774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464480" y="2182680"/>
                  <a:ext cx="197280" cy="160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"/>
            <p:cNvGrpSpPr/>
            <p:nvPr/>
          </p:nvGrpSpPr>
          <p:grpSpPr>
            <a:xfrm>
              <a:off x="4354560" y="2014560"/>
              <a:ext cx="1866960" cy="419040"/>
              <a:chOff x="4354560" y="2014560"/>
              <a:chExt cx="1866960" cy="419040"/>
            </a:xfrm>
          </p:grpSpPr>
          <p:sp>
            <p:nvSpPr>
              <p:cNvPr id="262" name=""/>
              <p:cNvSpPr/>
              <p:nvPr/>
            </p:nvSpPr>
            <p:spPr>
              <a:xfrm>
                <a:off x="4354560" y="2014560"/>
                <a:ext cx="1866960" cy="41904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BO Libr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4422600" y="2079720"/>
                <a:ext cx="336600" cy="263520"/>
                <a:chOff x="4422600" y="2079720"/>
                <a:chExt cx="336600" cy="263520"/>
              </a:xfrm>
            </p:grpSpPr>
            <p:sp>
              <p:nvSpPr>
                <p:cNvPr id="287" name="Gear"/>
                <p:cNvSpPr/>
                <p:nvPr/>
              </p:nvSpPr>
              <p:spPr>
                <a:xfrm>
                  <a:off x="4609080" y="2079720"/>
                  <a:ext cx="150120" cy="1209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422600" y="2129400"/>
                  <a:ext cx="1792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538880" y="2182680"/>
                  <a:ext cx="199440" cy="160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6424560" y="2027520"/>
              <a:ext cx="1866960" cy="419040"/>
              <a:chOff x="6424560" y="2027520"/>
              <a:chExt cx="1866960" cy="419040"/>
            </a:xfrm>
          </p:grpSpPr>
          <p:sp>
            <p:nvSpPr>
              <p:cNvPr id="291" name=""/>
              <p:cNvSpPr/>
              <p:nvPr/>
            </p:nvSpPr>
            <p:spPr>
              <a:xfrm>
                <a:off x="6424560" y="2027520"/>
                <a:ext cx="1866960" cy="419040"/>
              </a:xfrm>
              <a:prstGeom prst="rect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ther Libr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6480000" y="2092680"/>
                <a:ext cx="336600" cy="263520"/>
                <a:chOff x="6480000" y="2092680"/>
                <a:chExt cx="336600" cy="263520"/>
              </a:xfrm>
            </p:grpSpPr>
            <p:sp>
              <p:nvSpPr>
                <p:cNvPr id="293" name="Gear"/>
                <p:cNvSpPr/>
                <p:nvPr/>
              </p:nvSpPr>
              <p:spPr>
                <a:xfrm>
                  <a:off x="6666480" y="2092680"/>
                  <a:ext cx="150120" cy="1209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480000" y="2142360"/>
                  <a:ext cx="179280" cy="1443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596280" y="2195640"/>
                  <a:ext cx="199440" cy="160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54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96" name=""/>
            <p:cNvCxnSpPr>
              <a:stCxn id="280" idx="2"/>
              <a:endCxn id="263" idx="10"/>
            </p:cNvCxnSpPr>
            <p:nvPr/>
          </p:nvCxnSpPr>
          <p:spPr>
            <a:xfrm flipH="1" rot="16200000">
              <a:off x="3740760" y="1395360"/>
              <a:ext cx="394560" cy="2470680"/>
            </a:xfrm>
            <a:prstGeom prst="bentConnector3">
              <a:avLst>
                <a:gd name="adj1" fmla="val 4995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1" idx="2"/>
              <a:endCxn id="263" idx="12"/>
            </p:cNvCxnSpPr>
            <p:nvPr/>
          </p:nvCxnSpPr>
          <p:spPr>
            <a:xfrm rot="5400000">
              <a:off x="6074640" y="1544760"/>
              <a:ext cx="381600" cy="2185200"/>
            </a:xfrm>
            <a:prstGeom prst="bentConnector3">
              <a:avLst>
                <a:gd name="adj1" fmla="val 49952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71" idx="8"/>
              <a:endCxn id="266" idx="13"/>
            </p:cNvCxnSpPr>
            <p:nvPr/>
          </p:nvCxnSpPr>
          <p:spPr>
            <a:xfrm rot="5400000">
              <a:off x="5866560" y="4759200"/>
              <a:ext cx="870480" cy="74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99" name=""/>
          <p:cNvSpPr/>
          <p:nvPr/>
        </p:nvSpPr>
        <p:spPr>
          <a:xfrm>
            <a:off x="2162160" y="3598920"/>
            <a:ext cx="566640" cy="4204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577280" y="3613320"/>
            <a:ext cx="566640" cy="4204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635960" y="2727360"/>
            <a:ext cx="566640" cy="4204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kav</cp:lastModifiedBy>
  <cp:lastPrinted>2003-11-27T08:17:54Z</cp:lastPrinted>
  <dcterms:modified xsi:type="dcterms:W3CDTF">2003-12-09T06:48:49Z</dcterms:modified>
  <cp:revision>220</cp:revision>
  <dc:subject/>
  <dc:title>Слайд 1</dc:title>
</cp:coreProperties>
</file>