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200" y="7603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952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C754-EC0F-4661-AC52-CCD50C82AE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важнейших характеристик программного продукта является способность к инсталляции, конфигурированию и обновлению с минимальным вмешательством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ыдущей версии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3.039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появилось интеллектуальное ядро обновления метаданных, которое значительно облегчает процесс инсталляции и обновления системы. Мы продолжаем работать в этом напр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е одно из направлений – это развертывание на корпоративном сервере компан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бы технической поддержки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считаем, что задачи решаемые в рамках данно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бы, повысят качество сопровождения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заключении хочу отметить, что Капитал CSE 4 - это не только новая версия системы, - это  платформа для дальнейшего развития функциональности Капитал CSE в сторону ERP-сист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им из видов деятельности компании является производство программного обеспеч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й сфере постоянно занято от 5 до 7 высококвалифицированных сотрудников. Ежемесячные трудозатраты составляют более 700 че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. За 10 лет своего существования компания Геликон Про инвестировала в разработку программных продуктов более полумиллиона долл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вляющее большинство трудозатрат и инвестиций можно отнести к нашему основному продукту – системе управления финансово-хозяйственной деятельностью предприятия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В результате, с периодичностью раз в 2 года выпускается новая версия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 в полгода – пакет исправлений, улучшающий эксплуатационные характеристики продукта. Также осуществляется оперативная техническая поддержка, которая, с одной стороны, помогает решать неотложные задачи наших заказчиков, а с другой, реализует обратную связь между заказчиком и разработч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 содержащий в себе не только базовую функциональность, но и совокупность инструментов, позволяющих адаптировать бизнес-приложения под существующие у заказчика бизнес-процессы. При создании новой 4 версии продукта 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изменили его концепцию, что позволяет говорить о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4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овой платформе для построения бизнес-при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выделить 4 отличительных момента новой верс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. слай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ак уж повелось, что разработчики большинство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RP-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истем обращают мало внимания на проектирование и разработку интерфейса пользователя. Наверное, это вызвано чрезвычайной сложностью задач, которые решаются в рамках подобных систем, поэтому как говорится «руки не доходят»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Это положение дел усугубляется попытками превратить проблему нехватки времени и желания в идеологию. Некоторые разработчики и менеджеры, по старинке, считают пользователей – операторами ЭВМ, полагая, что основными потребителями информации, являются руководители высшего и среднего звена, которым нужны уже результаты, причем в бумажном виде. А раз так, то нет особой необходимости трудится над интерфейсом пользователя, ведь лицам принимающим решение с этим не работат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ы думаем несколько инач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-первых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, все большее число руководителей начинают напрямую пользоваться информационными системам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-вторых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, все большее число сотрудников вовлекается в управление компаниями (например, это одна из прямых рекомендаций стандарта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O-9000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), что приводит к необходимости предоставления им удобного и функционально-развитого интерфейса пользователя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-третьих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, мы считаем, что правильно спроектированный и реализованный интерфейс позволяет экономить средства, выделяемые на обучение и переподготовку сотрудников заказчика, что приносит прямой экономический эффек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питал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SE 4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удет иметь новый интерфейс пользователя, который облегчит управление бизнес-приложениями и предоставит еще больше полезных функций, расширяющих возможности управления данными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удет изменена технология доступа к данным. До сих пор мы пользовалис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E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я с новой вер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ет использова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land dbExpr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-перв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это высокопроизводительный, кросс-платформенный и простой в развертывании механизм доступа к данным. Например, реализац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Expr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СУБ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ba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щается в одной динамической библиотеке, а конфигурация в двух конфигурационных файл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-втор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драйвер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Express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ются на основе открытого стандарта, что позволяет использовать продукты сторонних компаний разработчиков. Мы уже воспользовались данной возможностью, приобретя у компании Core L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поставку вместе с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го лучшего драйвера для СУБ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айде показана принципиальная схема взаимодействия различного программного обеспечения в процессе доступа к да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тметить, что с целью обеспечения совместимости, нашей компаний были разработаны компонент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E Bridge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е практически полностью совпадают с известными компонентам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DE Data Acc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акими ка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Query, TStoredProc, T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Expess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ует только однонаправленный курсор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необходимость в использовани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rland Mida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й предназначен для кэширования дан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тороне кли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аконец, драйвер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Express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ют управление соединением, курсорами и хранимыми процедурами. Следует отметить, что для доступа к локальным файлам используется драйвер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Express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работает через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доступа к данным, изображенная на рисунке уже реализована. По результатам ее тестирования она была признана весьма эффектив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й проблемно-ориентированный язык системы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ыдущих версия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лся механизм интерпретации программ, что снижало их надежность и производитель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снащен однопроходным компиляторо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ным на основе методов синтаксически-управляемой трансля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частности, схема язы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исана  в виде форм Бэкуса-Науе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специализированного метаязыка, что снижает вероятность возникновения ошибок в синтаксисе и семантике язы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снащен специальным модуле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Run-Time Manager. GRT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ет неограниченные возможности по расширению язы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схема дает представление о компонентах GO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илятор GOAL имеет на входе исходную программу, а на выходе объектный код, в котором записаны инструкции виртуальной машины GO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туальная машина GOAL представляет собой модифицированную стековую машину. Модификация заключается в том, что машина имеет несколько специализированных регистров, например специальный регистр цикла for, который позволяет повысить производительность цик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илятор и виртуальная машина, используют GRTM, который поставляет информацию о зарегистрированных функциях и идентификаторах, а также классах их методах и свойствах. GRTM представляет собой совокупность COM-объектов, реализующих интерфейсы спецификации GRTM. Благодаря такой архитектуре, функции, объекты и их методы не зависит от языка реализации. Также GRTM реализует так называемый безопасный вызов. Аргументы функции, результат вызова и др. передаются через специализированный интерфейс, который мы назвали CallableSock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схема уже реализована. Созданы &gt; 1500 тестовых примеров, которые подтверждают работоспособность новой версии языка G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AAF9-0132-4820-B9DD-0643178A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8EF-C0B8-49BE-86C7-02F89675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8BBB-2103-4500-A940-E67EC6FA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D9D8-91A1-495C-8126-321B9418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E483-43B1-480A-BD4B-4E48894F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E71-D49F-4A27-876D-C4FDB6CE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5E36-A68F-45B1-9E90-0B5B2590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7F34-DDC7-46FF-85B2-00A445F7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67F-9B38-4A7C-91BE-300AAB99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74C-679B-47E4-B89E-C2A48319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8DFD-922C-49EE-8F5D-E24810C6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2EAF-297E-44EC-AED2-1D07F8F0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5AEF-6A65-4B73-BFF3-6CFD8FC51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www.gelicon.biz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265480"/>
            <a:ext cx="523872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ПЕРСПЕКТИВЫ РАЗВИТИЯ ПРОГРАММНЫХ ПРОДУКТОВ КОМПАНИИ ГЕЛИКОН ПР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5052960"/>
            <a:ext cx="53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Клюев Андрей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иректор по разработке программного обеспечения 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5360" y="2428920"/>
            <a:ext cx="3105000" cy="1995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8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НСТАЛЛЯЦИЯ И ОБНОВЛЕНИЕ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15920" y="154080"/>
            <a:ext cx="1604880" cy="5014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17600" y="2489040"/>
            <a:ext cx="7083360" cy="28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4280" indent="-5842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Дальнейшее развитие интеллектуального ядра обновления мета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бновление, мониторинг и конфигурирование системы через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EB-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сервис «Служба технической поддержки» корпоративного сервера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3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3" name=""/>
          <p:cNvSpPr/>
          <p:nvPr/>
        </p:nvSpPr>
        <p:spPr>
          <a:xfrm>
            <a:off x="1879560" y="124632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люев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Директор по разработке програм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беспечения ЗАО «Геликон П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86040" y="3367080"/>
            <a:ext cx="7020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99"/>
                </a:solidFill>
                <a:latin typeface="Tahoma"/>
              </a:rPr>
              <a:t>тел.: (3422) 103-101, 103-178, 103-7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E-mail: info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www.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17720" y="81756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ИЗВОДСТВО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27080" y="1693800"/>
            <a:ext cx="574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ff"/>
                </a:solidFill>
                <a:latin typeface="Tahoma"/>
              </a:rPr>
              <a:t>ХАРАКТЕРИСТИКА ПРОИЗ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0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2" name=""/>
          <p:cNvSpPr/>
          <p:nvPr/>
        </p:nvSpPr>
        <p:spPr>
          <a:xfrm>
            <a:off x="1952640" y="3763800"/>
            <a:ext cx="574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ff"/>
                </a:solidFill>
                <a:latin typeface="Tahoma"/>
              </a:rPr>
              <a:t>ОБЪЕМЫ ПРОИЗ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136440" y="888840"/>
            <a:ext cx="1573200" cy="526284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739880" y="2158920"/>
            <a:ext cx="7404120" cy="14223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27080" y="2293920"/>
            <a:ext cx="7048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Кол-во разработчиков ПО - 5-7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Трудозатраты &gt;  700 чел.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/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час.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Объемы внутренних инвестиций &gt;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$500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 000 за десять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39880" y="4216320"/>
            <a:ext cx="7404120" cy="19432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0040" y="4300560"/>
            <a:ext cx="69087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ыпуск новых версий с периодичностью в 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ыпуск пакетов исправлений (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rvice Pack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)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периодичностью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 пол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Оперативная техническая поддержка и выпуск «горячих» испра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17720" y="893880"/>
            <a:ext cx="7093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SE 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ВАЯ ПЛАТФОРМА ДЛЯ ПОСТРОЕНИЯ БИЗНЕС-ПРИ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0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" name=""/>
          <p:cNvSpPr/>
          <p:nvPr/>
        </p:nvSpPr>
        <p:spPr>
          <a:xfrm>
            <a:off x="1355760" y="2674800"/>
            <a:ext cx="762012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Современный интерфейс пользователя, предоставляющий максимум возможностей для управления бизнес-приложениями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Новый механизм доступа к данным на основе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BExp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Новая версия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OAL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надежного и современного алгоритмического языка, ориентированного на управление бизнес-приложениями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Удобная и простая процедура инсталляции и обновления системы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ОВЫЙ ИНТЕРФЕЙ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ЛЬЗОВА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2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15920" y="154080"/>
            <a:ext cx="1604880" cy="501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55760" y="2306520"/>
            <a:ext cx="762012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4280" indent="-584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«Плоский» интерфейс улучшает восприятие и упрощает управление бизнес-приложениями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бновленные компоненты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62160" indent="-47304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расширяют возможности управления данными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62160" indent="-47304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улучшают производительность обработки данных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Дизайн продукта в руки профессиона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154080"/>
            <a:ext cx="9144000" cy="501480"/>
            <a:chOff x="0" y="154080"/>
            <a:chExt cx="9144000" cy="501480"/>
          </a:xfrm>
        </p:grpSpPr>
        <p:sp>
          <p:nvSpPr>
            <p:cNvPr id="12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3160" y="800280"/>
            <a:ext cx="787572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17720" y="893880"/>
            <a:ext cx="7093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СТУП К ДАННЫМ НА ОСНОВЕ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rland dbExpres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5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5920" y="154080"/>
            <a:ext cx="1604880" cy="501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7600" y="2489040"/>
            <a:ext cx="76201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Высокопроизводительный, кросс-платформенный и простой в развертывании слой ПО, соединяющий клиента СУБД и бизнес-приложения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ткрытый стандарт создания драйверов, что позволяет в полной мере использовать продукты сторон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1"/>
          </p:cNvPr>
          <p:cNvSpPr/>
          <p:nvPr/>
        </p:nvSpPr>
        <p:spPr>
          <a:xfrm>
            <a:off x="117360" y="6438960"/>
            <a:ext cx="15973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45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39760" y="1042920"/>
            <a:ext cx="6953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СТУП К ДАННЫМ НА ОСНОВЕ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rland dbExpres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5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5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924200" y="179280"/>
              <a:ext cx="7019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КАПИТАЛ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SE 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39840" y="2478240"/>
            <a:ext cx="8648640" cy="3198600"/>
            <a:chOff x="339840" y="2478240"/>
            <a:chExt cx="8648640" cy="3198600"/>
          </a:xfrm>
        </p:grpSpPr>
        <p:sp>
          <p:nvSpPr>
            <p:cNvPr id="159" name=""/>
            <p:cNvSpPr/>
            <p:nvPr/>
          </p:nvSpPr>
          <p:spPr>
            <a:xfrm>
              <a:off x="5740560" y="2565360"/>
              <a:ext cx="380880" cy="2362320"/>
            </a:xfrm>
            <a:prstGeom prst="rightArrowCallout">
              <a:avLst>
                <a:gd name="adj1" fmla="val 66451"/>
                <a:gd name="adj2" fmla="val 75949"/>
                <a:gd name="adj3" fmla="val 53333"/>
                <a:gd name="adj4" fmla="val 15153"/>
              </a:avLst>
            </a:prstGeom>
            <a:solidFill>
              <a:srgbClr val="6181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339840" y="2543040"/>
              <a:ext cx="2419200" cy="2911680"/>
              <a:chOff x="339840" y="2543040"/>
              <a:chExt cx="2419200" cy="2911680"/>
            </a:xfrm>
          </p:grpSpPr>
          <p:sp>
            <p:nvSpPr>
              <p:cNvPr id="161" name=""/>
              <p:cNvSpPr/>
              <p:nvPr/>
            </p:nvSpPr>
            <p:spPr>
              <a:xfrm>
                <a:off x="339840" y="2543040"/>
                <a:ext cx="2419200" cy="2911680"/>
              </a:xfrm>
              <a:prstGeom prst="rect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elicon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DE Bridge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9800" y="3002040"/>
                <a:ext cx="2044800" cy="368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Que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57200" y="3497400"/>
                <a:ext cx="2044800" cy="342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StoredPro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7200" y="3992400"/>
                <a:ext cx="2044800" cy="343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Ta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854440" y="2543040"/>
              <a:ext cx="425160" cy="2911680"/>
            </a:xfrm>
            <a:prstGeom prst="rect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orland Midas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184800" y="3297240"/>
              <a:ext cx="1328760" cy="1108080"/>
              <a:chOff x="6184800" y="3297240"/>
              <a:chExt cx="1328760" cy="1108080"/>
            </a:xfrm>
          </p:grpSpPr>
          <p:sp>
            <p:nvSpPr>
              <p:cNvPr id="167" name="Cloud"/>
              <p:cNvSpPr/>
              <p:nvPr/>
            </p:nvSpPr>
            <p:spPr>
              <a:xfrm>
                <a:off x="6184800" y="3297240"/>
                <a:ext cx="1328760" cy="1108080"/>
              </a:xfrm>
              <a:prstGeom prst="pie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26360" y="3513240"/>
                <a:ext cx="869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ahoma"/>
                  </a:rPr>
                  <a:t>TCP/IP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ahoma"/>
                  </a:rPr>
                  <a:t>SQL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7543440" y="2478240"/>
              <a:ext cx="1445040" cy="3116520"/>
              <a:chOff x="7543440" y="2478240"/>
              <a:chExt cx="1445040" cy="311652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7986960" y="2478240"/>
                <a:ext cx="988920" cy="894240"/>
                <a:chOff x="7986960" y="2478240"/>
                <a:chExt cx="988920" cy="89424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7986960" y="2478240"/>
                  <a:ext cx="988920" cy="894240"/>
                  <a:chOff x="7986960" y="2478240"/>
                  <a:chExt cx="988920" cy="894240"/>
                </a:xfrm>
              </p:grpSpPr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7986960" y="2478240"/>
                    <a:ext cx="986760" cy="894240"/>
                    <a:chOff x="7986960" y="2478240"/>
                    <a:chExt cx="986760" cy="89424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7986960" y="3119040"/>
                      <a:ext cx="986760" cy="25344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0">
                      <a:solidFill>
                        <a:srgbClr val="990033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986960" y="2607480"/>
                      <a:ext cx="986760" cy="638640"/>
                    </a:xfrm>
                    <a:prstGeom prst="rect">
                      <a:avLst/>
                    </a:prstGeom>
                    <a:solidFill>
                      <a:srgbClr val="ff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7986960" y="2478240"/>
                      <a:ext cx="986760" cy="25596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0">
                      <a:solidFill>
                        <a:srgbClr val="990033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6" name=""/>
                  <p:cNvSpPr/>
                  <p:nvPr/>
                </p:nvSpPr>
                <p:spPr>
                  <a:xfrm>
                    <a:off x="8972640" y="2603520"/>
                    <a:ext cx="3240" cy="637560"/>
                  </a:xfrm>
                  <a:prstGeom prst="line">
                    <a:avLst/>
                  </a:prstGeom>
                  <a:ln w="0">
                    <a:solidFill>
                      <a:srgbClr val="99003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986960" y="2622600"/>
                    <a:ext cx="2880" cy="618480"/>
                  </a:xfrm>
                  <a:prstGeom prst="line">
                    <a:avLst/>
                  </a:prstGeom>
                  <a:ln w="0">
                    <a:solidFill>
                      <a:srgbClr val="99003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8" name=""/>
                <p:cNvSpPr txBox="1"/>
                <p:nvPr/>
              </p:nvSpPr>
              <p:spPr>
                <a:xfrm>
                  <a:off x="8061480" y="2817720"/>
                  <a:ext cx="844560" cy="345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CanDown">
                    <a:avLst>
                      <a:gd name="adj" fmla="val 33333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ahoma"/>
                    </a:rPr>
                    <a:t>Oracle 8i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ahoma"/>
                    <a:ea typeface="Tahoma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7986960" y="3595320"/>
                <a:ext cx="988920" cy="894240"/>
                <a:chOff x="7986960" y="3595320"/>
                <a:chExt cx="988920" cy="894240"/>
              </a:xfrm>
            </p:grpSpPr>
            <p:grpSp>
              <p:nvGrpSpPr>
                <p:cNvPr id="180" name=""/>
                <p:cNvGrpSpPr/>
                <p:nvPr/>
              </p:nvGrpSpPr>
              <p:grpSpPr>
                <a:xfrm>
                  <a:off x="7986960" y="3595320"/>
                  <a:ext cx="988920" cy="894240"/>
                  <a:chOff x="7986960" y="3595320"/>
                  <a:chExt cx="988920" cy="894240"/>
                </a:xfrm>
              </p:grpSpPr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7986960" y="3595320"/>
                    <a:ext cx="986760" cy="894240"/>
                    <a:chOff x="7986960" y="3595320"/>
                    <a:chExt cx="986760" cy="894240"/>
                  </a:xfrm>
                </p:grpSpPr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7986960" y="4236120"/>
                      <a:ext cx="986760" cy="25344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0">
                      <a:solidFill>
                        <a:srgbClr val="990033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7986960" y="3724560"/>
                      <a:ext cx="986760" cy="638640"/>
                    </a:xfrm>
                    <a:prstGeom prst="rect">
                      <a:avLst/>
                    </a:prstGeom>
                    <a:solidFill>
                      <a:srgbClr val="ff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7986960" y="3595320"/>
                      <a:ext cx="986760" cy="25596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0">
                      <a:solidFill>
                        <a:srgbClr val="990033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5" name=""/>
                  <p:cNvSpPr/>
                  <p:nvPr/>
                </p:nvSpPr>
                <p:spPr>
                  <a:xfrm>
                    <a:off x="8972640" y="3720600"/>
                    <a:ext cx="3240" cy="637560"/>
                  </a:xfrm>
                  <a:prstGeom prst="line">
                    <a:avLst/>
                  </a:prstGeom>
                  <a:ln w="0">
                    <a:solidFill>
                      <a:srgbClr val="99003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7986960" y="3739680"/>
                    <a:ext cx="2880" cy="618480"/>
                  </a:xfrm>
                  <a:prstGeom prst="line">
                    <a:avLst/>
                  </a:prstGeom>
                  <a:ln w="0">
                    <a:solidFill>
                      <a:srgbClr val="99003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7" name=""/>
                <p:cNvSpPr txBox="1"/>
                <p:nvPr/>
              </p:nvSpPr>
              <p:spPr>
                <a:xfrm>
                  <a:off x="8061480" y="3934800"/>
                  <a:ext cx="844560" cy="345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CanDown">
                    <a:avLst>
                      <a:gd name="adj" fmla="val 33333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ahoma"/>
                    </a:rPr>
                    <a:t>Interbase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ahoma"/>
                    <a:ea typeface="Tahoma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999560" y="4700520"/>
                <a:ext cx="988920" cy="894240"/>
                <a:chOff x="7999560" y="4700520"/>
                <a:chExt cx="988920" cy="894240"/>
              </a:xfrm>
            </p:grpSpPr>
            <p:grpSp>
              <p:nvGrpSpPr>
                <p:cNvPr id="189" name=""/>
                <p:cNvGrpSpPr/>
                <p:nvPr/>
              </p:nvGrpSpPr>
              <p:grpSpPr>
                <a:xfrm>
                  <a:off x="7999560" y="4700520"/>
                  <a:ext cx="988920" cy="894240"/>
                  <a:chOff x="7999560" y="4700520"/>
                  <a:chExt cx="988920" cy="894240"/>
                </a:xfrm>
              </p:grpSpPr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999560" y="4700520"/>
                    <a:ext cx="986760" cy="894240"/>
                    <a:chOff x="7999560" y="4700520"/>
                    <a:chExt cx="986760" cy="89424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7999560" y="5341320"/>
                      <a:ext cx="986760" cy="25344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0">
                      <a:solidFill>
                        <a:srgbClr val="990033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7999560" y="4829760"/>
                      <a:ext cx="986760" cy="638640"/>
                    </a:xfrm>
                    <a:prstGeom prst="rect">
                      <a:avLst/>
                    </a:prstGeom>
                    <a:solidFill>
                      <a:srgbClr val="ff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7999560" y="4700520"/>
                      <a:ext cx="986760" cy="25596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0">
                      <a:solidFill>
                        <a:srgbClr val="990033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4" name=""/>
                  <p:cNvSpPr/>
                  <p:nvPr/>
                </p:nvSpPr>
                <p:spPr>
                  <a:xfrm>
                    <a:off x="8985240" y="4825800"/>
                    <a:ext cx="3240" cy="637560"/>
                  </a:xfrm>
                  <a:prstGeom prst="line">
                    <a:avLst/>
                  </a:prstGeom>
                  <a:ln w="0">
                    <a:solidFill>
                      <a:srgbClr val="99003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999560" y="4844880"/>
                    <a:ext cx="2880" cy="618480"/>
                  </a:xfrm>
                  <a:prstGeom prst="line">
                    <a:avLst/>
                  </a:prstGeom>
                  <a:ln w="0">
                    <a:solidFill>
                      <a:srgbClr val="99003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"/>
                <p:cNvSpPr txBox="1"/>
                <p:nvPr/>
              </p:nvSpPr>
              <p:spPr>
                <a:xfrm>
                  <a:off x="8074080" y="5040000"/>
                  <a:ext cx="844560" cy="345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CanDown">
                    <a:avLst>
                      <a:gd name="adj" fmla="val 33333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ahoma"/>
                    </a:rPr>
                    <a:t>FB,Yaffil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ahoma"/>
                    <a:ea typeface="Tahoma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 flipH="1">
                <a:off x="7543080" y="2577960"/>
                <a:ext cx="381240" cy="2895120"/>
              </a:xfrm>
              <a:prstGeom prst="rightArrowCallout">
                <a:avLst>
                  <a:gd name="adj1" fmla="val 81361"/>
                  <a:gd name="adj2" fmla="val 92991"/>
                  <a:gd name="adj3" fmla="val 53333"/>
                  <a:gd name="adj4" fmla="val 15153"/>
                </a:avLst>
              </a:prstGeom>
              <a:solidFill>
                <a:srgbClr val="6181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425760" y="2556000"/>
              <a:ext cx="2279520" cy="2886120"/>
              <a:chOff x="3425760" y="2556000"/>
              <a:chExt cx="2279520" cy="2886120"/>
            </a:xfrm>
          </p:grpSpPr>
          <p:sp>
            <p:nvSpPr>
              <p:cNvPr id="199" name=""/>
              <p:cNvSpPr/>
              <p:nvPr/>
            </p:nvSpPr>
            <p:spPr>
              <a:xfrm>
                <a:off x="3425760" y="2556000"/>
                <a:ext cx="2279520" cy="2886120"/>
              </a:xfrm>
              <a:prstGeom prst="rect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orland dbExpress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73440" y="3076920"/>
                <a:ext cx="363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P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3589200" y="2905200"/>
                <a:ext cx="896400" cy="612000"/>
                <a:chOff x="3589200" y="2905200"/>
                <a:chExt cx="896400" cy="6120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884400" y="2905200"/>
                  <a:ext cx="601200" cy="6120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solidFill>
                    <a:srgbClr val="1f1a1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" name=""/>
                <p:cNvGrpSpPr/>
                <p:nvPr/>
              </p:nvGrpSpPr>
              <p:grpSpPr>
                <a:xfrm>
                  <a:off x="3589200" y="3041640"/>
                  <a:ext cx="295200" cy="324360"/>
                  <a:chOff x="3589200" y="3041640"/>
                  <a:chExt cx="295200" cy="32436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3589200" y="3041640"/>
                    <a:ext cx="1440" cy="324360"/>
                  </a:xfrm>
                  <a:prstGeom prst="line">
                    <a:avLst/>
                  </a:prstGeom>
                  <a:ln w="0">
                    <a:solidFill>
                      <a:srgbClr val="1f1a17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589200" y="3205080"/>
                    <a:ext cx="295200" cy="1440"/>
                  </a:xfrm>
                  <a:prstGeom prst="line">
                    <a:avLst/>
                  </a:prstGeom>
                  <a:ln w="0">
                    <a:solidFill>
                      <a:srgbClr val="1f1a17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3555720" y="3602520"/>
                <a:ext cx="2044800" cy="365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racle Dri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43120" y="4055760"/>
                <a:ext cx="2044800" cy="365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nterbase Dri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543120" y="4509000"/>
                <a:ext cx="2044800" cy="365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B,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Yaffil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ahoma"/>
                  </a:rPr>
                  <a:t>и др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3585960" y="3637080"/>
                <a:ext cx="333360" cy="260640"/>
                <a:chOff x="3585960" y="3637080"/>
                <a:chExt cx="333360" cy="260640"/>
              </a:xfrm>
            </p:grpSpPr>
            <p:sp>
              <p:nvSpPr>
                <p:cNvPr id="210" name="Gear"/>
                <p:cNvSpPr/>
                <p:nvPr/>
              </p:nvSpPr>
              <p:spPr>
                <a:xfrm>
                  <a:off x="3770640" y="3637080"/>
                  <a:ext cx="148680" cy="1195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585960" y="3686400"/>
                  <a:ext cx="177480" cy="1429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701160" y="3738960"/>
                  <a:ext cx="197280" cy="1587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573360" y="4090320"/>
                <a:ext cx="333360" cy="260640"/>
                <a:chOff x="3573360" y="4090320"/>
                <a:chExt cx="333360" cy="260640"/>
              </a:xfrm>
            </p:grpSpPr>
            <p:sp>
              <p:nvSpPr>
                <p:cNvPr id="214" name="Gear"/>
                <p:cNvSpPr/>
                <p:nvPr/>
              </p:nvSpPr>
              <p:spPr>
                <a:xfrm>
                  <a:off x="3758040" y="4090320"/>
                  <a:ext cx="148680" cy="1195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573360" y="4139640"/>
                  <a:ext cx="177480" cy="1429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688560" y="4192200"/>
                  <a:ext cx="197280" cy="1587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573360" y="4543560"/>
                <a:ext cx="333360" cy="260640"/>
                <a:chOff x="3573360" y="4543560"/>
                <a:chExt cx="333360" cy="260640"/>
              </a:xfrm>
            </p:grpSpPr>
            <p:sp>
              <p:nvSpPr>
                <p:cNvPr id="218" name="Gear"/>
                <p:cNvSpPr/>
                <p:nvPr/>
              </p:nvSpPr>
              <p:spPr>
                <a:xfrm>
                  <a:off x="3758040" y="4543560"/>
                  <a:ext cx="148680" cy="1195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573360" y="4592880"/>
                  <a:ext cx="177480" cy="1429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688560" y="4645440"/>
                  <a:ext cx="197280" cy="1587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>
                <a:off x="3543120" y="4962240"/>
                <a:ext cx="2044800" cy="365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DB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3585960" y="4996800"/>
                <a:ext cx="333360" cy="260640"/>
                <a:chOff x="3585960" y="4996800"/>
                <a:chExt cx="333360" cy="260640"/>
              </a:xfrm>
            </p:grpSpPr>
            <p:sp>
              <p:nvSpPr>
                <p:cNvPr id="223" name="Gear"/>
                <p:cNvSpPr/>
                <p:nvPr/>
              </p:nvSpPr>
              <p:spPr>
                <a:xfrm>
                  <a:off x="3770640" y="4996800"/>
                  <a:ext cx="148680" cy="1195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585960" y="5046120"/>
                  <a:ext cx="177480" cy="1429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701160" y="5098680"/>
                  <a:ext cx="197280" cy="1587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6" name=""/>
            <p:cNvSpPr/>
            <p:nvPr/>
          </p:nvSpPr>
          <p:spPr>
            <a:xfrm>
              <a:off x="5740560" y="4965840"/>
              <a:ext cx="380880" cy="482400"/>
            </a:xfrm>
            <a:prstGeom prst="rightArrowCallout">
              <a:avLst>
                <a:gd name="adj1" fmla="val 13570"/>
                <a:gd name="adj2" fmla="val 62078"/>
                <a:gd name="adj3" fmla="val 53333"/>
                <a:gd name="adj4" fmla="val 15153"/>
              </a:avLst>
            </a:prstGeom>
            <a:solidFill>
              <a:srgbClr val="6181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Documents"/>
            <p:cNvSpPr/>
            <p:nvPr/>
          </p:nvSpPr>
          <p:spPr>
            <a:xfrm>
              <a:off x="6346800" y="4807080"/>
              <a:ext cx="1098720" cy="869760"/>
            </a:xfrm>
            <a:prstGeom prst="pie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ай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900000" y="2163600"/>
            <a:ext cx="567000" cy="4208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4200" y="2163600"/>
            <a:ext cx="567000" cy="4208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49640" y="2163600"/>
            <a:ext cx="566640" cy="4208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17720" y="893880"/>
            <a:ext cx="709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ВАЯ ВЕРСИЯ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5920" y="154080"/>
            <a:ext cx="1604880" cy="5014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17600" y="1824120"/>
            <a:ext cx="66470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Компиляция программ на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OAL 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повышает их надежность и производи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Построение компилятора на основе методов синтаксически-управляемой трансляции снижает вероятность ошибок в синтаксисе и семантике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Модуль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RTM 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создает неограниченные возможности расширения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7360" y="6438960"/>
            <a:ext cx="15973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248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82680" y="1042920"/>
            <a:ext cx="6635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ВАЯ ВЕРСИЯ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5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924200" y="179280"/>
              <a:ext cx="7019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КАПИТАЛ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SE 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1" name=""/>
          <p:cNvCxnSpPr>
            <a:stCxn id="262" idx="2"/>
            <a:endCxn id="263" idx="11"/>
          </p:cNvCxnSpPr>
          <p:nvPr/>
        </p:nvCxnSpPr>
        <p:spPr>
          <a:xfrm rot="5400000">
            <a:off x="5033160" y="2573280"/>
            <a:ext cx="394560" cy="115200"/>
          </a:xfrm>
          <a:prstGeom prst="bentConnector3">
            <a:avLst>
              <a:gd name="adj1" fmla="val 49954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64" name=""/>
          <p:cNvGrpSpPr/>
          <p:nvPr/>
        </p:nvGrpSpPr>
        <p:grpSpPr>
          <a:xfrm>
            <a:off x="998640" y="2014560"/>
            <a:ext cx="7292880" cy="4029120"/>
            <a:chOff x="998640" y="2014560"/>
            <a:chExt cx="7292880" cy="4029120"/>
          </a:xfrm>
        </p:grpSpPr>
        <p:cxnSp>
          <p:nvCxnSpPr>
            <p:cNvPr id="265" name=""/>
            <p:cNvCxnSpPr>
              <a:stCxn id="266" idx="12"/>
              <a:endCxn id="267" idx="9"/>
            </p:cNvCxnSpPr>
            <p:nvPr/>
          </p:nvCxnSpPr>
          <p:spPr>
            <a:xfrm flipV="1" rot="16200000">
              <a:off x="4133520" y="4203000"/>
              <a:ext cx="391320" cy="1372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</p:cxnSp>
        <p:cxnSp>
          <p:nvCxnSpPr>
            <p:cNvPr id="268" name=""/>
            <p:cNvCxnSpPr>
              <a:endCxn id="267" idx="8"/>
            </p:cNvCxnSpPr>
            <p:nvPr/>
          </p:nvCxnSpPr>
          <p:spPr>
            <a:xfrm flipH="1" flipV="1" rot="5400000">
              <a:off x="1904760" y="4285440"/>
              <a:ext cx="810360" cy="661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63" idx="8"/>
              <a:endCxn id="267" idx="10"/>
            </p:cNvCxnSpPr>
            <p:nvPr/>
          </p:nvCxnSpPr>
          <p:spPr>
            <a:xfrm rot="5400000">
              <a:off x="4261680" y="2818080"/>
              <a:ext cx="293040" cy="1530720"/>
            </a:xfrm>
            <a:prstGeom prst="bentConnector3">
              <a:avLst>
                <a:gd name="adj1" fmla="val 49938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63" idx="9"/>
              <a:endCxn id="271" idx="9"/>
            </p:cNvCxnSpPr>
            <p:nvPr/>
          </p:nvCxnSpPr>
          <p:spPr>
            <a:xfrm flipH="1" rot="16200000">
              <a:off x="5775840" y="2833560"/>
              <a:ext cx="293040" cy="1499400"/>
            </a:xfrm>
            <a:prstGeom prst="bentConnector3">
              <a:avLst>
                <a:gd name="adj1" fmla="val 49938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72" name="Documents"/>
            <p:cNvSpPr/>
            <p:nvPr/>
          </p:nvSpPr>
          <p:spPr>
            <a:xfrm>
              <a:off x="998640" y="5021280"/>
              <a:ext cx="1757160" cy="997200"/>
            </a:xfrm>
            <a:prstGeom prst="pie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ходный к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40240" y="3729240"/>
              <a:ext cx="2006280" cy="965160"/>
            </a:xfrm>
            <a:custGeom>
              <a:avLst/>
              <a:gdLst>
                <a:gd name="textAreaLeft" fmla="*/ 159120 w 2006280"/>
                <a:gd name="textAreaRight" fmla="*/ 1847160 w 2006280"/>
                <a:gd name="textAreaTop" fmla="*/ 159120 h 965160"/>
                <a:gd name="textAreaBottom" fmla="*/ 806040 h 965160"/>
              </a:gdLst>
              <a:ahLst/>
              <a:rect l="textAreaLeft" t="textAreaTop" r="textAreaRight" b="textAreaBottom"/>
              <a:pathLst>
                <a:path w="44891" h="21600">
                  <a:moveTo>
                    <a:pt x="0" y="0"/>
                  </a:moveTo>
                  <a:lnTo>
                    <a:pt x="0" y="21600"/>
                  </a:lnTo>
                  <a:lnTo>
                    <a:pt x="44891" y="21600"/>
                  </a:lnTo>
                  <a:lnTo>
                    <a:pt x="44891" y="0"/>
                  </a:lnTo>
                  <a:close/>
                  <a:moveTo>
                    <a:pt x="3562" y="3562"/>
                  </a:moveTo>
                  <a:lnTo>
                    <a:pt x="3562" y="18038"/>
                  </a:lnTo>
                  <a:lnTo>
                    <a:pt x="41329" y="18038"/>
                  </a:lnTo>
                  <a:lnTo>
                    <a:pt x="41329" y="3562"/>
                  </a:lnTo>
                  <a:close/>
                </a:path>
              </a:pathLst>
            </a:cu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Goal</a:t>
              </a: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Compi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Documents"/>
            <p:cNvSpPr/>
            <p:nvPr/>
          </p:nvSpPr>
          <p:spPr>
            <a:xfrm>
              <a:off x="4097520" y="5085000"/>
              <a:ext cx="1834920" cy="958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ъектный к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49840" y="3729240"/>
              <a:ext cx="2044800" cy="965160"/>
            </a:xfrm>
            <a:custGeom>
              <a:avLst/>
              <a:gdLst>
                <a:gd name="textAreaLeft" fmla="*/ 159120 w 2044800"/>
                <a:gd name="textAreaRight" fmla="*/ 1885680 w 2044800"/>
                <a:gd name="textAreaTop" fmla="*/ 159120 h 965160"/>
                <a:gd name="textAreaBottom" fmla="*/ 806040 h 965160"/>
              </a:gdLst>
              <a:ahLst/>
              <a:rect l="textAreaLeft" t="textAreaTop" r="textAreaRight" b="textAreaBottom"/>
              <a:pathLst>
                <a:path w="45753" h="21600">
                  <a:moveTo>
                    <a:pt x="0" y="0"/>
                  </a:moveTo>
                  <a:lnTo>
                    <a:pt x="0" y="21600"/>
                  </a:lnTo>
                  <a:lnTo>
                    <a:pt x="45753" y="21600"/>
                  </a:lnTo>
                  <a:lnTo>
                    <a:pt x="45753" y="0"/>
                  </a:lnTo>
                  <a:close/>
                  <a:moveTo>
                    <a:pt x="3562" y="3562"/>
                  </a:moveTo>
                  <a:lnTo>
                    <a:pt x="3562" y="18038"/>
                  </a:lnTo>
                  <a:lnTo>
                    <a:pt x="42191" y="18038"/>
                  </a:lnTo>
                  <a:lnTo>
                    <a:pt x="42191" y="3562"/>
                  </a:lnTo>
                  <a:close/>
                </a:path>
              </a:pathLst>
            </a:cu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Goal V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2665440" y="2827440"/>
              <a:ext cx="5016600" cy="609480"/>
              <a:chOff x="2665440" y="2827440"/>
              <a:chExt cx="5016600" cy="6094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3084480" y="2979720"/>
                <a:ext cx="452520" cy="286920"/>
                <a:chOff x="3084480" y="2979720"/>
                <a:chExt cx="452520" cy="2869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233520" y="2979720"/>
                  <a:ext cx="303480" cy="2869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solidFill>
                    <a:srgbClr val="1f1a1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3084480" y="3043800"/>
                  <a:ext cx="149040" cy="151920"/>
                  <a:chOff x="3084480" y="3043800"/>
                  <a:chExt cx="149040" cy="15192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3084480" y="3043800"/>
                    <a:ext cx="720" cy="151920"/>
                  </a:xfrm>
                  <a:prstGeom prst="line">
                    <a:avLst/>
                  </a:prstGeom>
                  <a:ln w="0">
                    <a:solidFill>
                      <a:srgbClr val="1f1a17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084480" y="3120480"/>
                    <a:ext cx="149040" cy="720"/>
                  </a:xfrm>
                  <a:prstGeom prst="line">
                    <a:avLst/>
                  </a:prstGeom>
                  <a:ln w="0">
                    <a:solidFill>
                      <a:srgbClr val="1f1a17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3" name=""/>
              <p:cNvSpPr/>
              <p:nvPr/>
            </p:nvSpPr>
            <p:spPr>
              <a:xfrm>
                <a:off x="2665440" y="2827440"/>
                <a:ext cx="5016600" cy="609480"/>
              </a:xfrm>
              <a:custGeom>
                <a:avLst/>
                <a:gdLst>
                  <a:gd name="textAreaLeft" fmla="*/ 100440 w 5016600"/>
                  <a:gd name="textAreaRight" fmla="*/ 4916160 w 5016600"/>
                  <a:gd name="textAreaTop" fmla="*/ 100440 h 609480"/>
                  <a:gd name="textAreaBottom" fmla="*/ 509040 h 609480"/>
                </a:gdLst>
                <a:ahLst/>
                <a:rect l="textAreaLeft" t="textAreaTop" r="textAreaRight" b="textAreaBottom"/>
                <a:pathLst>
                  <a:path w="177696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177696" y="21600"/>
                    </a:lnTo>
                    <a:lnTo>
                      <a:pt x="177696" y="0"/>
                    </a:lnTo>
                    <a:close/>
                    <a:moveTo>
                      <a:pt x="3562" y="3562"/>
                    </a:moveTo>
                    <a:lnTo>
                      <a:pt x="3562" y="18038"/>
                    </a:lnTo>
                    <a:lnTo>
                      <a:pt x="174134" y="18038"/>
                    </a:lnTo>
                    <a:lnTo>
                      <a:pt x="174134" y="3562"/>
                    </a:lnTo>
                    <a:close/>
                  </a:path>
                </a:pathLst>
              </a:cu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Goal Run-Time Manag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281240" y="2014560"/>
              <a:ext cx="2844720" cy="419040"/>
              <a:chOff x="1281240" y="2014560"/>
              <a:chExt cx="2844720" cy="419040"/>
            </a:xfrm>
          </p:grpSpPr>
          <p:sp>
            <p:nvSpPr>
              <p:cNvPr id="280" name=""/>
              <p:cNvSpPr/>
              <p:nvPr/>
            </p:nvSpPr>
            <p:spPr>
              <a:xfrm>
                <a:off x="1281240" y="2014560"/>
                <a:ext cx="2844720" cy="419040"/>
              </a:xfrm>
              <a:prstGeom prst="rect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oal Common Libra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1349280" y="2079720"/>
                <a:ext cx="333360" cy="263520"/>
                <a:chOff x="1349280" y="2079720"/>
                <a:chExt cx="333360" cy="263520"/>
              </a:xfrm>
            </p:grpSpPr>
            <p:sp>
              <p:nvSpPr>
                <p:cNvPr id="282" name="Gear"/>
                <p:cNvSpPr/>
                <p:nvPr/>
              </p:nvSpPr>
              <p:spPr>
                <a:xfrm>
                  <a:off x="1533960" y="2079720"/>
                  <a:ext cx="148680" cy="1209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349280" y="2129400"/>
                  <a:ext cx="177480" cy="1443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464480" y="2182680"/>
                  <a:ext cx="197280" cy="1605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"/>
            <p:cNvGrpSpPr/>
            <p:nvPr/>
          </p:nvGrpSpPr>
          <p:grpSpPr>
            <a:xfrm>
              <a:off x="4354560" y="2014560"/>
              <a:ext cx="1866960" cy="419040"/>
              <a:chOff x="4354560" y="2014560"/>
              <a:chExt cx="1866960" cy="419040"/>
            </a:xfrm>
          </p:grpSpPr>
          <p:sp>
            <p:nvSpPr>
              <p:cNvPr id="262" name=""/>
              <p:cNvSpPr/>
              <p:nvPr/>
            </p:nvSpPr>
            <p:spPr>
              <a:xfrm>
                <a:off x="4354560" y="2014560"/>
                <a:ext cx="1866960" cy="419040"/>
              </a:xfrm>
              <a:prstGeom prst="rect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BO Libra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4422600" y="2079720"/>
                <a:ext cx="336600" cy="263520"/>
                <a:chOff x="4422600" y="2079720"/>
                <a:chExt cx="336600" cy="263520"/>
              </a:xfrm>
            </p:grpSpPr>
            <p:sp>
              <p:nvSpPr>
                <p:cNvPr id="287" name="Gear"/>
                <p:cNvSpPr/>
                <p:nvPr/>
              </p:nvSpPr>
              <p:spPr>
                <a:xfrm>
                  <a:off x="4609080" y="2079720"/>
                  <a:ext cx="150120" cy="1209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422600" y="2129400"/>
                  <a:ext cx="179280" cy="1443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538880" y="2182680"/>
                  <a:ext cx="199440" cy="1605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"/>
            <p:cNvGrpSpPr/>
            <p:nvPr/>
          </p:nvGrpSpPr>
          <p:grpSpPr>
            <a:xfrm>
              <a:off x="6424560" y="2027520"/>
              <a:ext cx="1866960" cy="419040"/>
              <a:chOff x="6424560" y="2027520"/>
              <a:chExt cx="1866960" cy="419040"/>
            </a:xfrm>
          </p:grpSpPr>
          <p:sp>
            <p:nvSpPr>
              <p:cNvPr id="291" name=""/>
              <p:cNvSpPr/>
              <p:nvPr/>
            </p:nvSpPr>
            <p:spPr>
              <a:xfrm>
                <a:off x="6424560" y="2027520"/>
                <a:ext cx="1866960" cy="419040"/>
              </a:xfrm>
              <a:prstGeom prst="rect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ther Libra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6480000" y="2092680"/>
                <a:ext cx="336600" cy="263520"/>
                <a:chOff x="6480000" y="2092680"/>
                <a:chExt cx="336600" cy="263520"/>
              </a:xfrm>
            </p:grpSpPr>
            <p:sp>
              <p:nvSpPr>
                <p:cNvPr id="293" name="Gear"/>
                <p:cNvSpPr/>
                <p:nvPr/>
              </p:nvSpPr>
              <p:spPr>
                <a:xfrm>
                  <a:off x="6666480" y="2092680"/>
                  <a:ext cx="150120" cy="1209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480000" y="2142360"/>
                  <a:ext cx="179280" cy="1443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596280" y="2195640"/>
                  <a:ext cx="199440" cy="1605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96" name=""/>
            <p:cNvCxnSpPr>
              <a:stCxn id="280" idx="2"/>
              <a:endCxn id="263" idx="10"/>
            </p:cNvCxnSpPr>
            <p:nvPr/>
          </p:nvCxnSpPr>
          <p:spPr>
            <a:xfrm flipH="1" rot="16200000">
              <a:off x="3740760" y="1395360"/>
              <a:ext cx="394560" cy="2470680"/>
            </a:xfrm>
            <a:prstGeom prst="bentConnector3">
              <a:avLst>
                <a:gd name="adj1" fmla="val 49954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1" idx="2"/>
              <a:endCxn id="263" idx="12"/>
            </p:cNvCxnSpPr>
            <p:nvPr/>
          </p:nvCxnSpPr>
          <p:spPr>
            <a:xfrm rot="5400000">
              <a:off x="6074640" y="1544760"/>
              <a:ext cx="381600" cy="2185200"/>
            </a:xfrm>
            <a:prstGeom prst="bentConnector3">
              <a:avLst>
                <a:gd name="adj1" fmla="val 49952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98" name=""/>
            <p:cNvCxnSpPr>
              <a:stCxn id="271" idx="8"/>
              <a:endCxn id="266" idx="13"/>
            </p:cNvCxnSpPr>
            <p:nvPr/>
          </p:nvCxnSpPr>
          <p:spPr>
            <a:xfrm rot="5400000">
              <a:off x="5866560" y="4759200"/>
              <a:ext cx="870480" cy="740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99" name=""/>
          <p:cNvSpPr/>
          <p:nvPr/>
        </p:nvSpPr>
        <p:spPr>
          <a:xfrm>
            <a:off x="2162160" y="3598920"/>
            <a:ext cx="566640" cy="4204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577280" y="3613320"/>
            <a:ext cx="566640" cy="4204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635960" y="2727360"/>
            <a:ext cx="566640" cy="4204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kav</cp:lastModifiedBy>
  <cp:lastPrinted>2003-11-27T08:17:54Z</cp:lastPrinted>
  <dcterms:modified xsi:type="dcterms:W3CDTF">2003-12-09T06:48:49Z</dcterms:modified>
  <cp:revision>220</cp:revision>
  <dc:subject/>
  <dc:title>Слайд 1</dc:title>
</cp:coreProperties>
</file>