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BFED-FCAB-4955-83C9-E5A9B4F3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D304-86B6-43B8-8977-F2C66621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9B7-424E-46C0-A7AA-096962B4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705-7F78-419D-B38B-7BB439DE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CE7F-DD47-4E4A-9D75-726DF21D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A2B-3609-43E3-8478-E66CC6B6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0401-2D22-4ACE-A9B6-5E2D6C02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ED1-F6DC-4544-B0BE-8EB16DDD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70E-6B8C-4448-80CB-599E3BE3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428-C244-4A64-8EFE-DF78963B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4AA-74EF-4923-9030-5844E62D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377-7F09-49DF-9840-05336FD2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DC89-211E-4B98-8A8B-FE18C4D29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70200" y="2227320"/>
            <a:ext cx="523872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АВТОМАТИЗАЦИЯ УПРАВЛЕНИЯ ПЕРСОНАЛОМ НА БАЗЕ КИС КАПИТАЛ </a:t>
            </a: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CSE</a:t>
            </a: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 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ЗАО «ЛУКОЙЛ-Пермь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76680" y="5052960"/>
            <a:ext cx="530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Канаева Оль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ahoma"/>
              </a:rPr>
              <a:t>ведущий специалист ЗАО «Геликон Пр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0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3280" y="2438280"/>
          <a:ext cx="3116160" cy="240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280" y="2438280"/>
                    <a:ext cx="311616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ПРАВОЧНИК ДОЛЖ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4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1" name=""/>
          <p:cNvSpPr/>
          <p:nvPr/>
        </p:nvSpPr>
        <p:spPr>
          <a:xfrm>
            <a:off x="1400040" y="1762200"/>
            <a:ext cx="752472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Возможность использования классификатора ОКПДТ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Возможность автоматического формирования наименования должности на основании фасетов (префикс + должность + постфик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Возможность указания процентных надбавок для должностей в зависимости от выслуги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Назначение сроков переаттестаций и переподготовок для долж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 ДАННЫХ. СПРАВОЧНИК ДОЛЖ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5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35000" y="666720"/>
            <a:ext cx="8918640" cy="608796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3627360" y="3006720"/>
            <a:ext cx="5002200" cy="2452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ТАРИФИКАЦИЯ ПЕРСОН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7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1" name=""/>
          <p:cNvSpPr/>
          <p:nvPr/>
        </p:nvSpPr>
        <p:spPr>
          <a:xfrm>
            <a:off x="1380960" y="1565280"/>
            <a:ext cx="755208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Различные схемы оплаты тру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арифная с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дельная с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часовая с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клад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клад в диапаз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клад в месяц с разря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разовая вып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Различные условия тру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норм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яже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ре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Произвольное количество тарифных с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ШТАТНОЕ РАСПИС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1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98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0" name=""/>
          <p:cNvSpPr/>
          <p:nvPr/>
        </p:nvSpPr>
        <p:spPr>
          <a:xfrm>
            <a:off x="1400040" y="1587600"/>
            <a:ext cx="752472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труктура в виде иерархического дерева, зависящего от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тсутствие ограничения по глубине вложенности подразде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Хранение всей истории изменений штатного рас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остояние штатного расписания доступно на любой момент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Учет приказов о реорганизации предприя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Ведение окладов ставок по различным схемам оплаты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бразовательный ценз для занятия ст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Возможность разграничения прав доступа к объектам штатного рас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еханизм поиска и фильт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0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0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42920" y="660240"/>
            <a:ext cx="8913600" cy="609300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727440" y="2827440"/>
            <a:ext cx="5329080" cy="392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12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 ДАННЫХ. ШТАТНОЕ РАСПИС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1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27080" y="743040"/>
          <a:ext cx="6286320" cy="22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080" y="743040"/>
                    <a:ext cx="6286320" cy="2228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968400" y="2708280"/>
          <a:ext cx="6346800" cy="210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68400" y="2708280"/>
                    <a:ext cx="6346800" cy="21002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>
            <a:off x="5540400" y="803160"/>
            <a:ext cx="3438360" cy="295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328" name=""/>
          <p:cNvGraphicFramePr/>
          <p:nvPr/>
        </p:nvGraphicFramePr>
        <p:xfrm>
          <a:off x="2712960" y="4519440"/>
          <a:ext cx="6269040" cy="226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2960" y="4519440"/>
                    <a:ext cx="6269040" cy="22640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000160" y="1228680"/>
            <a:ext cx="2552760" cy="514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9520" y="4971960"/>
            <a:ext cx="2552760" cy="514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28840" y="3228840"/>
            <a:ext cx="2248200" cy="514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3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25280" y="785880"/>
          <a:ext cx="6954840" cy="236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280" y="785880"/>
                    <a:ext cx="6954840" cy="2361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1954080" y="3139920"/>
          <a:ext cx="7021800" cy="355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4080" y="3139920"/>
                    <a:ext cx="7021800" cy="3552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2647800" y="1181160"/>
            <a:ext cx="2552760" cy="514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95760" y="3809880"/>
            <a:ext cx="3514680" cy="6289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95200" y="808200"/>
            <a:ext cx="8564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АДРОВЫЕ КЛАССИФИК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87760" y="1351080"/>
            <a:ext cx="4438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тпу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тзывов из отпу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чины уволь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дого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условия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яз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иды нетрудо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режимы нетрудо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документов на у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плат документов на у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выхода на пен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ста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6120" y="1368360"/>
            <a:ext cx="4251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годность к воинской  служ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группы воин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категории воин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оставы воин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оинские з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остав семь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емей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ценки аттес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ощрения и взыск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учебных за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переподготов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ециа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0960" y="618156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ДДЕРЖКА КЛАССИФИКАТОРОВ ОКАТО И О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5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65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6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14480" y="750960"/>
            <a:ext cx="673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АДРОВЫЙ У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8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8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"/>
          <p:cNvSpPr/>
          <p:nvPr/>
        </p:nvSpPr>
        <p:spPr>
          <a:xfrm>
            <a:off x="1346040" y="1806480"/>
            <a:ext cx="723456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адресные и паспорт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формация о воинском уч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ведения о назначениях и перемещениях по служ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формация о ста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рудовая кни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данные о семейном поло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ведения об отпус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данные об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формация о знании яз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ереподготовки и аттес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ощрения и взыск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догов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доку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фо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71560" y="1319040"/>
            <a:ext cx="69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Персональные сведения о сотруд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9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9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9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ПЕРСОНА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38240" y="652320"/>
            <a:ext cx="8913600" cy="608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704880" y="1003320"/>
            <a:ext cx="4740120" cy="44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4300560" y="2319480"/>
            <a:ext cx="4753080" cy="4419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17560" y="655560"/>
            <a:ext cx="7426440" cy="620244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5" name=""/>
          <p:cNvSpPr/>
          <p:nvPr/>
        </p:nvSpPr>
        <p:spPr>
          <a:xfrm>
            <a:off x="1879560" y="99864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НОВНЫЕ ХАРАКТЕРИСТИКИ ЭКСПЛУАТАЦИИ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rcRect l="39031" t="2637" r="31597" b="21978"/>
          <a:stretch/>
        </p:blipFill>
        <p:spPr>
          <a:xfrm>
            <a:off x="128520" y="1081080"/>
            <a:ext cx="1573200" cy="25225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886040" y="1886040"/>
            <a:ext cx="7257960" cy="44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Общее количе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пользователей системы …..……...………...….…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Одновременно работающ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пользователей …………………….…..…………..…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Количеств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«личных дел» сотрудников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 ……………………….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38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записей о начисления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удержаниях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 ……………………………..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 25 000 в ме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записей о распределении су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на счета и МВЗ 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…………………….…....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 40 000 в ме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В эксплуа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подсистема управления персоналом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 …...…..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с 1999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подсистема расчета заработной платы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 ….....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с 2001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Объем базы данных .……….………………....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 2.5 G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rcRect l="39031" t="2637" r="31597" b="21978"/>
          <a:stretch/>
        </p:blipFill>
        <p:spPr>
          <a:xfrm>
            <a:off x="131760" y="3751200"/>
            <a:ext cx="1573200" cy="25225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04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1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ПЕРСОНА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44360" y="668160"/>
            <a:ext cx="8913960" cy="6083280"/>
            <a:chOff x="144360" y="668160"/>
            <a:chExt cx="8913960" cy="6083280"/>
          </a:xfrm>
        </p:grpSpPr>
        <p:graphicFrame>
          <p:nvGraphicFramePr>
            <p:cNvPr id="413" name=""/>
            <p:cNvGraphicFramePr/>
            <p:nvPr/>
          </p:nvGraphicFramePr>
          <p:xfrm>
            <a:off x="144360" y="4172760"/>
            <a:ext cx="8913960" cy="132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360" y="4172760"/>
                      <a:ext cx="8913960" cy="132264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"/>
            <p:cNvGraphicFramePr/>
            <p:nvPr/>
          </p:nvGraphicFramePr>
          <p:xfrm>
            <a:off x="144360" y="2321280"/>
            <a:ext cx="8913960" cy="186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4360" y="2321280"/>
                      <a:ext cx="8913960" cy="18676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"/>
            <p:cNvGraphicFramePr/>
            <p:nvPr/>
          </p:nvGraphicFramePr>
          <p:xfrm>
            <a:off x="144360" y="668160"/>
            <a:ext cx="8913960" cy="1653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4360" y="668160"/>
                      <a:ext cx="8913960" cy="165312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9" name=""/>
            <p:cNvGraphicFramePr/>
            <p:nvPr/>
          </p:nvGraphicFramePr>
          <p:xfrm>
            <a:off x="144360" y="5495400"/>
            <a:ext cx="8913960" cy="1256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2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4360" y="5495400"/>
                      <a:ext cx="8913960" cy="125604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2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2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ПЕРСОНА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39680" y="662040"/>
            <a:ext cx="8913960" cy="6084360"/>
            <a:chOff x="139680" y="662040"/>
            <a:chExt cx="8913960" cy="6084360"/>
          </a:xfrm>
        </p:grpSpPr>
        <p:graphicFrame>
          <p:nvGraphicFramePr>
            <p:cNvPr id="432" name=""/>
            <p:cNvGraphicFramePr/>
            <p:nvPr/>
          </p:nvGraphicFramePr>
          <p:xfrm>
            <a:off x="139680" y="662040"/>
            <a:ext cx="8913960" cy="1351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9680" y="662040"/>
                      <a:ext cx="8913960" cy="135180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4" name=""/>
            <p:cNvGraphicFramePr/>
            <p:nvPr/>
          </p:nvGraphicFramePr>
          <p:xfrm>
            <a:off x="139680" y="2013840"/>
            <a:ext cx="8913960" cy="1487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39680" y="2013840"/>
                      <a:ext cx="8913960" cy="14871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139680" y="3501360"/>
            <a:ext cx="8913960" cy="1284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39680" y="3501360"/>
                      <a:ext cx="8913960" cy="12844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8" name=""/>
            <p:cNvGraphicFramePr/>
            <p:nvPr/>
          </p:nvGraphicFramePr>
          <p:xfrm>
            <a:off x="139680" y="4786200"/>
            <a:ext cx="8913960" cy="1960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39680" y="4786200"/>
                      <a:ext cx="8913960" cy="196020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4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9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ПЕРСОНА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42920" y="666720"/>
            <a:ext cx="8913600" cy="6094080"/>
            <a:chOff x="142920" y="666720"/>
            <a:chExt cx="8913600" cy="6094080"/>
          </a:xfrm>
        </p:grpSpPr>
        <p:graphicFrame>
          <p:nvGraphicFramePr>
            <p:cNvPr id="451" name=""/>
            <p:cNvGraphicFramePr/>
            <p:nvPr/>
          </p:nvGraphicFramePr>
          <p:xfrm>
            <a:off x="142920" y="666720"/>
            <a:ext cx="8913600" cy="127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2920" y="666720"/>
                      <a:ext cx="8913600" cy="12754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3" name=""/>
            <p:cNvGraphicFramePr/>
            <p:nvPr/>
          </p:nvGraphicFramePr>
          <p:xfrm>
            <a:off x="142920" y="1942200"/>
            <a:ext cx="8913600" cy="1501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2920" y="1942200"/>
                      <a:ext cx="8913600" cy="150120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5" name=""/>
            <p:cNvGraphicFramePr/>
            <p:nvPr/>
          </p:nvGraphicFramePr>
          <p:xfrm>
            <a:off x="142920" y="3443760"/>
            <a:ext cx="8913600" cy="1623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2920" y="3443760"/>
                      <a:ext cx="8913600" cy="16239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7" name=""/>
            <p:cNvGraphicFramePr/>
            <p:nvPr/>
          </p:nvGraphicFramePr>
          <p:xfrm>
            <a:off x="142920" y="5067720"/>
            <a:ext cx="8913600" cy="1693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5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2920" y="5067720"/>
                      <a:ext cx="8913600" cy="16930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14480" y="789120"/>
            <a:ext cx="673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АДРОВЫЙ У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7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7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7" name=""/>
          <p:cNvSpPr/>
          <p:nvPr/>
        </p:nvSpPr>
        <p:spPr>
          <a:xfrm>
            <a:off x="1346040" y="2030400"/>
            <a:ext cx="756936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несение личной информации о вновь принятом сотруд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назначение на ставку штатного рас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формление поступления сотру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еревод на должность, освобождение с дол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ереподготовка, аттес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тпуск, отзыв из отпу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ощрение и взыск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несение данных о договорах с сотруд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уволь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ыход на пен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71560" y="1433520"/>
            <a:ext cx="69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Сведения о движениях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8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8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8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8" name=""/>
          <p:cNvSpPr/>
          <p:nvPr/>
        </p:nvSpPr>
        <p:spPr>
          <a:xfrm>
            <a:off x="1836720" y="23508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ИНФОРМАЦИЯ О ДВИ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201600" y="789120"/>
            <a:ext cx="5286240" cy="383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3641760" y="2589120"/>
            <a:ext cx="5286240" cy="4152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9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9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"/>
          <p:cNvSpPr/>
          <p:nvPr/>
        </p:nvSpPr>
        <p:spPr>
          <a:xfrm>
            <a:off x="1836720" y="23508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ИНФОРМАЦИЯ О ДВИ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181080" y="792000"/>
            <a:ext cx="5209920" cy="3848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3759120" y="2909880"/>
            <a:ext cx="5210280" cy="384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0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1836720" y="23508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ИНФОРМАЦИЯ О ДВИ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239760" y="801720"/>
            <a:ext cx="5019480" cy="45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3805200" y="3009960"/>
            <a:ext cx="5105520" cy="37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1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1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4" name=""/>
          <p:cNvSpPr/>
          <p:nvPr/>
        </p:nvSpPr>
        <p:spPr>
          <a:xfrm>
            <a:off x="1836720" y="23508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ИНФОРМАЦИЯ О ДВИ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184320" y="763560"/>
            <a:ext cx="4952880" cy="4313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3371760" y="1941480"/>
            <a:ext cx="5562720" cy="484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4140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ЕРЕЧЕНЬ ОТЧЕТНЫХ ФОР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5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54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542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44" name=""/>
          <p:cNvSpPr/>
          <p:nvPr/>
        </p:nvSpPr>
        <p:spPr>
          <a:xfrm>
            <a:off x="1380960" y="1635120"/>
            <a:ext cx="742968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каз о приеме на работу (Форма №Т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Личная карточка (Форма №Т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каз о переводе на другую работу (Форма №Т-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каз о предоставлении отпуска (Форма №Т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каз о прекращении трудового договора (Форма №Т-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рудовой дого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формация о чис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Расчет дополнительной потребности в специали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тчетные данные по повышению 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спользование отпусков за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тчетные формы для ПФ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4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4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63440" y="782640"/>
          <a:ext cx="6897600" cy="398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440" y="782640"/>
                    <a:ext cx="6897600" cy="3981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2733840" y="3033720"/>
          <a:ext cx="6240240" cy="370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33840" y="3033720"/>
                    <a:ext cx="6240240" cy="3705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СНОВНЫЕ ФУНКЦИИ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9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1247760" y="2306520"/>
            <a:ext cx="752472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5280" indent="-57636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Учет и статистическая обработка информации о сотрудниках и кадровых перемещени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5280" indent="-57636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Формирование и управление организационной структурой предприя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5280" indent="-57636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Планирование труда и учет использования рабочего времени сотрудников предприя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5280" indent="-57636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Организация расчета заработной платы в соответствии с различными системами и формами оплаты т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6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6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41120" y="777960"/>
          <a:ext cx="6154920" cy="26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120" y="777960"/>
                    <a:ext cx="6154920" cy="2685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2455920" y="2647800"/>
          <a:ext cx="6507000" cy="415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55920" y="2647800"/>
                    <a:ext cx="6507000" cy="4152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14480" y="960480"/>
            <a:ext cx="6734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ГИСТРАЦИЯ ДОКУМЕНТОВ СОТРУД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58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58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91" name=""/>
          <p:cNvSpPr/>
          <p:nvPr/>
        </p:nvSpPr>
        <p:spPr>
          <a:xfrm>
            <a:off x="1346040" y="2216160"/>
            <a:ext cx="7234560" cy="24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312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В системе регистриру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82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отпуска сотруд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82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командиров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82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листы нетрудоспособ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82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документы на удержание сумм из заработной платы сотруд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94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95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7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0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ОГОВЫЕ ОКНА РЕГ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125280" y="905040"/>
            <a:ext cx="5305680" cy="356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4799160" y="907920"/>
            <a:ext cx="4243320" cy="369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04" name="" descr=""/>
          <p:cNvPicPr/>
          <p:nvPr/>
        </p:nvPicPr>
        <p:blipFill>
          <a:blip r:embed="rId4"/>
          <a:stretch/>
        </p:blipFill>
        <p:spPr>
          <a:xfrm>
            <a:off x="1708200" y="3894120"/>
            <a:ext cx="5638680" cy="2762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0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0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1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146160" y="852480"/>
            <a:ext cx="8893080" cy="2479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1036800" y="2508120"/>
            <a:ext cx="6764040" cy="204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617" name=""/>
          <p:cNvGraphicFramePr/>
          <p:nvPr/>
        </p:nvGraphicFramePr>
        <p:xfrm>
          <a:off x="2979720" y="4116240"/>
          <a:ext cx="6040440" cy="259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79720" y="4116240"/>
                    <a:ext cx="6040440" cy="2590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914480" y="789120"/>
            <a:ext cx="6734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ЧЕТ РАБОЧЕГО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3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3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37" name=""/>
          <p:cNvSpPr/>
          <p:nvPr/>
        </p:nvSpPr>
        <p:spPr>
          <a:xfrm>
            <a:off x="1238400" y="1514520"/>
            <a:ext cx="7246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Ведение рабочих календарей с различными типами рабочих нед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Учет использования рабочего времени в сменах и (или) часа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Неограниченное число графиков рабо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Ведение нескольких типов табелей учета рабочего времен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Автоматическое и ручное формирование табеля на основе движений персонала, документов о неявках, плановых графиков рабо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Печать табеля по форме Т-13 и по произвольной форм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4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4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4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 ДАННЫХ. ТАБЕЛЬ-КАЛЕНД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142920" y="654120"/>
            <a:ext cx="8816760" cy="6105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2943360" y="3365640"/>
            <a:ext cx="6019560" cy="3404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5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5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5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9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 ОТЧЕТНОЙ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243000" y="1417680"/>
            <a:ext cx="8663040" cy="468144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92708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РЯДОК РАСЧЕТА ЗАРАБОТНОЙ ПЛ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7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7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9" name=""/>
          <p:cNvSpPr/>
          <p:nvPr/>
        </p:nvSpPr>
        <p:spPr>
          <a:xfrm>
            <a:off x="1347840" y="2571840"/>
            <a:ext cx="7524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60520" indent="-5605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Подготовка данных для расч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Выполнение расче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Формирование ведомостей на выдачу заработной пл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Формирование отчет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Формирование бухгалтерских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836720" y="231840"/>
            <a:ext cx="707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ГЛАМЕНТ РАСЧЕТА ЗАРАБОТНОЙ 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8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8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0" name="План%20зарплата1" descr=""/>
          <p:cNvPicPr/>
          <p:nvPr/>
        </p:nvPicPr>
        <p:blipFill>
          <a:blip r:embed="rId2"/>
          <a:stretch/>
        </p:blipFill>
        <p:spPr>
          <a:xfrm>
            <a:off x="333360" y="1436760"/>
            <a:ext cx="8612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879560" y="666720"/>
            <a:ext cx="7093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ДГОТОВКА ДАННЫХ ДЛЯ РАСЧЕТА ЗАРАБОТНОЙ ПЛ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0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0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0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09" name=""/>
          <p:cNvSpPr/>
          <p:nvPr/>
        </p:nvSpPr>
        <p:spPr>
          <a:xfrm>
            <a:off x="1257480" y="1806480"/>
            <a:ext cx="755640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Сведения на назначении сотрудни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37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клад, тари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37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надбавки и допл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37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коэффициенты для расчета пре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37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график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Листы нетрудоспособ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Приказы на отпуск, компенс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Приказы на командиров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Документы на удержания из заработной пл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Табель учета рабочего време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Сведения с предыдущего места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Дополнительные парамет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0" y="-7920"/>
            <a:ext cx="9144000" cy="68659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24200" y="2318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ЕМА ИНФОРМАЦИОННЫХ ПОТ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0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0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 rot="16090200">
            <a:off x="2687760" y="3548880"/>
            <a:ext cx="2134080" cy="347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706" y="731"/>
                </a:moveTo>
                <a:arcTo wR="10800" hR="10800" stAng="-4127922" swAng="3849171"/>
                <a:lnTo>
                  <a:pt x="10800" y="10800"/>
                </a:lnTo>
                <a:close/>
              </a:path>
              <a:path fill="none" w="21600" h="21600">
                <a:moveTo>
                  <a:pt x="14706" y="731"/>
                </a:moveTo>
                <a:arcTo wR="10800" hR="10800" stAng="-4127922" swAng="3849171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47800" y="4687920"/>
            <a:ext cx="2629080" cy="577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Персональные данные сотрудник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Информация о движении персон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Календарно-табельный уч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00840" y="5043600"/>
            <a:ext cx="2361960" cy="1600200"/>
          </a:xfrm>
          <a:prstGeom prst="can">
            <a:avLst>
              <a:gd name="adj" fmla="val 3416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Корпоратив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хранилищ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8120" y="2676600"/>
            <a:ext cx="2286000" cy="1676160"/>
          </a:xfrm>
          <a:prstGeom prst="can">
            <a:avLst>
              <a:gd name="adj" fmla="val 3416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БД 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Капитал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SE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58920" y="996840"/>
            <a:ext cx="128592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Информация о начисленной и выданной З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45360" y="2120760"/>
            <a:ext cx="95868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Отчет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для ИМНС и ПФ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57120" y="4944960"/>
            <a:ext cx="2543400" cy="1627200"/>
            <a:chOff x="357120" y="4944960"/>
            <a:chExt cx="2543400" cy="1627200"/>
          </a:xfrm>
        </p:grpSpPr>
        <p:sp>
          <p:nvSpPr>
            <p:cNvPr id="115" name=""/>
            <p:cNvSpPr/>
            <p:nvPr/>
          </p:nvSpPr>
          <p:spPr>
            <a:xfrm>
              <a:off x="357120" y="6021360"/>
              <a:ext cx="2543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кадр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развития персонал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социальных програм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959400" y="4944960"/>
              <a:ext cx="1003680" cy="107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3665520" y="1001880"/>
            <a:ext cx="1143000" cy="1312920"/>
            <a:chOff x="3665520" y="1001880"/>
            <a:chExt cx="1143000" cy="1312920"/>
          </a:xfrm>
        </p:grpSpPr>
        <p:sp>
          <p:nvSpPr>
            <p:cNvPr id="118" name=""/>
            <p:cNvSpPr/>
            <p:nvPr/>
          </p:nvSpPr>
          <p:spPr>
            <a:xfrm>
              <a:off x="3741480" y="206856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УИСТи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3665520" y="1001880"/>
              <a:ext cx="1143000" cy="107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7389720" y="1000080"/>
            <a:ext cx="1752480" cy="1465200"/>
            <a:chOff x="7389720" y="1000080"/>
            <a:chExt cx="1752480" cy="1465200"/>
          </a:xfrm>
        </p:grpSpPr>
        <p:sp>
          <p:nvSpPr>
            <p:cNvPr id="121" name=""/>
            <p:cNvSpPr/>
            <p:nvPr/>
          </p:nvSpPr>
          <p:spPr>
            <a:xfrm>
              <a:off x="7389720" y="2066760"/>
              <a:ext cx="1752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Внеш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пользовател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7694640" y="1000080"/>
              <a:ext cx="1143000" cy="109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7467480" y="2752560"/>
            <a:ext cx="1676520" cy="1465200"/>
            <a:chOff x="7467480" y="2752560"/>
            <a:chExt cx="1676520" cy="1465200"/>
          </a:xfrm>
        </p:grpSpPr>
        <p:sp>
          <p:nvSpPr>
            <p:cNvPr id="124" name=""/>
            <p:cNvSpPr/>
            <p:nvPr/>
          </p:nvSpPr>
          <p:spPr>
            <a:xfrm>
              <a:off x="7467480" y="3819240"/>
              <a:ext cx="1676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Пользователи </a:t>
              </a:r>
              <a:r>
                <a:rPr b="1" lang="en-AU" sz="1000" spc="-1" strike="noStrike">
                  <a:solidFill>
                    <a:srgbClr val="000000"/>
                  </a:solidFill>
                  <a:latin typeface="Tahoma"/>
                </a:rPr>
                <a:t>intranet</a:t>
              </a: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-сайт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5"/>
            <a:stretch/>
          </p:blipFill>
          <p:spPr>
            <a:xfrm>
              <a:off x="7696080" y="2752560"/>
              <a:ext cx="1143000" cy="10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 rot="14571000">
            <a:off x="7189200" y="-338400"/>
            <a:ext cx="1199880" cy="422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48" y="410"/>
                </a:moveTo>
                <a:arcTo wR="10800" hR="10800" stAng="-4449663" swAng="4488497"/>
                <a:lnTo>
                  <a:pt x="10800" y="10800"/>
                </a:lnTo>
                <a:close/>
              </a:path>
              <a:path fill="none" w="21600" h="21600">
                <a:moveTo>
                  <a:pt x="13748" y="410"/>
                </a:moveTo>
                <a:arcTo wR="10800" hR="10800" stAng="-4449663" swAng="4488497"/>
              </a:path>
            </a:pathLst>
          </a:custGeom>
          <a:noFill/>
          <a:ln w="63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73720" y="987480"/>
            <a:ext cx="99072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Контактные реквизи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 rot="10854600">
            <a:off x="3405600" y="1065600"/>
            <a:ext cx="2073240" cy="305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89" y="977"/>
                </a:moveTo>
                <a:arcTo wR="10800" hR="10800" stAng="-3926556" swAng="3716161"/>
                <a:lnTo>
                  <a:pt x="10800" y="10800"/>
                </a:lnTo>
                <a:close/>
              </a:path>
              <a:path fill="none" w="21600" h="21600">
                <a:moveTo>
                  <a:pt x="15289" y="977"/>
                </a:moveTo>
                <a:arcTo wR="10800" hR="10800" stAng="-3926556" swAng="3716161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413400">
            <a:off x="6127200" y="2311560"/>
            <a:ext cx="1981440" cy="278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729" y="1773"/>
                </a:moveTo>
                <a:arcTo wR="10800" hR="10800" stAng="-3402031" swAng="2225099"/>
                <a:lnTo>
                  <a:pt x="10800" y="10800"/>
                </a:lnTo>
                <a:close/>
              </a:path>
              <a:path fill="none" w="21600" h="21600">
                <a:moveTo>
                  <a:pt x="16729" y="1773"/>
                </a:moveTo>
                <a:arcTo wR="10800" hR="10800" stAng="-3402031" swAng="2225099"/>
              </a:path>
            </a:pathLst>
          </a:custGeom>
          <a:noFill/>
          <a:ln w="63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68600" y="2679840"/>
            <a:ext cx="1501560" cy="70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Информация об организационной и штатной структу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 rot="17814600">
            <a:off x="4424400" y="2802960"/>
            <a:ext cx="1979640" cy="328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48" y="410"/>
                </a:moveTo>
                <a:arcTo wR="10800" hR="10800" stAng="-4449663" swAng="4031396"/>
                <a:lnTo>
                  <a:pt x="10800" y="10800"/>
                </a:lnTo>
                <a:close/>
              </a:path>
              <a:path fill="none" w="21600" h="21600">
                <a:moveTo>
                  <a:pt x="13748" y="410"/>
                </a:moveTo>
                <a:arcTo wR="10800" hR="10800" stAng="-4449663" swAng="4031396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 rot="7962600">
            <a:off x="1355040" y="1112040"/>
            <a:ext cx="2492280" cy="47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03" y="1890"/>
                </a:moveTo>
                <a:arcTo wR="10800" hR="10800" stAng="-3335326" swAng="3753832"/>
                <a:lnTo>
                  <a:pt x="10800" y="10800"/>
                </a:lnTo>
                <a:close/>
              </a:path>
              <a:path fill="none" w="21600" h="21600">
                <a:moveTo>
                  <a:pt x="16903" y="1890"/>
                </a:moveTo>
                <a:arcTo wR="10800" hR="10800" stAng="-3335326" swAng="3753832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614000">
            <a:off x="2982960" y="2246040"/>
            <a:ext cx="761400" cy="334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48" y="410"/>
                </a:moveTo>
                <a:arcTo wR="10800" hR="10800" stAng="-4449663" swAng="4815173"/>
                <a:lnTo>
                  <a:pt x="10800" y="10800"/>
                </a:lnTo>
                <a:close/>
              </a:path>
              <a:path fill="none" w="21600" h="21600">
                <a:moveTo>
                  <a:pt x="13748" y="410"/>
                </a:moveTo>
                <a:arcTo wR="10800" hR="10800" stAng="-4449663" swAng="4815173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7640" y="2855880"/>
            <a:ext cx="1992240" cy="1769760"/>
            <a:chOff x="17640" y="2855880"/>
            <a:chExt cx="1992240" cy="1769760"/>
          </a:xfrm>
        </p:grpSpPr>
        <p:sp>
          <p:nvSpPr>
            <p:cNvPr id="135" name=""/>
            <p:cNvSpPr/>
            <p:nvPr/>
          </p:nvSpPr>
          <p:spPr>
            <a:xfrm>
              <a:off x="17640" y="3922560"/>
              <a:ext cx="1992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ЗП и мотивации персонал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организационного развит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6"/>
            <a:stretch/>
          </p:blipFill>
          <p:spPr>
            <a:xfrm>
              <a:off x="544680" y="2855880"/>
              <a:ext cx="878760" cy="107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108000" y="1000080"/>
            <a:ext cx="1600200" cy="1434240"/>
            <a:chOff x="108000" y="1000080"/>
            <a:chExt cx="1600200" cy="1434240"/>
          </a:xfrm>
        </p:grpSpPr>
        <p:sp>
          <p:nvSpPr>
            <p:cNvPr id="138" name=""/>
            <p:cNvSpPr/>
            <p:nvPr/>
          </p:nvSpPr>
          <p:spPr>
            <a:xfrm>
              <a:off x="108000" y="2066760"/>
              <a:ext cx="16002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Центральн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бухгалтер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7"/>
            <a:stretch/>
          </p:blipFill>
          <p:spPr>
            <a:xfrm>
              <a:off x="336600" y="1000080"/>
              <a:ext cx="1143000" cy="107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ЕРЕЧЕНЬ РАСЧ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1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2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2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8" name=""/>
          <p:cNvSpPr/>
          <p:nvPr/>
        </p:nvSpPr>
        <p:spPr>
          <a:xfrm>
            <a:off x="1347840" y="1724040"/>
            <a:ext cx="7524720" cy="45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основных начисл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прем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листов нетрудоспособ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отпусков и компенсации за отпу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среднего заработ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районных и северных надбав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аван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удерж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ЕСН и страховых взно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резер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854360" y="214200"/>
            <a:ext cx="728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 ДАННЫХ. ПРОЦЕССОР РАСЧ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3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3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3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123840" y="779400"/>
            <a:ext cx="5105520" cy="37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3648240" y="2841480"/>
            <a:ext cx="5340240" cy="388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41" name=""/>
          <p:cNvSpPr/>
          <p:nvPr/>
        </p:nvSpPr>
        <p:spPr>
          <a:xfrm>
            <a:off x="2467080" y="2657520"/>
            <a:ext cx="533160" cy="3999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90400" y="1047600"/>
            <a:ext cx="752760" cy="2955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47800" y="2486160"/>
            <a:ext cx="1590480" cy="7426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000240" y="2657520"/>
            <a:ext cx="343080" cy="3999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181560" y="4734000"/>
            <a:ext cx="695520" cy="257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4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4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5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128520" y="733320"/>
            <a:ext cx="4357800" cy="33130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1943280" y="2295360"/>
            <a:ext cx="4725720" cy="363708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4"/>
          <a:stretch/>
        </p:blipFill>
        <p:spPr>
          <a:xfrm>
            <a:off x="5029200" y="4000680"/>
            <a:ext cx="39625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6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6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8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142920" y="795240"/>
            <a:ext cx="5867280" cy="4907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70" name="" descr=""/>
          <p:cNvPicPr/>
          <p:nvPr/>
        </p:nvPicPr>
        <p:blipFill>
          <a:blip r:embed="rId3"/>
          <a:stretch/>
        </p:blipFill>
        <p:spPr>
          <a:xfrm>
            <a:off x="3348000" y="2120760"/>
            <a:ext cx="5619960" cy="4596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7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0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123840" y="838080"/>
            <a:ext cx="5924520" cy="4496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3057480" y="2247840"/>
            <a:ext cx="5924520" cy="4496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914480" y="789120"/>
            <a:ext cx="6734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ПРАВОЧНИК КОНТАКТНЫХ РЕКВИЗИ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9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9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9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01" name=""/>
          <p:cNvSpPr/>
          <p:nvPr/>
        </p:nvSpPr>
        <p:spPr>
          <a:xfrm>
            <a:off x="1241280" y="1859040"/>
            <a:ext cx="763272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3120" indent="-5731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Хранение дополнительной информации о контактных реквизитах сотруд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территория, номер каби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номера телефонов (стационарных, мобильных, транковых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номер пейдж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адрес электронной поч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ругие реквиз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терфейс для ввода данных сотрудниками УИС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Функции поиска и экспорта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Ежедневное автоматическое шлюзование данных в корпоративное хранилище для доступа через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intranet-</a:t>
            </a: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804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805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1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1" name=""/>
          <p:cNvSpPr/>
          <p:nvPr/>
        </p:nvSpPr>
        <p:spPr>
          <a:xfrm>
            <a:off x="1836720" y="252360"/>
            <a:ext cx="707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за данных. Справочник контактных реквизи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127080" y="657360"/>
            <a:ext cx="8816760" cy="60181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14480" y="684360"/>
            <a:ext cx="6734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ндид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82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2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1" name=""/>
          <p:cNvSpPr/>
          <p:nvPr/>
        </p:nvSpPr>
        <p:spPr>
          <a:xfrm>
            <a:off x="1112760" y="1163520"/>
            <a:ext cx="803124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6800" indent="-5731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Функциональное назначение моду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учет данных о кандидатах на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количественный и качественный анализ поступивших зая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перенос личных данных кандидата при приеме на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6800" indent="-5731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остав моду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отчёт «Справка о кандидат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отчёт «Качественный состав кандида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требования по зарплате относительно качественного уровня и специаль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6800" indent="-5731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Развитые возможности поиска и фильтраци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827360" y="789120"/>
            <a:ext cx="6534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АУДИТ ДЕЙСТВИЙ ПОЛЬЗОВА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41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84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7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48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50" name=""/>
          <p:cNvSpPr/>
          <p:nvPr/>
        </p:nvSpPr>
        <p:spPr>
          <a:xfrm>
            <a:off x="1074600" y="2247840"/>
            <a:ext cx="7399440" cy="36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77880" indent="-4842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Анализ внештатных ситуаций, связанных с совместным использованием ресурсо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77880" indent="-4842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Предотвращение конфликтов, связанных с нерегламентированным изменением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77880" indent="-4842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Сбор статистической информации об интенсивности использования ресурсо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85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5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0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14480" y="819000"/>
            <a:ext cx="6705360" cy="289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181080" y="895320"/>
            <a:ext cx="6553080" cy="272412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1454040" y="2529000"/>
            <a:ext cx="6705720" cy="266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3"/>
          <a:stretch/>
        </p:blipFill>
        <p:spPr>
          <a:xfrm>
            <a:off x="1571760" y="2568600"/>
            <a:ext cx="6553080" cy="251460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4"/>
          <a:stretch/>
        </p:blipFill>
        <p:spPr>
          <a:xfrm>
            <a:off x="1512720" y="2568600"/>
            <a:ext cx="6553440" cy="251460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2279520" y="5172120"/>
            <a:ext cx="670572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5"/>
          <a:stretch/>
        </p:blipFill>
        <p:spPr>
          <a:xfrm>
            <a:off x="2362320" y="5229360"/>
            <a:ext cx="655308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УНКЦИОНАЛЬНЫЙ СОСТАВ ИНФОРМАЦИОН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14480" y="2624040"/>
            <a:ext cx="695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Подсистема управления персон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5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8" name=""/>
          <p:cNvSpPr/>
          <p:nvPr/>
        </p:nvSpPr>
        <p:spPr>
          <a:xfrm>
            <a:off x="1278000" y="3246480"/>
            <a:ext cx="7481880" cy="29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правочник «Кадровые классификато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правочник дол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правочник «Тарифные сет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Штатное распис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Оклады сотрудни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Сотрудн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Табель-календар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Регистрация документов сотруднико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88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8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85" name=""/>
          <p:cNvSpPr/>
          <p:nvPr/>
        </p:nvSpPr>
        <p:spPr>
          <a:xfrm>
            <a:off x="1879560" y="1246320"/>
            <a:ext cx="70930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анаева Оль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едущий специа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kov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 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УНКЦИОНАЛЬНЫЙ СОСТАВ ИНФОРМАЦИОН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14480" y="2658960"/>
            <a:ext cx="695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Подсистема расчета заработной п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7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7" name=""/>
          <p:cNvSpPr/>
          <p:nvPr/>
        </p:nvSpPr>
        <p:spPr>
          <a:xfrm>
            <a:off x="1278000" y="3298680"/>
            <a:ext cx="739296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равочник «Виды оплат и парамет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равочник «Таблицы входим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Редактор видов оплат и параметр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Процессор расче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Ведомости заработной платы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УНКЦИОНАЛЬНЫЙ СОСТАВ ИНФОРМАЦИОН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14480" y="2624040"/>
            <a:ext cx="695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Дополнительные компоненты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9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6" name=""/>
          <p:cNvSpPr/>
          <p:nvPr/>
        </p:nvSpPr>
        <p:spPr>
          <a:xfrm>
            <a:off x="1278000" y="3238560"/>
            <a:ext cx="7623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правочник контактных реквизи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Подсистема аудита действий польз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Кандида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Интерфейс для выгрузки данных в ИМНС и ПФР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УНКЦИОНАЛЬНЫЙ СОСТАВ ИНФОРМАЦИОН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14480" y="2624040"/>
            <a:ext cx="695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бщесистемные компон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1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1278000" y="3193920"/>
            <a:ext cx="762300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равочник населенных пун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равочник объектов аналитиче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строенные средства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O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строенный генератор отчетов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OLE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Реестр ресурсов систе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Администратор систе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95320" y="2917800"/>
            <a:ext cx="73994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ahoma"/>
              </a:rPr>
              <a:t>ОБЗ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ahoma"/>
              </a:rPr>
              <a:t>ФУНКЦИОНАЛЬ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87584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2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2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3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Кулеш</cp:lastModifiedBy>
  <cp:lastPrinted>2003-11-27T08:17:54Z</cp:lastPrinted>
  <dcterms:modified xsi:type="dcterms:W3CDTF">2003-12-09T14:05:22Z</dcterms:modified>
  <cp:revision>127</cp:revision>
  <dc:subject/>
  <dc:title>Слайд 1</dc:title>
</cp:coreProperties>
</file>