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1AA-D7C3-48D9-8F99-0DA435DC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7C4-F967-431A-9CD1-CFB4E15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839-A54B-493A-BECD-537A926B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ADE-5D61-4E8D-81AE-77866309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03-0497-4868-A8FD-8BBAE31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A46-E95A-4413-8868-F0900E4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995-D8F1-40E0-9271-93DADC8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0D4-F49B-4D2B-BF74-4A52F37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871-1545-4207-B73D-D39EF02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D51-3327-4668-A738-B927E74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B5D-A88C-457E-AED3-97933E7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92D-9B94-4127-B12A-1FD41BB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CB2-2D9D-463E-8534-6759B2F4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0200" y="2227320"/>
            <a:ext cx="5238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АВТОМАТИЗАЦИЯ УПРАВЛЕНИЯ ПЕРСОНАЛОМ НА БАЗЕ КИС КАПИТАЛ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CSE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 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ЗАО «ЛУКОЙЛ-Пермь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76680" y="5052960"/>
            <a:ext cx="53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анае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0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2438280"/>
          <a:ext cx="3116160" cy="24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2438280"/>
                    <a:ext cx="31161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ПРАВОЧНИК ДОЛ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1400040" y="1762200"/>
            <a:ext cx="7524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использования классификатора ОКПД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автоматического формирования наименования должности на основании фасетов (префикс + должность + постфик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указания процентных надбавок для должностей в зависимости от выслуг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Назначение сроков переаттестаций и переподготовок для дол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СПРАВОЧНИК ДОЛ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5000" y="666720"/>
            <a:ext cx="8918640" cy="608796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27360" y="3006720"/>
            <a:ext cx="5002200" cy="24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АРИФИКАЦИ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"/>
          <p:cNvSpPr/>
          <p:nvPr/>
        </p:nvSpPr>
        <p:spPr>
          <a:xfrm>
            <a:off x="1380960" y="1565280"/>
            <a:ext cx="7552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схемы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ариф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дель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часов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диапа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 с раз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овая вы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условия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орм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р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оизвольное количество тарифных с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ТАТНОЕ РАС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"/>
          <p:cNvSpPr/>
          <p:nvPr/>
        </p:nvSpPr>
        <p:spPr>
          <a:xfrm>
            <a:off x="1400040" y="1587600"/>
            <a:ext cx="75247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труктура в виде иерархического дерева, зависящего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тсутствие ограничения по глубине вложенности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Хранение всей истории изменений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ояние штатного расписания доступно на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Учет приказов о реорганизации пред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едение окладов ставок по различным схемам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разовательный ценз для занятия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озможность разграничения прав доступа к объектам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еханизм поиска и филь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2920" y="660240"/>
            <a:ext cx="8913600" cy="60930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27440" y="2827440"/>
            <a:ext cx="5329080" cy="39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ШТАТНОЕ 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743040"/>
          <a:ext cx="628632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80" y="743040"/>
                    <a:ext cx="6286320" cy="22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968400" y="2708280"/>
          <a:ext cx="634680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8400" y="2708280"/>
                    <a:ext cx="6346800" cy="210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5540400" y="803160"/>
            <a:ext cx="3438360" cy="29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328" name=""/>
          <p:cNvGraphicFramePr/>
          <p:nvPr/>
        </p:nvGraphicFramePr>
        <p:xfrm>
          <a:off x="2712960" y="4519440"/>
          <a:ext cx="6269040" cy="226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4519440"/>
                    <a:ext cx="6269040" cy="226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000160" y="122868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49719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28840" y="3228840"/>
            <a:ext cx="224820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5280" y="785880"/>
          <a:ext cx="695484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785880"/>
                    <a:ext cx="6954840" cy="2361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54080" y="3139920"/>
          <a:ext cx="7021800" cy="35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3139920"/>
                    <a:ext cx="7021800" cy="3552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647800" y="11811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95760" y="3809880"/>
            <a:ext cx="3514680" cy="628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200" y="808200"/>
            <a:ext cx="856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ДРОВЫЕ КЛАССИФ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7760" y="1351080"/>
            <a:ext cx="443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зыво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слов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я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ид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жим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плат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выхода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ст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6120" y="1368360"/>
            <a:ext cx="4251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одность к воинской 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рупп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атегории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емей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ценки аттес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переподготов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0960" y="61815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ДДЕРЖКА КЛАССИФИКАТОРОВ ОКАТО И О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14480" y="75096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8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"/>
          <p:cNvSpPr/>
          <p:nvPr/>
        </p:nvSpPr>
        <p:spPr>
          <a:xfrm>
            <a:off x="1346040" y="1806480"/>
            <a:ext cx="723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адресные и паспорт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воинском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 назначениях и перемещениях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с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ая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 семейно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б отпус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б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знании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и и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гов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71560" y="131904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Персональные сведения о сотруд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38240" y="652320"/>
            <a:ext cx="8913600" cy="60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04880" y="1003320"/>
            <a:ext cx="474012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300560" y="2319480"/>
            <a:ext cx="47530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655560"/>
            <a:ext cx="7426440" cy="6202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1879560" y="99864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ХАРАКТЕРИСТИКИ ЭКСПЛУАТА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39031" t="2637" r="31597" b="21978"/>
          <a:stretch/>
        </p:blipFill>
        <p:spPr>
          <a:xfrm>
            <a:off x="128520" y="108108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886040" y="1886040"/>
            <a:ext cx="725796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системы …..……...………...…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…………………….…..………….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«личных дел» сотрудников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3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начис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удержаниях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……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5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распределении су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счета и МВЗ 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…………………….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40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 эксплуа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управления персоналом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…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199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расчета заработной платы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200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ъем базы данных .……….……………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.5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39031" t="2637" r="31597" b="21978"/>
          <a:stretch/>
        </p:blipFill>
        <p:spPr>
          <a:xfrm>
            <a:off x="131760" y="375120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360" y="668160"/>
            <a:ext cx="8913960" cy="6083280"/>
            <a:chOff x="144360" y="668160"/>
            <a:chExt cx="8913960" cy="6083280"/>
          </a:xfrm>
        </p:grpSpPr>
        <p:graphicFrame>
          <p:nvGraphicFramePr>
            <p:cNvPr id="413" name=""/>
            <p:cNvGraphicFramePr/>
            <p:nvPr/>
          </p:nvGraphicFramePr>
          <p:xfrm>
            <a:off x="144360" y="4172760"/>
            <a:ext cx="8913960" cy="132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360" y="4172760"/>
                      <a:ext cx="8913960" cy="1322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44360" y="2321280"/>
            <a:ext cx="8913960" cy="186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360" y="2321280"/>
                      <a:ext cx="8913960" cy="1867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44360" y="668160"/>
            <a:ext cx="8913960" cy="165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360" y="668160"/>
                      <a:ext cx="8913960" cy="16531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4360" y="5495400"/>
            <a:ext cx="8913960" cy="12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360" y="5495400"/>
                      <a:ext cx="8913960" cy="12560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9680" y="662040"/>
            <a:ext cx="8913960" cy="6084360"/>
            <a:chOff x="139680" y="662040"/>
            <a:chExt cx="8913960" cy="6084360"/>
          </a:xfrm>
        </p:grpSpPr>
        <p:graphicFrame>
          <p:nvGraphicFramePr>
            <p:cNvPr id="432" name=""/>
            <p:cNvGraphicFramePr/>
            <p:nvPr/>
          </p:nvGraphicFramePr>
          <p:xfrm>
            <a:off x="139680" y="662040"/>
            <a:ext cx="8913960" cy="135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680" y="662040"/>
                      <a:ext cx="8913960" cy="13518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39680" y="2013840"/>
            <a:ext cx="8913960" cy="148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9680" y="2013840"/>
                      <a:ext cx="8913960" cy="1487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139680" y="3501360"/>
            <a:ext cx="8913960" cy="12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9680" y="3501360"/>
                      <a:ext cx="8913960" cy="1284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139680" y="4786200"/>
            <a:ext cx="8913960" cy="196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9680" y="4786200"/>
                      <a:ext cx="8913960" cy="1960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2920" y="666720"/>
            <a:ext cx="8913600" cy="6094080"/>
            <a:chOff x="142920" y="666720"/>
            <a:chExt cx="8913600" cy="6094080"/>
          </a:xfrm>
        </p:grpSpPr>
        <p:graphicFrame>
          <p:nvGraphicFramePr>
            <p:cNvPr id="451" name=""/>
            <p:cNvGraphicFramePr/>
            <p:nvPr/>
          </p:nvGraphicFramePr>
          <p:xfrm>
            <a:off x="142920" y="666720"/>
            <a:ext cx="8913600" cy="127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920" y="666720"/>
                      <a:ext cx="8913600" cy="1275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142920" y="1942200"/>
            <a:ext cx="8913600" cy="150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920" y="1942200"/>
                      <a:ext cx="8913600" cy="1501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142920" y="3443760"/>
            <a:ext cx="8913600" cy="16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2920" y="3443760"/>
                      <a:ext cx="8913600" cy="16239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142920" y="5067720"/>
            <a:ext cx="8913600" cy="169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5067720"/>
                      <a:ext cx="8913600" cy="1693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4480" y="78912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7" name=""/>
          <p:cNvSpPr/>
          <p:nvPr/>
        </p:nvSpPr>
        <p:spPr>
          <a:xfrm>
            <a:off x="1346040" y="2030400"/>
            <a:ext cx="7569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личной информации о вновь принятом сотруд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азначение на ставку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формление поступления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вод на должность, освобождение с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а, аттес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пуск, отзы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е и взыс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данных о договорах с сотруд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воль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ыход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1560" y="143352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ведения о движения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01600" y="789120"/>
            <a:ext cx="5286240" cy="383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641760" y="2589120"/>
            <a:ext cx="528624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81080" y="792000"/>
            <a:ext cx="5209920" cy="384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759120" y="2909880"/>
            <a:ext cx="5210280" cy="38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9760" y="801720"/>
            <a:ext cx="5019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5200" y="3009960"/>
            <a:ext cx="51055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4952880" cy="43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3371760" y="1941480"/>
            <a:ext cx="5562720" cy="48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ОТЧЕТНЫХ 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4" name=""/>
          <p:cNvSpPr/>
          <p:nvPr/>
        </p:nvSpPr>
        <p:spPr>
          <a:xfrm>
            <a:off x="1380960" y="1635120"/>
            <a:ext cx="74296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иеме на работу (Форма №Т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Личная карточка (Форма №Т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ереводе на другую работу (Форма №Т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доставлении отпуска (Форма №Т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кращении трудового договора (Форма №Т-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о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счет дополнительной потребности в специали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данные по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спользование отпусков за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формы для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3440" y="782640"/>
          <a:ext cx="6897600" cy="39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782640"/>
                    <a:ext cx="6897600" cy="398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733840" y="3033720"/>
          <a:ext cx="6240240" cy="37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3840" y="3033720"/>
                    <a:ext cx="6240240" cy="37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НОВНЫЕ ФУНКЦИИ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1247760" y="2306520"/>
            <a:ext cx="75247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Учет и статистическая обработка информации о сотрудниках и кадровых пере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Формирование и управление организационной структурой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ланирование труда и учет использования рабочего времени сотрудников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Организация расчета заработной платы в соответствии с различными системами и формами оплаты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1120" y="777960"/>
          <a:ext cx="615492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777960"/>
                    <a:ext cx="6154920" cy="2685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455920" y="2647800"/>
          <a:ext cx="650700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5920" y="2647800"/>
                    <a:ext cx="6507000" cy="41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4480" y="96048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ЦИЯ ДОКУМЕНТОВ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1" name=""/>
          <p:cNvSpPr/>
          <p:nvPr/>
        </p:nvSpPr>
        <p:spPr>
          <a:xfrm>
            <a:off x="1346040" y="2216160"/>
            <a:ext cx="723456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системе регистр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тпуска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мандир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документы на удержание сумм из заработной платы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ОГОВЫЕ ОКНА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5280" y="905040"/>
            <a:ext cx="5305680" cy="356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799160" y="907920"/>
            <a:ext cx="4243320" cy="369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708200" y="3894120"/>
            <a:ext cx="5638680" cy="276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0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46160" y="852480"/>
            <a:ext cx="8893080" cy="247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036800" y="2508120"/>
            <a:ext cx="67640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17" name=""/>
          <p:cNvGraphicFramePr/>
          <p:nvPr/>
        </p:nvGraphicFramePr>
        <p:xfrm>
          <a:off x="2979720" y="4116240"/>
          <a:ext cx="604044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9720" y="4116240"/>
                    <a:ext cx="6040440" cy="2590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14480" y="78912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"/>
          <p:cNvSpPr/>
          <p:nvPr/>
        </p:nvSpPr>
        <p:spPr>
          <a:xfrm>
            <a:off x="1238400" y="1514520"/>
            <a:ext cx="724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рабочих календарей с различными типами рабочих нед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Учет использования рабочего времени в сменах и (или) час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Неограниченное число графиков рабо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нескольких типов табелей учета рабочего врем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Автоматическое и ручное формирование табеля на основе движений персонала, документов о неявках, плановых графиков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Печать табеля по форме Т-13 и по произвольной форм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4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ТАБЕЛЬ-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42920" y="654120"/>
            <a:ext cx="8816760" cy="610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943360" y="3365640"/>
            <a:ext cx="6019560" cy="340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5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 ОТЧЕТНО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43000" y="1417680"/>
            <a:ext cx="8663040" cy="46814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2708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СЧЕТА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"/>
          <p:cNvSpPr/>
          <p:nvPr/>
        </p:nvSpPr>
        <p:spPr>
          <a:xfrm>
            <a:off x="1347840" y="2571840"/>
            <a:ext cx="75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дготовка данных для рас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ыполнение ра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ведомостей на выдачу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бухгалтер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36720" y="231840"/>
            <a:ext cx="707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ЛАМЕНТ РАСЧЕТА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План%20зарплата1" descr=""/>
          <p:cNvPicPr/>
          <p:nvPr/>
        </p:nvPicPr>
        <p:blipFill>
          <a:blip r:embed="rId2"/>
          <a:stretch/>
        </p:blipFill>
        <p:spPr>
          <a:xfrm>
            <a:off x="333360" y="1436760"/>
            <a:ext cx="861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9560" y="66672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ГОТОВКА ДАННЫХ ДЛЯ РАСЧЕТА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9" name=""/>
          <p:cNvSpPr/>
          <p:nvPr/>
        </p:nvSpPr>
        <p:spPr>
          <a:xfrm>
            <a:off x="1257480" y="1806480"/>
            <a:ext cx="75564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на назначении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клад, тар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надбавки и д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коэффициенты для расчета пр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графи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отпуск, компенс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командир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кументы на удержания из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Табель учета рабочего вре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с предыдущего места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полнительные парамет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0" y="-7920"/>
            <a:ext cx="9144000" cy="68659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4200" y="2318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ИНФОРМАЦИОННЫ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rot="16090200">
            <a:off x="2687760" y="3548880"/>
            <a:ext cx="2134080" cy="34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06" y="731"/>
                </a:moveTo>
                <a:arcTo wR="10800" hR="10800" stAng="-4127922" swAng="3849171"/>
                <a:lnTo>
                  <a:pt x="10800" y="10800"/>
                </a:lnTo>
                <a:close/>
              </a:path>
              <a:path fill="none" w="21600" h="21600">
                <a:moveTo>
                  <a:pt x="14706" y="731"/>
                </a:moveTo>
                <a:arcTo wR="10800" hR="10800" stAng="-4127922" swAng="384917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7800" y="4687920"/>
            <a:ext cx="2629080" cy="5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ерсональные данные сотруд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движении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лендарно-табельный уч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043600"/>
            <a:ext cx="2361960" cy="160020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рпо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8120" y="2676600"/>
            <a:ext cx="2286000" cy="167616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Д 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питал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SE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8920" y="996840"/>
            <a:ext cx="12859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начисленной и выданной З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5360" y="2120760"/>
            <a:ext cx="95868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че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для ИМНС и ПФ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7120" y="4944960"/>
            <a:ext cx="2543400" cy="1627200"/>
            <a:chOff x="357120" y="4944960"/>
            <a:chExt cx="2543400" cy="1627200"/>
          </a:xfrm>
        </p:grpSpPr>
        <p:sp>
          <p:nvSpPr>
            <p:cNvPr id="115" name=""/>
            <p:cNvSpPr/>
            <p:nvPr/>
          </p:nvSpPr>
          <p:spPr>
            <a:xfrm>
              <a:off x="357120" y="6021360"/>
              <a:ext cx="254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кад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развития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социальных програм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59400" y="4944960"/>
              <a:ext cx="100368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665520" y="1001880"/>
            <a:ext cx="1143000" cy="1312920"/>
            <a:chOff x="3665520" y="1001880"/>
            <a:chExt cx="1143000" cy="1312920"/>
          </a:xfrm>
        </p:grpSpPr>
        <p:sp>
          <p:nvSpPr>
            <p:cNvPr id="118" name=""/>
            <p:cNvSpPr/>
            <p:nvPr/>
          </p:nvSpPr>
          <p:spPr>
            <a:xfrm>
              <a:off x="3741480" y="20685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УИС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665520" y="10018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389720" y="1000080"/>
            <a:ext cx="1752480" cy="1465200"/>
            <a:chOff x="7389720" y="1000080"/>
            <a:chExt cx="1752480" cy="1465200"/>
          </a:xfrm>
        </p:grpSpPr>
        <p:sp>
          <p:nvSpPr>
            <p:cNvPr id="121" name=""/>
            <p:cNvSpPr/>
            <p:nvPr/>
          </p:nvSpPr>
          <p:spPr>
            <a:xfrm>
              <a:off x="7389720" y="2066760"/>
              <a:ext cx="175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Внеш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694640" y="100008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7467480" y="2752560"/>
            <a:ext cx="1676520" cy="1465200"/>
            <a:chOff x="7467480" y="2752560"/>
            <a:chExt cx="1676520" cy="1465200"/>
          </a:xfrm>
        </p:grpSpPr>
        <p:sp>
          <p:nvSpPr>
            <p:cNvPr id="124" name=""/>
            <p:cNvSpPr/>
            <p:nvPr/>
          </p:nvSpPr>
          <p:spPr>
            <a:xfrm>
              <a:off x="7467480" y="381924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 </a:t>
              </a:r>
              <a:r>
                <a:rPr b="1" lang="en-AU" sz="1000" spc="-1" strike="noStrike">
                  <a:solidFill>
                    <a:srgbClr val="000000"/>
                  </a:solidFill>
                  <a:latin typeface="Tahoma"/>
                </a:rPr>
                <a:t>intranet</a:t>
              </a: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-сай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696080" y="275256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 rot="14571000">
            <a:off x="7189200" y="-338400"/>
            <a:ext cx="1199880" cy="42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488497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488497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3720" y="987480"/>
            <a:ext cx="9907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тактные реквиз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0854600">
            <a:off x="3405600" y="1065600"/>
            <a:ext cx="2073240" cy="30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89" y="977"/>
                </a:moveTo>
                <a:arcTo wR="10800" hR="10800" stAng="-3926556" swAng="3716161"/>
                <a:lnTo>
                  <a:pt x="10800" y="10800"/>
                </a:lnTo>
                <a:close/>
              </a:path>
              <a:path fill="none" w="21600" h="21600">
                <a:moveTo>
                  <a:pt x="15289" y="977"/>
                </a:moveTo>
                <a:arcTo wR="10800" hR="10800" stAng="-3926556" swAng="371616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413400">
            <a:off x="6127200" y="2311560"/>
            <a:ext cx="1981440" cy="27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9" y="1773"/>
                </a:moveTo>
                <a:arcTo wR="10800" hR="10800" stAng="-3402031" swAng="2225099"/>
                <a:lnTo>
                  <a:pt x="10800" y="10800"/>
                </a:lnTo>
                <a:close/>
              </a:path>
              <a:path fill="none" w="21600" h="21600">
                <a:moveTo>
                  <a:pt x="16729" y="1773"/>
                </a:moveTo>
                <a:arcTo wR="10800" hR="10800" stAng="-3402031" swAng="2225099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8600" y="2679840"/>
            <a:ext cx="1501560" cy="70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б организационной и штатной структу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7814600">
            <a:off x="4424400" y="2802960"/>
            <a:ext cx="1979640" cy="32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031396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031396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7962600">
            <a:off x="1355040" y="1112040"/>
            <a:ext cx="2492280" cy="47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3" y="1890"/>
                </a:moveTo>
                <a:arcTo wR="10800" hR="10800" stAng="-3335326" swAng="3753832"/>
                <a:lnTo>
                  <a:pt x="10800" y="10800"/>
                </a:lnTo>
                <a:close/>
              </a:path>
              <a:path fill="none" w="21600" h="21600">
                <a:moveTo>
                  <a:pt x="16903" y="1890"/>
                </a:moveTo>
                <a:arcTo wR="10800" hR="10800" stAng="-3335326" swAng="3753832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614000">
            <a:off x="2982960" y="2246040"/>
            <a:ext cx="761400" cy="33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815173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815173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640" y="2855880"/>
            <a:ext cx="1992240" cy="1769760"/>
            <a:chOff x="17640" y="2855880"/>
            <a:chExt cx="1992240" cy="1769760"/>
          </a:xfrm>
        </p:grpSpPr>
        <p:sp>
          <p:nvSpPr>
            <p:cNvPr id="135" name=""/>
            <p:cNvSpPr/>
            <p:nvPr/>
          </p:nvSpPr>
          <p:spPr>
            <a:xfrm>
              <a:off x="17640" y="3922560"/>
              <a:ext cx="199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ЗП и мотивации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организ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44680" y="2855880"/>
              <a:ext cx="87876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08000" y="1000080"/>
            <a:ext cx="1600200" cy="1434240"/>
            <a:chOff x="108000" y="1000080"/>
            <a:chExt cx="1600200" cy="1434240"/>
          </a:xfrm>
        </p:grpSpPr>
        <p:sp>
          <p:nvSpPr>
            <p:cNvPr id="138" name=""/>
            <p:cNvSpPr/>
            <p:nvPr/>
          </p:nvSpPr>
          <p:spPr>
            <a:xfrm>
              <a:off x="108000" y="2066760"/>
              <a:ext cx="1600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36600" y="10000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РА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8" name=""/>
          <p:cNvSpPr/>
          <p:nvPr/>
        </p:nvSpPr>
        <p:spPr>
          <a:xfrm>
            <a:off x="1347840" y="1724040"/>
            <a:ext cx="7524720" cy="45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сновных начис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пре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листов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тпусков и компенсации за отпу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среднего за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айонных и северных надба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ава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удерж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ЕСН и страховых взн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езер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54360" y="214200"/>
            <a:ext cx="728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ПРОЦЕССОР РА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23840" y="779400"/>
            <a:ext cx="5105520" cy="37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3648240" y="2841480"/>
            <a:ext cx="5340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2467080" y="2657520"/>
            <a:ext cx="53316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0400" y="1047600"/>
            <a:ext cx="752760" cy="295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7800" y="2486160"/>
            <a:ext cx="1590480" cy="742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00240" y="2657520"/>
            <a:ext cx="34308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81560" y="4734000"/>
            <a:ext cx="695520" cy="257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28520" y="73332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1943280" y="2295360"/>
            <a:ext cx="4725720" cy="36370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029200" y="40006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42920" y="795240"/>
            <a:ext cx="5867280" cy="490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3348000" y="2120760"/>
            <a:ext cx="5619960" cy="459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123840" y="83808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057480" y="224784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14480" y="78912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РАВОЧНИК КОНТАКТНЫХ РЕКВИЗ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1" name=""/>
          <p:cNvSpPr/>
          <p:nvPr/>
        </p:nvSpPr>
        <p:spPr>
          <a:xfrm>
            <a:off x="1241280" y="1859040"/>
            <a:ext cx="76327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Хранение дополнительной информации о контактных реквизитах сотруд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территория, номер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а телефонов (стационарных, мобильных, транковых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 пей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адрес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ругие рекви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терфейс для ввода данных сотрудниками УИС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ункции поиска и экспорт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Ежедневное автоматическое шлюзование данных в корпоративное хранилище для доступа через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tranet-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1836720" y="252360"/>
            <a:ext cx="70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а данных. 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27080" y="657360"/>
            <a:ext cx="8816760" cy="6018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14480" y="68436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нди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"/>
          <p:cNvSpPr/>
          <p:nvPr/>
        </p:nvSpPr>
        <p:spPr>
          <a:xfrm>
            <a:off x="1112760" y="1163520"/>
            <a:ext cx="80312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Функциональное назначение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учет данных о кандидатах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количественный и качественный анализ поступивших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перенос личных данных кандидата при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ав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Справка о кандида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Качественный состав кандид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требования по зарплате относительно качественного уровня и специаль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Развитые возможности поиска и фильтраци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27360" y="789120"/>
            <a:ext cx="653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ДИТ ДЕЙСТВИЙ ПОЛЬЗОВ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0" name=""/>
          <p:cNvSpPr/>
          <p:nvPr/>
        </p:nvSpPr>
        <p:spPr>
          <a:xfrm>
            <a:off x="1074600" y="2247840"/>
            <a:ext cx="739944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Анализ внештатных ситуаций, связанных с совместным использованием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едотвращение конфликтов, связанных с нерегламентированным изменением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бор статистической информации об интенсивности использования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819000"/>
            <a:ext cx="670536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1080" y="895320"/>
            <a:ext cx="6553080" cy="2724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454040" y="2529000"/>
            <a:ext cx="670572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1571760" y="25686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1512720" y="25686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279520" y="5172120"/>
            <a:ext cx="6705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5"/>
          <a:stretch/>
        </p:blipFill>
        <p:spPr>
          <a:xfrm>
            <a:off x="2362320" y="5229360"/>
            <a:ext cx="6553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управления персон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5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"/>
          <p:cNvSpPr/>
          <p:nvPr/>
        </p:nvSpPr>
        <p:spPr>
          <a:xfrm>
            <a:off x="1278000" y="3246480"/>
            <a:ext cx="74818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Кадровые классиф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Тарифные с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Штатное распис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Оклады сотруд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Сотру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Табель-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Регистрация документов сотруд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5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наева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kov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4480" y="265896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расчета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1278000" y="3298680"/>
            <a:ext cx="73929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Виды оплат и парамет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Таблицы входи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дактор видов оплат и параме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Процессор рас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Ведомости заработной пла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ельные компоненты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278000" y="3238560"/>
            <a:ext cx="7623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Подсистема аудита действий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Кандид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Интерфейс для выгрузки данных в ИМНС и ПФ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бщесистем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1278000" y="3193920"/>
            <a:ext cx="7623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объектов аналитиче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е средства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й генератор отчетов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E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естр ресурсов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Администратор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5320" y="2917800"/>
            <a:ext cx="739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ОБ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ФУНКЦИОНА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87584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Кулеш</cp:lastModifiedBy>
  <cp:lastPrinted>2003-11-27T08:17:54Z</cp:lastPrinted>
  <dcterms:modified xsi:type="dcterms:W3CDTF">2003-12-09T14:05:22Z</dcterms:modified>
  <cp:revision>127</cp:revision>
  <dc:subject/>
  <dc:title>Слайд 1</dc:title>
</cp:coreProperties>
</file>