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9C4-C1CC-4DBE-93C6-11416B67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258-8B21-4A34-92FF-C9440E4C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FF8-DB89-48AC-9818-753EDE45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957-2A3B-4DA4-86AC-6DD2CFBE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70D-DE0F-4A56-85A4-748AB940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BFA-ECCF-40F9-A6EA-FBED10EE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EF7-CFEC-4D29-A249-E217BD3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292-2BA9-46FE-876A-F13DCB5A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A56-57FA-4DA5-B9EB-A0820D60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66D-4341-48BB-946C-7F71A6E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210-F4E0-4D52-BDDB-FCF2F226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6B2-8940-42B8-B514-5B1975E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49EC-63C9-40F7-80F4-A06796E98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0200" y="2227320"/>
            <a:ext cx="5238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АВТОМАТИЗАЦИЯ УПРАВЛЕНИЯ ПЕРСОНАЛОМ НА БАЗЕ КИС КАПИТАЛ 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CSE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 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ЗАО «ЛУКОЙЛ-Пермь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76680" y="5052960"/>
            <a:ext cx="53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анаев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0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3280" y="2438280"/>
          <a:ext cx="3116160" cy="24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80" y="2438280"/>
                    <a:ext cx="31161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ПРАВОЧНИК ДОЛЖ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4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1" name=""/>
          <p:cNvSpPr/>
          <p:nvPr/>
        </p:nvSpPr>
        <p:spPr>
          <a:xfrm>
            <a:off x="1400040" y="1762200"/>
            <a:ext cx="7524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использования классификатора ОКПД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автоматического формирования наименования должности на основании фасетов (префикс + должность + постфик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указания процентных надбавок для должностей в зависимости от выслуги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Назначение сроков переаттестаций и переподготовок для долж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СПРАВОЧНИК ДОЛ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35000" y="666720"/>
            <a:ext cx="8918640" cy="608796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627360" y="3006720"/>
            <a:ext cx="5002200" cy="24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АРИФИКАЦИ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1" name=""/>
          <p:cNvSpPr/>
          <p:nvPr/>
        </p:nvSpPr>
        <p:spPr>
          <a:xfrm>
            <a:off x="1380960" y="1565280"/>
            <a:ext cx="7552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схемы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ариф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дель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часов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диапаз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 с разр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зовая вы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условия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орм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р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роизвольное количество тарифных с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ШТАТНОЕ РАС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9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0" name=""/>
          <p:cNvSpPr/>
          <p:nvPr/>
        </p:nvSpPr>
        <p:spPr>
          <a:xfrm>
            <a:off x="1400040" y="1587600"/>
            <a:ext cx="752472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труктура в виде иерархического дерева, зависящего о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тсутствие ограничения по глубине вложенности подразд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Хранение всей истории изменений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ояние штатного расписания доступно на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Учет приказов о реорганизации пред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едение окладов ставок по различным схемам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разовательный ценз для занятия 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озможность разграничения прав доступа к объектам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еханизм поиска и филь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42920" y="660240"/>
            <a:ext cx="8913600" cy="60930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727440" y="2827440"/>
            <a:ext cx="5329080" cy="39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ШТАТНОЕ 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7080" y="743040"/>
          <a:ext cx="628632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80" y="743040"/>
                    <a:ext cx="6286320" cy="222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968400" y="2708280"/>
          <a:ext cx="6346800" cy="21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8400" y="2708280"/>
                    <a:ext cx="6346800" cy="210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5540400" y="803160"/>
            <a:ext cx="3438360" cy="29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328" name=""/>
          <p:cNvGraphicFramePr/>
          <p:nvPr/>
        </p:nvGraphicFramePr>
        <p:xfrm>
          <a:off x="2712960" y="4519440"/>
          <a:ext cx="6269040" cy="226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4519440"/>
                    <a:ext cx="6269040" cy="226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000160" y="122868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9520" y="49719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28840" y="3228840"/>
            <a:ext cx="224820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25280" y="785880"/>
          <a:ext cx="695484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80" y="785880"/>
                    <a:ext cx="6954840" cy="2361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54080" y="3139920"/>
          <a:ext cx="7021800" cy="35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3139920"/>
                    <a:ext cx="7021800" cy="3552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647800" y="11811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95760" y="3809880"/>
            <a:ext cx="3514680" cy="628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5200" y="808200"/>
            <a:ext cx="856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ДРОВЫЕ КЛАССИФ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7760" y="1351080"/>
            <a:ext cx="4438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пу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зыво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слов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я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ид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ежим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плат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выхода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ст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6120" y="1368360"/>
            <a:ext cx="4251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одность к воинской 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рупп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атегории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оинские 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емей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ценки аттес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переподготов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еци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0960" y="618156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ДДЕРЖКА КЛАССИФИКАТОРОВ ОКАТО И О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14480" y="75096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8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"/>
          <p:cNvSpPr/>
          <p:nvPr/>
        </p:nvSpPr>
        <p:spPr>
          <a:xfrm>
            <a:off x="1346040" y="1806480"/>
            <a:ext cx="7234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адресные и паспорт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воинском уч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 назначениях и перемещениях по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ст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ая кни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 семейном по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б отпус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б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знании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и и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гов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71560" y="131904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Персональные сведения о сотруд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38240" y="652320"/>
            <a:ext cx="8913600" cy="608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704880" y="1003320"/>
            <a:ext cx="474012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300560" y="2319480"/>
            <a:ext cx="4753080" cy="44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655560"/>
            <a:ext cx="7426440" cy="6202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" name=""/>
          <p:cNvSpPr/>
          <p:nvPr/>
        </p:nvSpPr>
        <p:spPr>
          <a:xfrm>
            <a:off x="1879560" y="99864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ХАРАКТЕРИСТИКИ ЭКСПЛУАТАЦИИ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39031" t="2637" r="31597" b="21978"/>
          <a:stretch/>
        </p:blipFill>
        <p:spPr>
          <a:xfrm>
            <a:off x="128520" y="108108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886040" y="1886040"/>
            <a:ext cx="725796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системы …..……...………...…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…………………….…..………….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личест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«личных дел» сотрудников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3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начислени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удержаниях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……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5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распределении су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а счета и МВЗ 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…………………….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40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 эксплуа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управления персоналом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…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1999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расчета заработной платы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200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ъем базы данных .……….……………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.5 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39031" t="2637" r="31597" b="21978"/>
          <a:stretch/>
        </p:blipFill>
        <p:spPr>
          <a:xfrm>
            <a:off x="131760" y="375120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44360" y="668160"/>
            <a:ext cx="8913960" cy="6083280"/>
            <a:chOff x="144360" y="668160"/>
            <a:chExt cx="8913960" cy="6083280"/>
          </a:xfrm>
        </p:grpSpPr>
        <p:graphicFrame>
          <p:nvGraphicFramePr>
            <p:cNvPr id="413" name=""/>
            <p:cNvGraphicFramePr/>
            <p:nvPr/>
          </p:nvGraphicFramePr>
          <p:xfrm>
            <a:off x="144360" y="4172760"/>
            <a:ext cx="8913960" cy="132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360" y="4172760"/>
                      <a:ext cx="8913960" cy="13226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44360" y="2321280"/>
            <a:ext cx="8913960" cy="186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360" y="2321280"/>
                      <a:ext cx="8913960" cy="18676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144360" y="668160"/>
            <a:ext cx="8913960" cy="165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360" y="668160"/>
                      <a:ext cx="8913960" cy="16531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144360" y="5495400"/>
            <a:ext cx="8913960" cy="125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360" y="5495400"/>
                      <a:ext cx="8913960" cy="12560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39680" y="662040"/>
            <a:ext cx="8913960" cy="6084360"/>
            <a:chOff x="139680" y="662040"/>
            <a:chExt cx="8913960" cy="6084360"/>
          </a:xfrm>
        </p:grpSpPr>
        <p:graphicFrame>
          <p:nvGraphicFramePr>
            <p:cNvPr id="432" name=""/>
            <p:cNvGraphicFramePr/>
            <p:nvPr/>
          </p:nvGraphicFramePr>
          <p:xfrm>
            <a:off x="139680" y="662040"/>
            <a:ext cx="8913960" cy="135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9680" y="662040"/>
                      <a:ext cx="8913960" cy="13518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139680" y="2013840"/>
            <a:ext cx="8913960" cy="1487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9680" y="2013840"/>
                      <a:ext cx="8913960" cy="1487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139680" y="3501360"/>
            <a:ext cx="8913960" cy="128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9680" y="3501360"/>
                      <a:ext cx="8913960" cy="1284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139680" y="4786200"/>
            <a:ext cx="8913960" cy="196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9680" y="4786200"/>
                      <a:ext cx="8913960" cy="1960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42920" y="666720"/>
            <a:ext cx="8913600" cy="6094080"/>
            <a:chOff x="142920" y="666720"/>
            <a:chExt cx="8913600" cy="6094080"/>
          </a:xfrm>
        </p:grpSpPr>
        <p:graphicFrame>
          <p:nvGraphicFramePr>
            <p:cNvPr id="451" name=""/>
            <p:cNvGraphicFramePr/>
            <p:nvPr/>
          </p:nvGraphicFramePr>
          <p:xfrm>
            <a:off x="142920" y="666720"/>
            <a:ext cx="8913600" cy="127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2920" y="666720"/>
                      <a:ext cx="8913600" cy="1275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142920" y="1942200"/>
            <a:ext cx="8913600" cy="150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2920" y="1942200"/>
                      <a:ext cx="8913600" cy="1501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"/>
            <p:cNvGraphicFramePr/>
            <p:nvPr/>
          </p:nvGraphicFramePr>
          <p:xfrm>
            <a:off x="142920" y="3443760"/>
            <a:ext cx="8913600" cy="16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2920" y="3443760"/>
                      <a:ext cx="8913600" cy="16239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"/>
            <p:cNvGraphicFramePr/>
            <p:nvPr/>
          </p:nvGraphicFramePr>
          <p:xfrm>
            <a:off x="142920" y="5067720"/>
            <a:ext cx="8913600" cy="1693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2920" y="5067720"/>
                      <a:ext cx="8913600" cy="16930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14480" y="78912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7" name=""/>
          <p:cNvSpPr/>
          <p:nvPr/>
        </p:nvSpPr>
        <p:spPr>
          <a:xfrm>
            <a:off x="1346040" y="2030400"/>
            <a:ext cx="75693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личной информации о вновь принятом сотруд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азначение на ставку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формление поступления сотру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вод на должность, освобождение с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а, аттес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пуск, отзы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е и взыск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данных о договорах с сотруд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воль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ыход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1560" y="143352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ведения о движения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201600" y="789120"/>
            <a:ext cx="5286240" cy="383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641760" y="2589120"/>
            <a:ext cx="5286240" cy="415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181080" y="792000"/>
            <a:ext cx="5209920" cy="384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3759120" y="2909880"/>
            <a:ext cx="5210280" cy="38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39760" y="801720"/>
            <a:ext cx="50194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3805200" y="3009960"/>
            <a:ext cx="510552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4952880" cy="431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3371760" y="1941480"/>
            <a:ext cx="5562720" cy="484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4140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ОТЧЕТНЫХ 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42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4" name=""/>
          <p:cNvSpPr/>
          <p:nvPr/>
        </p:nvSpPr>
        <p:spPr>
          <a:xfrm>
            <a:off x="1380960" y="1635120"/>
            <a:ext cx="74296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иеме на работу (Форма №Т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Личная карточка (Форма №Т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ереводе на другую работу (Форма №Т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доставлении отпуска (Форма №Т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кращении трудового договора (Форма №Т-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ой 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чис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счет дополнительной потребности в специали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данные по повышению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спользование отпусков за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формы для П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3440" y="782640"/>
          <a:ext cx="6897600" cy="398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782640"/>
                    <a:ext cx="6897600" cy="3981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733840" y="3033720"/>
          <a:ext cx="6240240" cy="37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33840" y="3033720"/>
                    <a:ext cx="6240240" cy="3705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СНОВНЫЕ ФУНКЦИИ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1247760" y="2306520"/>
            <a:ext cx="75247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Учет и статистическая обработка информации о сотрудниках и кадровых перемещ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Формирование и управление организационной структурой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ланирование труда и учет использования рабочего времени сотрудников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Организация расчета заработной платы в соответствии с различными системами и формами оплаты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41120" y="777960"/>
          <a:ext cx="615492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777960"/>
                    <a:ext cx="6154920" cy="2685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455920" y="2647800"/>
          <a:ext cx="6507000" cy="415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5920" y="2647800"/>
                    <a:ext cx="6507000" cy="415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4480" y="96048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СТРАЦИЯ ДОКУМЕНТОВ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1" name=""/>
          <p:cNvSpPr/>
          <p:nvPr/>
        </p:nvSpPr>
        <p:spPr>
          <a:xfrm>
            <a:off x="1346040" y="2216160"/>
            <a:ext cx="723456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системе регистрир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тпуска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мандир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документы на удержание сумм из заработной платы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ОГОВЫЕ ОКНА РЕГ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25280" y="905040"/>
            <a:ext cx="5305680" cy="356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799160" y="907920"/>
            <a:ext cx="4243320" cy="369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1708200" y="3894120"/>
            <a:ext cx="5638680" cy="276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0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46160" y="852480"/>
            <a:ext cx="8893080" cy="247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036800" y="2508120"/>
            <a:ext cx="67640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617" name=""/>
          <p:cNvGraphicFramePr/>
          <p:nvPr/>
        </p:nvGraphicFramePr>
        <p:xfrm>
          <a:off x="2979720" y="4116240"/>
          <a:ext cx="604044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9720" y="4116240"/>
                    <a:ext cx="6040440" cy="2590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14480" y="78912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ЕТ РАБОЧЕ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"/>
          <p:cNvSpPr/>
          <p:nvPr/>
        </p:nvSpPr>
        <p:spPr>
          <a:xfrm>
            <a:off x="1238400" y="1514520"/>
            <a:ext cx="7246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рабочих календарей с различными типами рабочих нед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Учет использования рабочего времени в сменах и (или) час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Неограниченное число графиков рабо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нескольких типов табелей учета рабочего врем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Автоматическое и ручное формирование табеля на основе движений персонала, документов о неявках, плановых графиков рабо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Печать табеля по форме Т-13 и по произвольной форм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4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ТАБЕЛЬ-КАЛЕНД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42920" y="654120"/>
            <a:ext cx="8816760" cy="6105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2943360" y="3365640"/>
            <a:ext cx="6019560" cy="3404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5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 ОТЧЕТНОЙ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243000" y="1417680"/>
            <a:ext cx="8663040" cy="468144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2708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СЧЕТА ЗАРАБОТНОЙ ПЛ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9" name=""/>
          <p:cNvSpPr/>
          <p:nvPr/>
        </p:nvSpPr>
        <p:spPr>
          <a:xfrm>
            <a:off x="1347840" y="2571840"/>
            <a:ext cx="752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дготовка данных для рас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ыполнение расч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ведомостей на выдачу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отче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бухгалтер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36720" y="231840"/>
            <a:ext cx="707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ЛАМЕНТ РАСЧЕТА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План%20зарплата1" descr=""/>
          <p:cNvPicPr/>
          <p:nvPr/>
        </p:nvPicPr>
        <p:blipFill>
          <a:blip r:embed="rId2"/>
          <a:stretch/>
        </p:blipFill>
        <p:spPr>
          <a:xfrm>
            <a:off x="333360" y="1436760"/>
            <a:ext cx="861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79560" y="66672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ГОТОВКА ДАННЫХ ДЛЯ РАСЧЕТА ЗАРАБОТНОЙ 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9" name=""/>
          <p:cNvSpPr/>
          <p:nvPr/>
        </p:nvSpPr>
        <p:spPr>
          <a:xfrm>
            <a:off x="1257480" y="1806480"/>
            <a:ext cx="75564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на назначении сотруд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клад, тар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надбавки и до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коэффициенты для расчета пр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график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отпуск, компенс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командиров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кументы на удержания из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Табель учета рабочего врем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с предыдущего места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полнительные парамет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0" y="-7920"/>
            <a:ext cx="9144000" cy="68659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24200" y="2318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ИНФОРМАЦИОННЫХ П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0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 rot="16090200">
            <a:off x="2687760" y="3548880"/>
            <a:ext cx="2134080" cy="347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06" y="731"/>
                </a:moveTo>
                <a:arcTo wR="10800" hR="10800" stAng="-4127922" swAng="3849171"/>
                <a:lnTo>
                  <a:pt x="10800" y="10800"/>
                </a:lnTo>
                <a:close/>
              </a:path>
              <a:path fill="none" w="21600" h="21600">
                <a:moveTo>
                  <a:pt x="14706" y="731"/>
                </a:moveTo>
                <a:arcTo wR="10800" hR="10800" stAng="-4127922" swAng="384917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7800" y="4687920"/>
            <a:ext cx="2629080" cy="57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Персональные данные сотрудни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движении персо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алендарно-табельный уч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00840" y="5043600"/>
            <a:ext cx="2361960" cy="160020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рпоратив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8120" y="2676600"/>
            <a:ext cx="2286000" cy="167616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Д 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питал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SE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58920" y="996840"/>
            <a:ext cx="128592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начисленной и выданной З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5360" y="2120760"/>
            <a:ext cx="95868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Отчет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для ИМНС и ПФ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7120" y="4944960"/>
            <a:ext cx="2543400" cy="1627200"/>
            <a:chOff x="357120" y="4944960"/>
            <a:chExt cx="2543400" cy="1627200"/>
          </a:xfrm>
        </p:grpSpPr>
        <p:sp>
          <p:nvSpPr>
            <p:cNvPr id="115" name=""/>
            <p:cNvSpPr/>
            <p:nvPr/>
          </p:nvSpPr>
          <p:spPr>
            <a:xfrm>
              <a:off x="357120" y="6021360"/>
              <a:ext cx="2543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кад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развития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социальных програм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59400" y="4944960"/>
              <a:ext cx="100368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3665520" y="1001880"/>
            <a:ext cx="1143000" cy="1312920"/>
            <a:chOff x="3665520" y="1001880"/>
            <a:chExt cx="1143000" cy="1312920"/>
          </a:xfrm>
        </p:grpSpPr>
        <p:sp>
          <p:nvSpPr>
            <p:cNvPr id="118" name=""/>
            <p:cNvSpPr/>
            <p:nvPr/>
          </p:nvSpPr>
          <p:spPr>
            <a:xfrm>
              <a:off x="3741480" y="20685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УИСТи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3665520" y="10018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7389720" y="1000080"/>
            <a:ext cx="1752480" cy="1465200"/>
            <a:chOff x="7389720" y="1000080"/>
            <a:chExt cx="1752480" cy="1465200"/>
          </a:xfrm>
        </p:grpSpPr>
        <p:sp>
          <p:nvSpPr>
            <p:cNvPr id="121" name=""/>
            <p:cNvSpPr/>
            <p:nvPr/>
          </p:nvSpPr>
          <p:spPr>
            <a:xfrm>
              <a:off x="7389720" y="2066760"/>
              <a:ext cx="175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Внеш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694640" y="100008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7467480" y="2752560"/>
            <a:ext cx="1676520" cy="1465200"/>
            <a:chOff x="7467480" y="2752560"/>
            <a:chExt cx="1676520" cy="1465200"/>
          </a:xfrm>
        </p:grpSpPr>
        <p:sp>
          <p:nvSpPr>
            <p:cNvPr id="124" name=""/>
            <p:cNvSpPr/>
            <p:nvPr/>
          </p:nvSpPr>
          <p:spPr>
            <a:xfrm>
              <a:off x="7467480" y="3819240"/>
              <a:ext cx="16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 </a:t>
              </a:r>
              <a:r>
                <a:rPr b="1" lang="en-AU" sz="1000" spc="-1" strike="noStrike">
                  <a:solidFill>
                    <a:srgbClr val="000000"/>
                  </a:solidFill>
                  <a:latin typeface="Tahoma"/>
                </a:rPr>
                <a:t>intranet</a:t>
              </a: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-сай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7696080" y="275256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 rot="14571000">
            <a:off x="7189200" y="-338400"/>
            <a:ext cx="1199880" cy="422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488497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488497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3720" y="987480"/>
            <a:ext cx="9907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Контактные реквизи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 rot="10854600">
            <a:off x="3405600" y="1065600"/>
            <a:ext cx="2073240" cy="305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89" y="977"/>
                </a:moveTo>
                <a:arcTo wR="10800" hR="10800" stAng="-3926556" swAng="3716161"/>
                <a:lnTo>
                  <a:pt x="10800" y="10800"/>
                </a:lnTo>
                <a:close/>
              </a:path>
              <a:path fill="none" w="21600" h="21600">
                <a:moveTo>
                  <a:pt x="15289" y="977"/>
                </a:moveTo>
                <a:arcTo wR="10800" hR="10800" stAng="-3926556" swAng="371616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413400">
            <a:off x="6127200" y="2311560"/>
            <a:ext cx="1981440" cy="27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9" y="1773"/>
                </a:moveTo>
                <a:arcTo wR="10800" hR="10800" stAng="-3402031" swAng="2225099"/>
                <a:lnTo>
                  <a:pt x="10800" y="10800"/>
                </a:lnTo>
                <a:close/>
              </a:path>
              <a:path fill="none" w="21600" h="21600">
                <a:moveTo>
                  <a:pt x="16729" y="1773"/>
                </a:moveTo>
                <a:arcTo wR="10800" hR="10800" stAng="-3402031" swAng="2225099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8600" y="2679840"/>
            <a:ext cx="1501560" cy="70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б организационной и штатной структу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 rot="17814600">
            <a:off x="4424400" y="2802960"/>
            <a:ext cx="1979640" cy="32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031396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031396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 rot="7962600">
            <a:off x="1355040" y="1112040"/>
            <a:ext cx="2492280" cy="47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3" y="1890"/>
                </a:moveTo>
                <a:arcTo wR="10800" hR="10800" stAng="-3335326" swAng="3753832"/>
                <a:lnTo>
                  <a:pt x="10800" y="10800"/>
                </a:lnTo>
                <a:close/>
              </a:path>
              <a:path fill="none" w="21600" h="21600">
                <a:moveTo>
                  <a:pt x="16903" y="1890"/>
                </a:moveTo>
                <a:arcTo wR="10800" hR="10800" stAng="-3335326" swAng="3753832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614000">
            <a:off x="2982960" y="2246040"/>
            <a:ext cx="761400" cy="33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815173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815173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640" y="2855880"/>
            <a:ext cx="1992240" cy="1769760"/>
            <a:chOff x="17640" y="2855880"/>
            <a:chExt cx="1992240" cy="1769760"/>
          </a:xfrm>
        </p:grpSpPr>
        <p:sp>
          <p:nvSpPr>
            <p:cNvPr id="135" name=""/>
            <p:cNvSpPr/>
            <p:nvPr/>
          </p:nvSpPr>
          <p:spPr>
            <a:xfrm>
              <a:off x="17640" y="3922560"/>
              <a:ext cx="199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ЗП и мотивации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организационного разви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44680" y="2855880"/>
              <a:ext cx="87876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08000" y="1000080"/>
            <a:ext cx="1600200" cy="1434240"/>
            <a:chOff x="108000" y="1000080"/>
            <a:chExt cx="1600200" cy="1434240"/>
          </a:xfrm>
        </p:grpSpPr>
        <p:sp>
          <p:nvSpPr>
            <p:cNvPr id="138" name=""/>
            <p:cNvSpPr/>
            <p:nvPr/>
          </p:nvSpPr>
          <p:spPr>
            <a:xfrm>
              <a:off x="108000" y="2066760"/>
              <a:ext cx="1600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336600" y="10000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РАС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8" name=""/>
          <p:cNvSpPr/>
          <p:nvPr/>
        </p:nvSpPr>
        <p:spPr>
          <a:xfrm>
            <a:off x="1347840" y="1724040"/>
            <a:ext cx="7524720" cy="45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сновных начисл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прем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листов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тпусков и компенсации за отпу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среднего зарабо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айонных и северных надбав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аван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удерж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ЕСН и страховых взно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езер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54360" y="214200"/>
            <a:ext cx="728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ПРОЦЕССОР РА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23840" y="779400"/>
            <a:ext cx="5105520" cy="37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3648240" y="2841480"/>
            <a:ext cx="5340240" cy="388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2467080" y="2657520"/>
            <a:ext cx="53316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0400" y="1047600"/>
            <a:ext cx="752760" cy="295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47800" y="2486160"/>
            <a:ext cx="1590480" cy="742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00240" y="2657520"/>
            <a:ext cx="34308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81560" y="4734000"/>
            <a:ext cx="695520" cy="257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28520" y="73332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1943280" y="2295360"/>
            <a:ext cx="4725720" cy="36370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4"/>
          <a:stretch/>
        </p:blipFill>
        <p:spPr>
          <a:xfrm>
            <a:off x="5029200" y="400068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142920" y="795240"/>
            <a:ext cx="5867280" cy="490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3348000" y="2120760"/>
            <a:ext cx="5619960" cy="459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123840" y="83808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3057480" y="224784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14480" y="78912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ПРАВОЧНИК КОНТАКТНЫХ РЕКВИЗ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01" name=""/>
          <p:cNvSpPr/>
          <p:nvPr/>
        </p:nvSpPr>
        <p:spPr>
          <a:xfrm>
            <a:off x="1241280" y="1859040"/>
            <a:ext cx="763272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Хранение дополнительной информации о контактных реквизитах сотруд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территория, номер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а телефонов (стационарных, мобильных, транковых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 пей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адрес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ругие рекви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терфейс для ввода данных сотрудниками УИС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ункции поиска и экспорт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Ежедневное автоматическое шлюзование данных в корпоративное хранилище для доступа через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tranet-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1" name=""/>
          <p:cNvSpPr/>
          <p:nvPr/>
        </p:nvSpPr>
        <p:spPr>
          <a:xfrm>
            <a:off x="1836720" y="252360"/>
            <a:ext cx="70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а данных. 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127080" y="657360"/>
            <a:ext cx="8816760" cy="6018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14480" y="68436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нди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1" name=""/>
          <p:cNvSpPr/>
          <p:nvPr/>
        </p:nvSpPr>
        <p:spPr>
          <a:xfrm>
            <a:off x="1112760" y="1163520"/>
            <a:ext cx="80312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Функциональное назначение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учет данных о кандидатах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количественный и качественный анализ поступивших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перенос личных данных кандидата при приеме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ав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Справка о кандида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Качественный состав кандида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требования по зарплате относительно качественного уровня и специаль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Развитые возможности поиска и фильтраци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27360" y="789120"/>
            <a:ext cx="653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ДИТ ДЕЙСТВИЙ ПОЛЬЗОВ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0" name=""/>
          <p:cNvSpPr/>
          <p:nvPr/>
        </p:nvSpPr>
        <p:spPr>
          <a:xfrm>
            <a:off x="1074600" y="2247840"/>
            <a:ext cx="739944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Анализ внештатных ситуаций, связанных с совместным использованием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едотвращение конфликтов, связанных с нерегламентированным изменением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бор статистической информации об интенсивности использования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14480" y="819000"/>
            <a:ext cx="6705360" cy="289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181080" y="895320"/>
            <a:ext cx="6553080" cy="27241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454040" y="2529000"/>
            <a:ext cx="6705720" cy="266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1571760" y="2568600"/>
            <a:ext cx="6553080" cy="251460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1512720" y="2568600"/>
            <a:ext cx="6553440" cy="25146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279520" y="5172120"/>
            <a:ext cx="670572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5"/>
          <a:stretch/>
        </p:blipFill>
        <p:spPr>
          <a:xfrm>
            <a:off x="2362320" y="5229360"/>
            <a:ext cx="65530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управления персон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5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" name=""/>
          <p:cNvSpPr/>
          <p:nvPr/>
        </p:nvSpPr>
        <p:spPr>
          <a:xfrm>
            <a:off x="1278000" y="3246480"/>
            <a:ext cx="748188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Кадровые классификат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дол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Тарифные с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Штатное распис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Оклады сотруд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Сотруд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Табель-календа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Регистрация документов сотруд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5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наева Оль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kov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4480" y="265896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расчета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"/>
          <p:cNvSpPr/>
          <p:nvPr/>
        </p:nvSpPr>
        <p:spPr>
          <a:xfrm>
            <a:off x="1278000" y="3298680"/>
            <a:ext cx="739296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Виды оплат и парамет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Таблицы входим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дактор видов оплат и параме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Процессор расч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Ведомости заработной плат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ельные компоненты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278000" y="3238560"/>
            <a:ext cx="7623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Подсистема аудита действий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Кандида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Интерфейс для выгрузки данных в ИМНС и ПФ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бщесистемные 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1278000" y="3193920"/>
            <a:ext cx="76230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объектов аналитиче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е средства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й генератор отчетов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E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естр ресурсов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Администратор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5320" y="2917800"/>
            <a:ext cx="7399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ОБЗ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ФУНКЦИОНА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87584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Кулеш</cp:lastModifiedBy>
  <cp:lastPrinted>2003-11-27T08:17:54Z</cp:lastPrinted>
  <dcterms:modified xsi:type="dcterms:W3CDTF">2003-12-09T14:05:22Z</dcterms:modified>
  <cp:revision>127</cp:revision>
  <dc:subject/>
  <dc:title>Слайд 1</dc:title>
</cp:coreProperties>
</file>