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1.png" ContentType="image/png"/>
  <Override PartName="/ppt/media/image66.png" ContentType="image/png"/>
  <Override PartName="/ppt/media/image28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59.png" ContentType="image/png"/>
  <Override PartName="/ppt/media/image22.png" ContentType="image/png"/>
  <Override PartName="/ppt/media/image57.png" ContentType="image/png"/>
  <Override PartName="/ppt/media/image20.png" ContentType="image/png"/>
  <Override PartName="/ppt/media/image60.png" ContentType="image/png"/>
  <Override PartName="/ppt/media/image23.png" ContentType="image/png"/>
  <Override PartName="/ppt/media/image58.png" ContentType="image/png"/>
  <Override PartName="/ppt/media/image21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8656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A41C-99E1-4E97-8BD5-AD1362E8E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F8D3-402C-4F07-A04A-0BD24144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DF91-1ACD-4454-8538-6CEC2924E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B0C8-407B-428B-88C4-91C67D1E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B43-2897-46EA-BCAD-DA57D2EB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1FE3-6E64-4B5F-BB93-77ACBB48E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DAEF-AA2A-4D5B-924A-AA228D754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BBC-2AD0-498F-B186-BA8CAAD41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63DB-8E46-458D-926D-94800464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59F3-F36C-4EFE-BE87-D9641592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E5D6-56BF-4DCE-8E74-FB2D986A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4871-A02E-4D06-89D7-FB2F0ACA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8AD1-72F1-4DF2-8C3A-67120DBAEF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png"/><Relationship Id="rId10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1.png"/><Relationship Id="rId10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image" Target="../media/image46.png"/><Relationship Id="rId5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image" Target="../media/image58.png"/><Relationship Id="rId5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gelicon.biz/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215640" y="1501920"/>
            <a:ext cx="2190600" cy="535608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4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670200" y="2227320"/>
            <a:ext cx="523872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АВТОМАТИЗАЦИЯ УПРАВЛЕНИЯ ПЕРСОНАЛОМ НА БАЗЕ КИС КАПИТАЛ </a:t>
            </a:r>
            <a:r>
              <a:rPr b="1" lang="en-US" sz="2900" spc="-1" strike="noStrike">
                <a:solidFill>
                  <a:srgbClr val="ffffff"/>
                </a:solidFill>
                <a:latin typeface="Tahoma"/>
              </a:rPr>
              <a:t>CSE</a:t>
            </a: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 В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ffff"/>
                </a:solidFill>
                <a:latin typeface="Tahoma"/>
              </a:rPr>
              <a:t>ЗАО «ЛУКОЙЛ-Пермь»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676680" y="5052960"/>
            <a:ext cx="53053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Канаева Оль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ведущий специалист ЗАО «Геликон Про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0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3789360" y="679320"/>
              <a:ext cx="94284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503280" y="2438280"/>
          <a:ext cx="3116160" cy="2403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3280" y="2438280"/>
                    <a:ext cx="3116160" cy="24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ПРАВОЧНИК ДОЛЖНОСТ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4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1" name=""/>
          <p:cNvSpPr/>
          <p:nvPr/>
        </p:nvSpPr>
        <p:spPr>
          <a:xfrm>
            <a:off x="1400040" y="1762200"/>
            <a:ext cx="752472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использования классификатора ОКПДТР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автоматического формирования наименования должности на основании фасетов (префикс + должность + постфикс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Возможность указания процентных надбавок для должностей в зависимости от выслуги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Назначение сроков переаттестаций и переподготовок для должност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СПРАВОЧНИК ДОЛЖНОС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5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6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135000" y="666720"/>
            <a:ext cx="8918640" cy="608796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627360" y="3006720"/>
            <a:ext cx="5002200" cy="2452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1772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ТАРИФИКАЦИЯ ПЕРСОН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7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7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8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"/>
          <p:cNvSpPr/>
          <p:nvPr/>
        </p:nvSpPr>
        <p:spPr>
          <a:xfrm>
            <a:off x="1380960" y="1565280"/>
            <a:ext cx="7552080" cy="51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схемы оплаты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ариф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дельн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часовая сет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диапазо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клад в месяц с разряд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овая выпла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азличные условия труд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орма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яже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ред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51080" indent="-5875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оизвольное количество тарифных се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ШТАТНОЕ РАСПИС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9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9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9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9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0" name=""/>
          <p:cNvSpPr/>
          <p:nvPr/>
        </p:nvSpPr>
        <p:spPr>
          <a:xfrm>
            <a:off x="1400040" y="1587600"/>
            <a:ext cx="7524720" cy="46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труктура в виде иерархического дерева, зависящего о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тсутствие ограничения по глубине вложенности подраздел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Хранение всей истории изменений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ояние штатного расписания доступно на любой момент време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Учет приказов о реорганизации предприя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едение окладов ставок по различным схемам оплаты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бразовательный ценз для занятия ста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Возможность разграничения прав доступа к объектам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еханизм поиска и фильтр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0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0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0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142920" y="660240"/>
            <a:ext cx="8913600" cy="609300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727440" y="2827440"/>
            <a:ext cx="5329080" cy="3927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31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ШТАТНОЕ РАСПИС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1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27080" y="743040"/>
          <a:ext cx="6286320" cy="2228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7080" y="743040"/>
                    <a:ext cx="6286320" cy="22287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5" name=""/>
          <p:cNvGraphicFramePr/>
          <p:nvPr/>
        </p:nvGraphicFramePr>
        <p:xfrm>
          <a:off x="968400" y="2708280"/>
          <a:ext cx="6346800" cy="2100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68400" y="2708280"/>
                    <a:ext cx="6346800" cy="2100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5540400" y="803160"/>
            <a:ext cx="3438360" cy="2957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328" name=""/>
          <p:cNvGraphicFramePr/>
          <p:nvPr/>
        </p:nvGraphicFramePr>
        <p:xfrm>
          <a:off x="2712960" y="4519440"/>
          <a:ext cx="6269040" cy="2264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12960" y="4519440"/>
                    <a:ext cx="6269040" cy="22640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000160" y="122868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19520" y="49719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28840" y="3228840"/>
            <a:ext cx="224820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3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3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3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2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125280" y="785880"/>
          <a:ext cx="6954840" cy="236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80" y="785880"/>
                    <a:ext cx="6954840" cy="2361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1954080" y="3139920"/>
          <a:ext cx="7021800" cy="355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54080" y="3139920"/>
                    <a:ext cx="7021800" cy="35528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647800" y="1181160"/>
            <a:ext cx="2552760" cy="5144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95760" y="3809880"/>
            <a:ext cx="3514680" cy="62892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95200" y="808200"/>
            <a:ext cx="85647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АДРОВЫЕ КЛАССИФИК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87760" y="1351080"/>
            <a:ext cx="443880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пус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тзыво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чины уволь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говор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словия тр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язы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ид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ежимы нетрудоспосо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плат документов на у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выхода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стаж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76120" y="1368360"/>
            <a:ext cx="42516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одность к воинской 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групп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атегории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ы воин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оинские з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остав семь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емейное пол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ценки аттест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учебных завед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переподготово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раз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ипы обу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ециаль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93680" indent="-193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0960" y="6181560"/>
            <a:ext cx="871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ДДЕРЖКА КЛАССИФИКАТОРОВ ОКАТО И ОК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5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5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65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6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6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914480" y="75096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7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3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38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87" name=""/>
          <p:cNvSpPr/>
          <p:nvPr/>
        </p:nvSpPr>
        <p:spPr>
          <a:xfrm>
            <a:off x="1346040" y="1806480"/>
            <a:ext cx="7234560" cy="45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адресные и паспорт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воинском уч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 назначениях и перемещениях по служб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стаж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ая книж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 семейном положе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ведения об отпуск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анные об образов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знании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и и аттес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я и взыск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гово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докумен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отогра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71560" y="131904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Персональные сведения о сотрудник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39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39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138240" y="652320"/>
            <a:ext cx="8913600" cy="6085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704880" y="1003320"/>
            <a:ext cx="4740120" cy="4406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01" name="" descr=""/>
          <p:cNvPicPr/>
          <p:nvPr/>
        </p:nvPicPr>
        <p:blipFill>
          <a:blip r:embed="rId4"/>
          <a:stretch/>
        </p:blipFill>
        <p:spPr>
          <a:xfrm>
            <a:off x="4300560" y="2319480"/>
            <a:ext cx="4753080" cy="441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17560" y="655560"/>
            <a:ext cx="7426440" cy="6202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5" name=""/>
          <p:cNvSpPr/>
          <p:nvPr/>
        </p:nvSpPr>
        <p:spPr>
          <a:xfrm>
            <a:off x="1879560" y="998640"/>
            <a:ext cx="70930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ОСНОВНЫЕ ХАРАКТЕРИСТИКИ ЭКСПЛУАТАЦИИ 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rcRect l="39031" t="2637" r="31597" b="21978"/>
          <a:stretch/>
        </p:blipFill>
        <p:spPr>
          <a:xfrm>
            <a:off x="128520" y="108108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  <p:sp>
        <p:nvSpPr>
          <p:cNvPr id="77" name=""/>
          <p:cNvSpPr/>
          <p:nvPr/>
        </p:nvSpPr>
        <p:spPr>
          <a:xfrm>
            <a:off x="1886040" y="1886040"/>
            <a:ext cx="7257960" cy="44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системы …..……...………...…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5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льзователей …………………….…..…………..…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2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личество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«личных дел» сотрудников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380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начис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удержаниях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…………………………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5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записей о распределении су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а счета и МВЗ 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…………………….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40 000 в ме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 эксплуа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управления персоналом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…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1999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   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подсистема расчета заработной платы</a:t>
            </a: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 …..... 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с 2001 г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бъем базы данных .……….………………....</a:t>
            </a:r>
            <a:r>
              <a:rPr b="1" lang="ru-RU" sz="2200" spc="-1" strike="noStrike">
                <a:solidFill>
                  <a:srgbClr val="0000cc"/>
                </a:solidFill>
                <a:latin typeface="Tahoma"/>
              </a:rPr>
              <a:t> 2.5 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rcRect l="39031" t="2637" r="31597" b="21978"/>
          <a:stretch/>
        </p:blipFill>
        <p:spPr>
          <a:xfrm>
            <a:off x="131760" y="3751200"/>
            <a:ext cx="1573200" cy="25225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144360" y="668160"/>
            <a:ext cx="8913960" cy="6083280"/>
            <a:chOff x="144360" y="668160"/>
            <a:chExt cx="8913960" cy="6083280"/>
          </a:xfrm>
        </p:grpSpPr>
        <p:graphicFrame>
          <p:nvGraphicFramePr>
            <p:cNvPr id="413" name=""/>
            <p:cNvGraphicFramePr/>
            <p:nvPr/>
          </p:nvGraphicFramePr>
          <p:xfrm>
            <a:off x="144360" y="4172760"/>
            <a:ext cx="8913960" cy="13226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4360" y="4172760"/>
                      <a:ext cx="8913960" cy="13226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5" name=""/>
            <p:cNvGraphicFramePr/>
            <p:nvPr/>
          </p:nvGraphicFramePr>
          <p:xfrm>
            <a:off x="144360" y="2321280"/>
            <a:ext cx="8913960" cy="18676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16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4360" y="2321280"/>
                      <a:ext cx="8913960" cy="18676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7" name=""/>
            <p:cNvGraphicFramePr/>
            <p:nvPr/>
          </p:nvGraphicFramePr>
          <p:xfrm>
            <a:off x="144360" y="668160"/>
            <a:ext cx="8913960" cy="1653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18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4360" y="668160"/>
                      <a:ext cx="8913960" cy="165312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19" name=""/>
            <p:cNvGraphicFramePr/>
            <p:nvPr/>
          </p:nvGraphicFramePr>
          <p:xfrm>
            <a:off x="144360" y="5495400"/>
            <a:ext cx="8913960" cy="125604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2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4360" y="5495400"/>
                      <a:ext cx="8913960" cy="125604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2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2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2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0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39680" y="662040"/>
            <a:ext cx="8913960" cy="6084360"/>
            <a:chOff x="139680" y="662040"/>
            <a:chExt cx="8913960" cy="6084360"/>
          </a:xfrm>
        </p:grpSpPr>
        <p:graphicFrame>
          <p:nvGraphicFramePr>
            <p:cNvPr id="432" name=""/>
            <p:cNvGraphicFramePr/>
            <p:nvPr/>
          </p:nvGraphicFramePr>
          <p:xfrm>
            <a:off x="139680" y="662040"/>
            <a:ext cx="8913960" cy="13518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3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39680" y="662040"/>
                      <a:ext cx="8913960" cy="13518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4" name=""/>
            <p:cNvGraphicFramePr/>
            <p:nvPr/>
          </p:nvGraphicFramePr>
          <p:xfrm>
            <a:off x="139680" y="2013840"/>
            <a:ext cx="8913960" cy="148716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35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39680" y="2013840"/>
                      <a:ext cx="8913960" cy="14871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6" name=""/>
            <p:cNvGraphicFramePr/>
            <p:nvPr/>
          </p:nvGraphicFramePr>
          <p:xfrm>
            <a:off x="139680" y="3501360"/>
            <a:ext cx="8913960" cy="1284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37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39680" y="3501360"/>
                      <a:ext cx="8913960" cy="1284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38" name=""/>
            <p:cNvGraphicFramePr/>
            <p:nvPr/>
          </p:nvGraphicFramePr>
          <p:xfrm>
            <a:off x="139680" y="4786200"/>
            <a:ext cx="8913960" cy="19602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39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39680" y="4786200"/>
                      <a:ext cx="8913960" cy="1960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4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4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4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9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ПЕРСОНАЛЬНЫЕ ДА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"/>
          <p:cNvGrpSpPr/>
          <p:nvPr/>
        </p:nvGrpSpPr>
        <p:grpSpPr>
          <a:xfrm>
            <a:off x="142920" y="666720"/>
            <a:ext cx="8913600" cy="6094080"/>
            <a:chOff x="142920" y="666720"/>
            <a:chExt cx="8913600" cy="6094080"/>
          </a:xfrm>
        </p:grpSpPr>
        <p:graphicFrame>
          <p:nvGraphicFramePr>
            <p:cNvPr id="451" name=""/>
            <p:cNvGraphicFramePr/>
            <p:nvPr/>
          </p:nvGraphicFramePr>
          <p:xfrm>
            <a:off x="142920" y="666720"/>
            <a:ext cx="8913600" cy="127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42920" y="666720"/>
                      <a:ext cx="8913600" cy="12754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3" name=""/>
            <p:cNvGraphicFramePr/>
            <p:nvPr/>
          </p:nvGraphicFramePr>
          <p:xfrm>
            <a:off x="142920" y="1942200"/>
            <a:ext cx="8913600" cy="150120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4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2920" y="1942200"/>
                      <a:ext cx="8913600" cy="150120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5" name=""/>
            <p:cNvGraphicFramePr/>
            <p:nvPr/>
          </p:nvGraphicFramePr>
          <p:xfrm>
            <a:off x="142920" y="3443760"/>
            <a:ext cx="8913600" cy="16239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56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142920" y="3443760"/>
                      <a:ext cx="8913600" cy="162396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457" name=""/>
            <p:cNvGraphicFramePr/>
            <p:nvPr/>
          </p:nvGraphicFramePr>
          <p:xfrm>
            <a:off x="142920" y="5067720"/>
            <a:ext cx="8913600" cy="169308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458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42920" y="5067720"/>
                      <a:ext cx="8913600" cy="1693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914480" y="789120"/>
            <a:ext cx="6734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КАДРОВЫЙ УЧ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4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4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477" name=""/>
          <p:cNvSpPr/>
          <p:nvPr/>
        </p:nvSpPr>
        <p:spPr>
          <a:xfrm>
            <a:off x="1346040" y="2030400"/>
            <a:ext cx="7569360" cy="42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57312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личной информации о вновь принятом сотрудн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назначение на ставку штатного распис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формление поступления сотруд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вод на должность, освобождение с дол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ереподготовка, аттест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пуск, отзыв из отпу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оощрение и взыск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несение данных о договорах с сотрудни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воль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ыход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71560" y="1433520"/>
            <a:ext cx="694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ffff"/>
                </a:solidFill>
                <a:latin typeface="Tahoma"/>
              </a:rPr>
              <a:t>Сведения о движениях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8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8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8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2"/>
          <a:stretch/>
        </p:blipFill>
        <p:spPr>
          <a:xfrm>
            <a:off x="201600" y="789120"/>
            <a:ext cx="5286240" cy="3838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490" name="" descr=""/>
          <p:cNvPicPr/>
          <p:nvPr/>
        </p:nvPicPr>
        <p:blipFill>
          <a:blip r:embed="rId3"/>
          <a:stretch/>
        </p:blipFill>
        <p:spPr>
          <a:xfrm>
            <a:off x="3641760" y="2589120"/>
            <a:ext cx="5286240" cy="4152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49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49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181080" y="792000"/>
            <a:ext cx="5209920" cy="38484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02" name="" descr=""/>
          <p:cNvPicPr/>
          <p:nvPr/>
        </p:nvPicPr>
        <p:blipFill>
          <a:blip r:embed="rId3"/>
          <a:stretch/>
        </p:blipFill>
        <p:spPr>
          <a:xfrm>
            <a:off x="3759120" y="2909880"/>
            <a:ext cx="5210280" cy="38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05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06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09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239760" y="801720"/>
            <a:ext cx="5019480" cy="4572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14" name="" descr=""/>
          <p:cNvPicPr/>
          <p:nvPr/>
        </p:nvPicPr>
        <p:blipFill>
          <a:blip r:embed="rId3"/>
          <a:stretch/>
        </p:blipFill>
        <p:spPr>
          <a:xfrm>
            <a:off x="3805200" y="3009960"/>
            <a:ext cx="5105520" cy="3743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1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1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4" name=""/>
          <p:cNvSpPr/>
          <p:nvPr/>
        </p:nvSpPr>
        <p:spPr>
          <a:xfrm>
            <a:off x="1836720" y="23508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ТРУДНИКИ. ИНФОРМАЦИЯ О ДВИЖЕНИЯ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84320" y="763560"/>
            <a:ext cx="4952880" cy="4313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3371760" y="1941480"/>
            <a:ext cx="5562720" cy="4843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84140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ОТЧЕТНЫХ 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5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9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4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1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42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44" name=""/>
          <p:cNvSpPr/>
          <p:nvPr/>
        </p:nvSpPr>
        <p:spPr>
          <a:xfrm>
            <a:off x="1380960" y="1635120"/>
            <a:ext cx="7429680" cy="46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иеме на работу (Форма №Т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Личная карточка (Форма №Т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ереводе на другую работу (Форма №Т-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доставлении отпуска (Форма №Т-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Приказ о прекращении трудового договора (Форма №Т-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Трудовой догов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формация о чис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счет дополнительной потребности в специали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данные по повышению квалиф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спользование отпусков за пери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Отчетные формы для ПФ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1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4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4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"/>
          <p:cNvGraphicFramePr/>
          <p:nvPr/>
        </p:nvGraphicFramePr>
        <p:xfrm>
          <a:off x="163440" y="782640"/>
          <a:ext cx="6897600" cy="3981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3440" y="782640"/>
                    <a:ext cx="6897600" cy="39816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57" name=""/>
          <p:cNvGraphicFramePr/>
          <p:nvPr/>
        </p:nvGraphicFramePr>
        <p:xfrm>
          <a:off x="2733840" y="3033720"/>
          <a:ext cx="6240240" cy="3705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733840" y="3033720"/>
                    <a:ext cx="6240240" cy="37051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91772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ОСНОВНЫЕ ФУНКЦИИ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6" name=""/>
          <p:cNvSpPr/>
          <p:nvPr/>
        </p:nvSpPr>
        <p:spPr>
          <a:xfrm>
            <a:off x="1247760" y="2306520"/>
            <a:ext cx="7524720" cy="40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Учет и статистическая обработка информации о сотрудниках и кадровых перемещения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Формирование и управление организационной структурой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ланирование труда и учет использования рабочего времени сотрудников предприят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65280" indent="-576360">
              <a:lnSpc>
                <a:spcPct val="12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Организация расчета заработной платы в соответствии с различными системами и формами оплаты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41120" y="777960"/>
          <a:ext cx="6154920" cy="268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120" y="777960"/>
                    <a:ext cx="6154920" cy="2685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571" name=""/>
          <p:cNvGraphicFramePr/>
          <p:nvPr/>
        </p:nvGraphicFramePr>
        <p:xfrm>
          <a:off x="2455920" y="2647800"/>
          <a:ext cx="6507000" cy="4152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55920" y="2647800"/>
                    <a:ext cx="6507000" cy="415296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914480" y="96048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РЕГИСТРАЦИЯ ДОКУМЕНТОВ СОТРУД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8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58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58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9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591" name=""/>
          <p:cNvSpPr/>
          <p:nvPr/>
        </p:nvSpPr>
        <p:spPr>
          <a:xfrm>
            <a:off x="1346040" y="2216160"/>
            <a:ext cx="7234560" cy="24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системе регистрирую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3120" indent="-7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отпуска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командиров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46240" indent="-382680">
              <a:lnSpc>
                <a:spcPct val="100000"/>
              </a:lnSpc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документы на удержание сумм из заработной платы сотрудни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59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59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0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1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ИАЛОГОВЫЕ ОКНА РЕГИСТР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125280" y="905040"/>
            <a:ext cx="5305680" cy="35654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4799160" y="907920"/>
            <a:ext cx="4243320" cy="36943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04" name="" descr=""/>
          <p:cNvPicPr/>
          <p:nvPr/>
        </p:nvPicPr>
        <p:blipFill>
          <a:blip r:embed="rId4"/>
          <a:stretch/>
        </p:blipFill>
        <p:spPr>
          <a:xfrm>
            <a:off x="1708200" y="3894120"/>
            <a:ext cx="5638680" cy="27622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0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0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1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4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" descr=""/>
          <p:cNvPicPr/>
          <p:nvPr/>
        </p:nvPicPr>
        <p:blipFill>
          <a:blip r:embed="rId2"/>
          <a:stretch/>
        </p:blipFill>
        <p:spPr>
          <a:xfrm>
            <a:off x="146160" y="852480"/>
            <a:ext cx="8893080" cy="2479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16" name="" descr=""/>
          <p:cNvPicPr/>
          <p:nvPr/>
        </p:nvPicPr>
        <p:blipFill>
          <a:blip r:embed="rId3"/>
          <a:stretch/>
        </p:blipFill>
        <p:spPr>
          <a:xfrm>
            <a:off x="1036800" y="2508120"/>
            <a:ext cx="6764040" cy="2048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617" name=""/>
          <p:cNvGraphicFramePr/>
          <p:nvPr/>
        </p:nvGraphicFramePr>
        <p:xfrm>
          <a:off x="2979720" y="4116240"/>
          <a:ext cx="6040440" cy="2590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79720" y="4116240"/>
                    <a:ext cx="6040440" cy="259092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914480" y="78912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УЧЕТ РАБОЧЕГО ВРЕМЕ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2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3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3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3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7" name=""/>
          <p:cNvSpPr/>
          <p:nvPr/>
        </p:nvSpPr>
        <p:spPr>
          <a:xfrm>
            <a:off x="1238400" y="1514520"/>
            <a:ext cx="724680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рабочих календарей с различными типами рабочих недель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Учет использования рабочего времени в сменах и (или) часах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Неограниченное число графиков работы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Ведение нескольких типов табелей учета рабочего времен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Автоматическое и ручное формирование табеля на основе движений персонала, документов о неявках, плановых графиков рабо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100000"/>
              </a:lnSpc>
              <a:spcBef>
                <a:spcPts val="524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99"/>
                </a:solidFill>
                <a:latin typeface="Tahoma"/>
              </a:rPr>
              <a:t>Печать табеля по форме Т-13 и по произвольной форм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40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41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3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44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7" name=""/>
          <p:cNvSpPr/>
          <p:nvPr/>
        </p:nvSpPr>
        <p:spPr>
          <a:xfrm>
            <a:off x="1836720" y="200160"/>
            <a:ext cx="707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ТАБЕЛЬ-КАЛЕНДАР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2"/>
          <a:stretch/>
        </p:blipFill>
        <p:spPr>
          <a:xfrm>
            <a:off x="142920" y="654120"/>
            <a:ext cx="8816760" cy="6105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649" name="" descr=""/>
          <p:cNvPicPr/>
          <p:nvPr/>
        </p:nvPicPr>
        <p:blipFill>
          <a:blip r:embed="rId3"/>
          <a:stretch/>
        </p:blipFill>
        <p:spPr>
          <a:xfrm>
            <a:off x="2943360" y="3365640"/>
            <a:ext cx="6019560" cy="3404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5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5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5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5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9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 ОТЧЕТНОЙ ФОР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243000" y="1417680"/>
            <a:ext cx="8663040" cy="468144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927080" y="893880"/>
            <a:ext cx="70930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ОРЯДОК РАСЧЕТА ЗАРАБОТНОЙ ПЛА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67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67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7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79" name=""/>
          <p:cNvSpPr/>
          <p:nvPr/>
        </p:nvSpPr>
        <p:spPr>
          <a:xfrm>
            <a:off x="1347840" y="2571840"/>
            <a:ext cx="7524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Подготовка данных для расчет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Выполнение расч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ведомостей на выдачу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отчет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Формирование бухгалтерских операц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36720" y="231840"/>
            <a:ext cx="7072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ГЛАМЕНТ РАСЧЕТА ЗАРАБОТНОЙ 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68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68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68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90" name="План%20зарплата1" descr=""/>
          <p:cNvPicPr/>
          <p:nvPr/>
        </p:nvPicPr>
        <p:blipFill>
          <a:blip r:embed="rId2"/>
          <a:stretch/>
        </p:blipFill>
        <p:spPr>
          <a:xfrm>
            <a:off x="333360" y="1436760"/>
            <a:ext cx="86122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79560" y="666720"/>
            <a:ext cx="709308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ПОДГОТОВКА ДАННЫХ ДЛЯ РАСЧЕТА ЗАРАБОТНОЙ ПЛ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00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05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07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09" name=""/>
          <p:cNvSpPr/>
          <p:nvPr/>
        </p:nvSpPr>
        <p:spPr>
          <a:xfrm>
            <a:off x="1257480" y="1806480"/>
            <a:ext cx="755640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на назначении сотрудник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оклад, тар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надбавки и допл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коэффициенты для расчета прем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36520" indent="-37296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график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Листы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отпуск, компенс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иказы на командировк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кументы на удержания из заработной пла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Табель учета рабочего времен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ведения с предыдущего места рабо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Дополнительные параметр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4680" y="-7920"/>
            <a:ext cx="9144000" cy="68659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24200" y="2318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ХЕМА ИНФОРМАЦИОННЫХ ПОТО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0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0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0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"/>
          <p:cNvSpPr/>
          <p:nvPr/>
        </p:nvSpPr>
        <p:spPr>
          <a:xfrm rot="16090200">
            <a:off x="2687760" y="3548880"/>
            <a:ext cx="2134080" cy="347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4706" y="731"/>
                </a:moveTo>
                <a:arcTo wR="10800" hR="10800" stAng="-4127922" swAng="3849171"/>
                <a:lnTo>
                  <a:pt x="10800" y="10800"/>
                </a:lnTo>
                <a:close/>
              </a:path>
              <a:path fill="none" w="21600" h="21600">
                <a:moveTo>
                  <a:pt x="14706" y="731"/>
                </a:moveTo>
                <a:arcTo wR="10800" hR="10800" stAng="-4127922" swAng="384917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647800" y="4687920"/>
            <a:ext cx="2629080" cy="577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Персональные данные сотруд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движении персон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лендарно-табельный уче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00840" y="5043600"/>
            <a:ext cx="2361960" cy="160020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Корпоратив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ранилищ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78120" y="2676600"/>
            <a:ext cx="2286000" cy="1676160"/>
          </a:xfrm>
          <a:prstGeom prst="can">
            <a:avLst>
              <a:gd name="adj" fmla="val 34166"/>
            </a:avLst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БД И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«Капитал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SE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58920" y="996840"/>
            <a:ext cx="128592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 начисленной и выданной З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45360" y="2120760"/>
            <a:ext cx="958680" cy="550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Отчетност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для ИМНС и ПФ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7120" y="4944960"/>
            <a:ext cx="2543400" cy="1627200"/>
            <a:chOff x="357120" y="4944960"/>
            <a:chExt cx="2543400" cy="1627200"/>
          </a:xfrm>
        </p:grpSpPr>
        <p:sp>
          <p:nvSpPr>
            <p:cNvPr id="115" name=""/>
            <p:cNvSpPr/>
            <p:nvPr/>
          </p:nvSpPr>
          <p:spPr>
            <a:xfrm>
              <a:off x="357120" y="6021360"/>
              <a:ext cx="25434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кадр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развития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социальных программ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959400" y="4944960"/>
              <a:ext cx="100368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"/>
          <p:cNvGrpSpPr/>
          <p:nvPr/>
        </p:nvGrpSpPr>
        <p:grpSpPr>
          <a:xfrm>
            <a:off x="3665520" y="1001880"/>
            <a:ext cx="1143000" cy="1312920"/>
            <a:chOff x="3665520" y="1001880"/>
            <a:chExt cx="1143000" cy="1312920"/>
          </a:xfrm>
        </p:grpSpPr>
        <p:sp>
          <p:nvSpPr>
            <p:cNvPr id="118" name=""/>
            <p:cNvSpPr/>
            <p:nvPr/>
          </p:nvSpPr>
          <p:spPr>
            <a:xfrm>
              <a:off x="3741480" y="206856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УИСТиС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" descr=""/>
            <p:cNvPicPr/>
            <p:nvPr/>
          </p:nvPicPr>
          <p:blipFill>
            <a:blip r:embed="rId3"/>
            <a:stretch/>
          </p:blipFill>
          <p:spPr>
            <a:xfrm>
              <a:off x="3665520" y="10018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0" name=""/>
          <p:cNvGrpSpPr/>
          <p:nvPr/>
        </p:nvGrpSpPr>
        <p:grpSpPr>
          <a:xfrm>
            <a:off x="7389720" y="1000080"/>
            <a:ext cx="1752480" cy="1465200"/>
            <a:chOff x="7389720" y="1000080"/>
            <a:chExt cx="1752480" cy="1465200"/>
          </a:xfrm>
        </p:grpSpPr>
        <p:sp>
          <p:nvSpPr>
            <p:cNvPr id="121" name=""/>
            <p:cNvSpPr/>
            <p:nvPr/>
          </p:nvSpPr>
          <p:spPr>
            <a:xfrm>
              <a:off x="7389720" y="2066760"/>
              <a:ext cx="1752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Внешние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7694640" y="100008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3" name=""/>
          <p:cNvGrpSpPr/>
          <p:nvPr/>
        </p:nvGrpSpPr>
        <p:grpSpPr>
          <a:xfrm>
            <a:off x="7467480" y="2752560"/>
            <a:ext cx="1676520" cy="1465200"/>
            <a:chOff x="7467480" y="2752560"/>
            <a:chExt cx="1676520" cy="1465200"/>
          </a:xfrm>
        </p:grpSpPr>
        <p:sp>
          <p:nvSpPr>
            <p:cNvPr id="124" name=""/>
            <p:cNvSpPr/>
            <p:nvPr/>
          </p:nvSpPr>
          <p:spPr>
            <a:xfrm>
              <a:off x="7467480" y="3819240"/>
              <a:ext cx="1676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Пользователи </a:t>
              </a:r>
              <a:r>
                <a:rPr b="1" lang="en-AU" sz="1000" spc="-1" strike="noStrike">
                  <a:solidFill>
                    <a:srgbClr val="000000"/>
                  </a:solidFill>
                  <a:latin typeface="Tahoma"/>
                </a:rPr>
                <a:t>intranet</a:t>
              </a: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-сайт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5" name="" descr=""/>
            <p:cNvPicPr/>
            <p:nvPr/>
          </p:nvPicPr>
          <p:blipFill>
            <a:blip r:embed="rId5"/>
            <a:stretch/>
          </p:blipFill>
          <p:spPr>
            <a:xfrm>
              <a:off x="7696080" y="2752560"/>
              <a:ext cx="1143000" cy="1096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 rot="14571000">
            <a:off x="7189200" y="-338400"/>
            <a:ext cx="1199880" cy="422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488497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488497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73720" y="987480"/>
            <a:ext cx="990720" cy="3985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Контактные реквизи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 flipV="1" rot="10854600">
            <a:off x="3405600" y="1065600"/>
            <a:ext cx="2073240" cy="3057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89" y="977"/>
                </a:moveTo>
                <a:arcTo wR="10800" hR="10800" stAng="-3926556" swAng="3716161"/>
                <a:lnTo>
                  <a:pt x="10800" y="10800"/>
                </a:lnTo>
                <a:close/>
              </a:path>
              <a:path fill="none" w="21600" h="21600">
                <a:moveTo>
                  <a:pt x="15289" y="977"/>
                </a:moveTo>
                <a:arcTo wR="10800" hR="10800" stAng="-3926556" swAng="3716161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 rot="413400">
            <a:off x="6127200" y="2311560"/>
            <a:ext cx="1981440" cy="2787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729" y="1773"/>
                </a:moveTo>
                <a:arcTo wR="10800" hR="10800" stAng="-3402031" swAng="2225099"/>
                <a:lnTo>
                  <a:pt x="10800" y="10800"/>
                </a:lnTo>
                <a:close/>
              </a:path>
              <a:path fill="none" w="21600" h="21600">
                <a:moveTo>
                  <a:pt x="16729" y="1773"/>
                </a:moveTo>
                <a:arcTo wR="10800" hR="10800" stAng="-3402031" swAng="2225099"/>
              </a:path>
            </a:pathLst>
          </a:custGeom>
          <a:noFill/>
          <a:ln w="63360">
            <a:solidFill>
              <a:srgbClr val="ffffff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668600" y="2679840"/>
            <a:ext cx="1501560" cy="703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Информация об организационной и штатной структур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 rot="17814600">
            <a:off x="4424400" y="2802960"/>
            <a:ext cx="1979640" cy="328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031396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031396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flipV="1" rot="7962600">
            <a:off x="1355040" y="1112040"/>
            <a:ext cx="2492280" cy="4712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903" y="1890"/>
                </a:moveTo>
                <a:arcTo wR="10800" hR="10800" stAng="-3335326" swAng="3753832"/>
                <a:lnTo>
                  <a:pt x="10800" y="10800"/>
                </a:lnTo>
                <a:close/>
              </a:path>
              <a:path fill="none" w="21600" h="21600">
                <a:moveTo>
                  <a:pt x="16903" y="1890"/>
                </a:moveTo>
                <a:arcTo wR="10800" hR="10800" stAng="-3335326" swAng="3753832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6614000">
            <a:off x="2982960" y="2246040"/>
            <a:ext cx="761400" cy="3348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748" y="410"/>
                </a:moveTo>
                <a:arcTo wR="10800" hR="10800" stAng="-4449663" swAng="4815173"/>
                <a:lnTo>
                  <a:pt x="10800" y="10800"/>
                </a:lnTo>
                <a:close/>
              </a:path>
              <a:path fill="none" w="21600" h="21600">
                <a:moveTo>
                  <a:pt x="13748" y="410"/>
                </a:moveTo>
                <a:arcTo wR="10800" hR="10800" stAng="-4449663" swAng="4815173"/>
              </a:path>
            </a:pathLst>
          </a:custGeom>
          <a:noFill/>
          <a:ln w="63360">
            <a:solidFill>
              <a:srgbClr val="ffffff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7640" y="2855880"/>
            <a:ext cx="1992240" cy="1769760"/>
            <a:chOff x="17640" y="2855880"/>
            <a:chExt cx="1992240" cy="1769760"/>
          </a:xfrm>
        </p:grpSpPr>
        <p:sp>
          <p:nvSpPr>
            <p:cNvPr id="135" name=""/>
            <p:cNvSpPr/>
            <p:nvPr/>
          </p:nvSpPr>
          <p:spPr>
            <a:xfrm>
              <a:off x="17640" y="3922560"/>
              <a:ext cx="199224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ЗП и мотивации персонал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Отдел организационного развит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6"/>
            <a:stretch/>
          </p:blipFill>
          <p:spPr>
            <a:xfrm>
              <a:off x="544680" y="2855880"/>
              <a:ext cx="878760" cy="107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"/>
          <p:cNvGrpSpPr/>
          <p:nvPr/>
        </p:nvGrpSpPr>
        <p:grpSpPr>
          <a:xfrm>
            <a:off x="108000" y="1000080"/>
            <a:ext cx="1600200" cy="1434240"/>
            <a:chOff x="108000" y="1000080"/>
            <a:chExt cx="1600200" cy="1434240"/>
          </a:xfrm>
        </p:grpSpPr>
        <p:sp>
          <p:nvSpPr>
            <p:cNvPr id="138" name=""/>
            <p:cNvSpPr/>
            <p:nvPr/>
          </p:nvSpPr>
          <p:spPr>
            <a:xfrm>
              <a:off x="108000" y="2066760"/>
              <a:ext cx="160020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Центральна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Tahoma"/>
                </a:rPr>
                <a:t>бухгалтерия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9" name="" descr=""/>
            <p:cNvPicPr/>
            <p:nvPr/>
          </p:nvPicPr>
          <p:blipFill>
            <a:blip r:embed="rId7"/>
            <a:stretch/>
          </p:blipFill>
          <p:spPr>
            <a:xfrm>
              <a:off x="336600" y="1000080"/>
              <a:ext cx="1143000" cy="10778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879560" y="89388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ПЕРЕЧЕНЬ РАСЧЕ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1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2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2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2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2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728" name=""/>
          <p:cNvSpPr/>
          <p:nvPr/>
        </p:nvSpPr>
        <p:spPr>
          <a:xfrm>
            <a:off x="1347840" y="1724040"/>
            <a:ext cx="7524720" cy="45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сновных начисл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прем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листов нетрудоспособ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отпусков и компенсации за отпус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среднего заработ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айонных и северных надба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аван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удержа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ЕСН и страховых взнос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Расчет резер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Tahom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54360" y="214200"/>
            <a:ext cx="728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БАЗА ДАННЫХ. ПРОЦЕССОР РАСЧ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3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3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23840" y="779400"/>
            <a:ext cx="5105520" cy="3708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3648240" y="2841480"/>
            <a:ext cx="5340240" cy="3880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741" name=""/>
          <p:cNvSpPr/>
          <p:nvPr/>
        </p:nvSpPr>
        <p:spPr>
          <a:xfrm>
            <a:off x="2467080" y="2657520"/>
            <a:ext cx="53316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590400" y="1047600"/>
            <a:ext cx="752760" cy="2955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847800" y="2486160"/>
            <a:ext cx="1590480" cy="74268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3000240" y="2657520"/>
            <a:ext cx="343080" cy="399960"/>
          </a:xfrm>
          <a:prstGeom prst="rect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6181560" y="4734000"/>
            <a:ext cx="695520" cy="25704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48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49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1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52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54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5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28520" y="733320"/>
            <a:ext cx="4357800" cy="33130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3"/>
          <a:stretch/>
        </p:blipFill>
        <p:spPr>
          <a:xfrm>
            <a:off x="1943280" y="2295360"/>
            <a:ext cx="4725720" cy="3637080"/>
          </a:xfrm>
          <a:prstGeom prst="rect">
            <a:avLst/>
          </a:prstGeom>
          <a:ln w="0">
            <a:noFill/>
          </a:ln>
        </p:spPr>
      </p:pic>
      <p:pic>
        <p:nvPicPr>
          <p:cNvPr id="758" name="" descr=""/>
          <p:cNvPicPr/>
          <p:nvPr/>
        </p:nvPicPr>
        <p:blipFill>
          <a:blip r:embed="rId4"/>
          <a:stretch/>
        </p:blipFill>
        <p:spPr>
          <a:xfrm>
            <a:off x="5029200" y="4000680"/>
            <a:ext cx="39625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6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6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6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6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8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2"/>
          <a:stretch/>
        </p:blipFill>
        <p:spPr>
          <a:xfrm>
            <a:off x="142920" y="795240"/>
            <a:ext cx="5867280" cy="4907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70" name="" descr=""/>
          <p:cNvPicPr/>
          <p:nvPr/>
        </p:nvPicPr>
        <p:blipFill>
          <a:blip r:embed="rId3"/>
          <a:stretch/>
        </p:blipFill>
        <p:spPr>
          <a:xfrm>
            <a:off x="3348000" y="2120760"/>
            <a:ext cx="5619960" cy="4596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77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77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77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123840" y="83808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3057480" y="2247840"/>
            <a:ext cx="5924520" cy="4496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914480" y="789120"/>
            <a:ext cx="6734160" cy="9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СПРАВОЧНИК КОНТАКТНЫХ РЕКВИЗИ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9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9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79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0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01" name=""/>
          <p:cNvSpPr/>
          <p:nvPr/>
        </p:nvSpPr>
        <p:spPr>
          <a:xfrm>
            <a:off x="1241280" y="1859040"/>
            <a:ext cx="7632720" cy="44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Хранение дополнительной информации о контактных реквизитах сотрудник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территория, номер кабин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а телефонов (стационарных, мобильных, транковых и т.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номер пейдж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адрес электронной поч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52360" indent="-3888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другие реквиз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Интерфейс для ввода данных сотрудниками УИС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Функции поиска и экспорта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3120" indent="-57312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Ежедневное автоматическое шлюзование данных в корпоративное хранилище для доступа через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intranet-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ай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04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05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07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10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1" name=""/>
          <p:cNvSpPr/>
          <p:nvPr/>
        </p:nvSpPr>
        <p:spPr>
          <a:xfrm>
            <a:off x="1836720" y="252360"/>
            <a:ext cx="707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База данных. 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" name="" descr=""/>
          <p:cNvPicPr/>
          <p:nvPr/>
        </p:nvPicPr>
        <p:blipFill>
          <a:blip r:embed="rId2"/>
          <a:stretch/>
        </p:blipFill>
        <p:spPr>
          <a:xfrm>
            <a:off x="127080" y="657360"/>
            <a:ext cx="8816760" cy="60181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14480" y="684360"/>
            <a:ext cx="6734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ндида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22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6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8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29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30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1" name=""/>
          <p:cNvSpPr/>
          <p:nvPr/>
        </p:nvSpPr>
        <p:spPr>
          <a:xfrm>
            <a:off x="1112760" y="1163520"/>
            <a:ext cx="8031240" cy="52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Функциональное назначение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учет данных о кандидатах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количественный и качественный анализ поступивших зая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перенос личных данных кандидата при приеме на рабо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остав модул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Справка о кандидатах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тчёт «Качественный состав кандидато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7760" indent="-29052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требования по зарплате относительно качественного уровня и специальнос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66800" indent="-573120">
              <a:lnSpc>
                <a:spcPct val="12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Развитые возможности поиска и фильтрации информ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1827360" y="789120"/>
            <a:ext cx="653400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АУДИТ ДЕЙСТВИЙ ПОЛЬЗОВАТЕЛЕ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41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46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47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48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4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50" name=""/>
          <p:cNvSpPr/>
          <p:nvPr/>
        </p:nvSpPr>
        <p:spPr>
          <a:xfrm>
            <a:off x="1074600" y="2247840"/>
            <a:ext cx="7399440" cy="36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Анализ внештатных ситуаций, связанных с совместным использованием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Предотвращение конфликтов, связанных с нерегламентированным изменением данны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77880" indent="-484200">
              <a:lnSpc>
                <a:spcPct val="11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Сбор статистической информации об интенсивности использования ресурсов систем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853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854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6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85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60" name=""/>
          <p:cNvSpPr/>
          <p:nvPr/>
        </p:nvSpPr>
        <p:spPr>
          <a:xfrm>
            <a:off x="1924200" y="217440"/>
            <a:ext cx="7019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МЕРЫ ОТЧЕТНЫХ ФОР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14480" y="819000"/>
            <a:ext cx="6705360" cy="2895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181080" y="895320"/>
            <a:ext cx="6553080" cy="272412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1454040" y="2529000"/>
            <a:ext cx="6705720" cy="2666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4" name="" descr=""/>
          <p:cNvPicPr/>
          <p:nvPr/>
        </p:nvPicPr>
        <p:blipFill>
          <a:blip r:embed="rId3"/>
          <a:stretch/>
        </p:blipFill>
        <p:spPr>
          <a:xfrm>
            <a:off x="1571760" y="2568600"/>
            <a:ext cx="6553080" cy="2514600"/>
          </a:xfrm>
          <a:prstGeom prst="rect">
            <a:avLst/>
          </a:prstGeom>
          <a:ln w="0">
            <a:noFill/>
          </a:ln>
        </p:spPr>
      </p:pic>
      <p:pic>
        <p:nvPicPr>
          <p:cNvPr id="865" name="" descr=""/>
          <p:cNvPicPr/>
          <p:nvPr/>
        </p:nvPicPr>
        <p:blipFill>
          <a:blip r:embed="rId4"/>
          <a:stretch/>
        </p:blipFill>
        <p:spPr>
          <a:xfrm>
            <a:off x="1512720" y="2568600"/>
            <a:ext cx="6553440" cy="251460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2279520" y="5172120"/>
            <a:ext cx="670572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" descr=""/>
          <p:cNvPicPr/>
          <p:nvPr/>
        </p:nvPicPr>
        <p:blipFill>
          <a:blip r:embed="rId5"/>
          <a:stretch/>
        </p:blipFill>
        <p:spPr>
          <a:xfrm>
            <a:off x="2362320" y="5229360"/>
            <a:ext cx="6553080" cy="125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/>
          </p:cNvPr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управления персонал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49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54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5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56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5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8" name=""/>
          <p:cNvSpPr/>
          <p:nvPr/>
        </p:nvSpPr>
        <p:spPr>
          <a:xfrm>
            <a:off x="1278000" y="3246480"/>
            <a:ext cx="7481880" cy="29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Кадровые классификат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должност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«Тарифные сет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Штатное расписание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Оклады сотрудник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Сотрудник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Табель-календа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9600" indent="-5796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Регистрация документов сотрудников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7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88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8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8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85" name=""/>
          <p:cNvSpPr/>
          <p:nvPr/>
        </p:nvSpPr>
        <p:spPr>
          <a:xfrm>
            <a:off x="1879560" y="1246320"/>
            <a:ext cx="709308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Канаева Ольг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едущий специа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ЗАО «Геликон Пр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1886040" y="3367080"/>
            <a:ext cx="702000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3399"/>
                </a:solidFill>
                <a:latin typeface="Tahoma"/>
              </a:rPr>
              <a:t>тел.: (3422) 103-101, 103-178, 103-76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E-mail: kov@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3399"/>
                </a:solidFill>
                <a:latin typeface="Tahoma"/>
              </a:rPr>
              <a:t>www. gelicon.bi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914480" y="265896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Подсистема расчета заработной пл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68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7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74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75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77" name=""/>
          <p:cNvSpPr/>
          <p:nvPr/>
        </p:nvSpPr>
        <p:spPr>
          <a:xfrm>
            <a:off x="1278000" y="3298680"/>
            <a:ext cx="7392960" cy="18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Виды оплат и парамет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«Таблицы входимости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дактор видов оплат и параметр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Процессор расчет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Ведомости заработной платы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Дополнительные компоненты систе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8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9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9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9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9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96" name=""/>
          <p:cNvSpPr/>
          <p:nvPr/>
        </p:nvSpPr>
        <p:spPr>
          <a:xfrm>
            <a:off x="1278000" y="3238560"/>
            <a:ext cx="76230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Справочник контактных реквиз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Подсистема аудита действий пользовате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Модуль «Кандидат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Интерфейс для выгрузки данных в ИМНС и ПФР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917720" y="893880"/>
            <a:ext cx="70930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ФУНКЦИОНАЛЬНЫЙ СОСТАВ ИНФОРМАЦИОННОЙ СИСТ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14480" y="2624040"/>
            <a:ext cx="6959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Tahoma"/>
              </a:rPr>
              <a:t>Общесистемные компон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0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15" name=""/>
          <p:cNvSpPr/>
          <p:nvPr/>
        </p:nvSpPr>
        <p:spPr>
          <a:xfrm>
            <a:off x="1278000" y="3193920"/>
            <a:ext cx="7623000" cy="21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населенных пунк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Справочник объектов аналитического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е средства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Встроенный генератор отчетов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OLE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Реестр ресурсов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5200" indent="-56520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Модуль «Администратор систем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95320" y="2917800"/>
            <a:ext cx="739944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ОБЗО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3399"/>
                </a:solidFill>
                <a:latin typeface="Tahoma"/>
              </a:rPr>
              <a:t>ФУНКЦИОНАЛЬНОСТ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23800" y="1247760"/>
            <a:ext cx="8115480" cy="4971960"/>
          </a:xfrm>
          <a:prstGeom prst="rect">
            <a:avLst/>
          </a:prstGeom>
          <a:noFill/>
          <a:ln w="7632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87584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2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2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Кулеш</cp:lastModifiedBy>
  <cp:lastPrinted>2003-11-27T08:17:54Z</cp:lastPrinted>
  <dcterms:modified xsi:type="dcterms:W3CDTF">2003-12-09T14:05:22Z</dcterms:modified>
  <cp:revision>127</cp:revision>
  <dc:subject/>
  <dc:title>Слайд 1</dc:title>
</cp:coreProperties>
</file>