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EA916-CF9A-4987-A066-51424D2B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8240F-E75B-4323-B26B-78FB91FD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54FCC-6CB3-416E-84EC-00375A8E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DCFEC-6654-4848-9727-200509B4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C1EDB-1AD2-4B36-8364-52F082E6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71640-59C7-406B-93C0-33ADA1F0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C1638-C0A5-46E4-A313-F56FF1FF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F8CC8-104F-46FA-A3F5-17E9514E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BF8AA-3595-4833-9448-E9C19A3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AC9DA-3C59-43B9-B6E9-08FAA991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E1F3D-0EED-453B-9CC3-4C41B37E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54EDF-FFA6-4FF3-B317-DB4E0E50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66AD-E1C9-48A7-A6AD-8D76DEAD2F0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6A71-B3D5-49EF-ACFD-C36380A6430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3689-5846-4827-8DCB-83E18D28C2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ктический опыт построения ИС масштаба предприятия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гарков Алексей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ужба информационных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истем ОАО Камкаб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849364-C71C-4946-8D95-4E35C977566C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Выбор информационной системы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ля чего мы выбираем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лько нужно выбират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оимость проек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лавное в выбор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BDF3A-6ABC-4A4B-AE94-7EA26D4B2C7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Акценты производителей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ухгалтерско-финансовые систем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R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81785-7A75-4935-8B2C-F3034D01BA02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Как внедрять - факторы успеха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интересованность первых ли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ддержка информационных отдел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несенные тра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1F819-42DD-45A6-A50F-2006697ACD89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Как внедрять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чего начинат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мейте решимость вовремя остановить специалист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ботирование: крайности позиций сотрудник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ублирование информа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8C166-8050-4F2B-8066-1C3D8135C6CB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Главный итог внедрения ИС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личие информации для управленческого уче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личие информации доступной напрямую руководителям для принятия ре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гулярный менеджмент - регулярный контроль ключевых параметр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0CE2A-2D03-4ED7-908E-BDAEB7033F8C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Вопросы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гарков Алексей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ужба информационных систе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АО Камкаб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mail: agarkov@kamkabel.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лефон: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3422) 195-1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06620-7DA2-46FB-AF46-DA2A490D196A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7:17:27Z</dcterms:created>
  <dc:creator>Агарков А.И.</dc:creator>
  <dc:description/>
  <dc:language>en-US</dc:language>
  <cp:lastModifiedBy>Агарков А.И.</cp:lastModifiedBy>
  <dcterms:modified xsi:type="dcterms:W3CDTF">2002-12-02T12:43:38Z</dcterms:modified>
  <cp:revision>4</cp:revision>
  <dc:subject/>
  <dc:title>Место заголовка</dc:title>
</cp:coreProperties>
</file>