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482C1-A5B3-452B-A491-0F4BC840A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EB61D-2348-49FA-A56B-F4305D23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55A74-97AE-4CB5-A76E-A319AB41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432D5-7850-4F4F-9729-086B1881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36F64B-DC33-4F11-AFC4-1A7DA2E2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426C3-7F34-4D2E-8C98-2A55D9A1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66DED-CF05-4C94-B269-C08E4D3C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3ABCD-77CF-42F8-9305-48166AF8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5E50B-8717-4F64-9CD8-883A785C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FE645-9CD8-4059-A244-85C8C9B6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829F3-1BA7-403F-9AB1-7A1D90C15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E9165-2797-4CFA-82C9-3C03D2253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0A79-6B4A-4B66-BE66-AB54C093C5C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6019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6B6A-6B62-4FBB-B2DE-C4BAF5F3FA7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5318-6E08-4C84-84F5-E3D2E3A65D2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Практический опыт построения ИС масштаба предприятия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гарков Алексей Иванови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лужба информационных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истем ОАО Камкабе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top_kamkabel_new_version" descr=""/>
          <p:cNvPicPr/>
          <p:nvPr/>
        </p:nvPicPr>
        <p:blipFill>
          <a:blip r:embed="rId1"/>
          <a:stretch/>
        </p:blipFill>
        <p:spPr>
          <a:xfrm>
            <a:off x="7772400" y="5853240"/>
            <a:ext cx="1182600" cy="82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E50C2F-79AA-4392-B580-3F7F6CB58C6B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66"/>
                </a:solidFill>
                <a:latin typeface="Times New Roman"/>
              </a:rPr>
              <a:t>Выбор информационной системы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Для чего мы выбираем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колько нужно выбирать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тоимость проект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Главное в выбор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top_kamkabel_new_version" descr=""/>
          <p:cNvPicPr/>
          <p:nvPr/>
        </p:nvPicPr>
        <p:blipFill>
          <a:blip r:embed="rId1"/>
          <a:stretch/>
        </p:blipFill>
        <p:spPr>
          <a:xfrm>
            <a:off x="7772400" y="5853240"/>
            <a:ext cx="1182600" cy="82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547374-3AA0-4DD0-BBB9-8CC8C494FA06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66"/>
                </a:solidFill>
                <a:latin typeface="Times New Roman"/>
              </a:rPr>
              <a:t>Акценты производителей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Бухгалтерско-финансовые систем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R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R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top_kamkabel_new_version" descr=""/>
          <p:cNvPicPr/>
          <p:nvPr/>
        </p:nvPicPr>
        <p:blipFill>
          <a:blip r:embed="rId1"/>
          <a:stretch/>
        </p:blipFill>
        <p:spPr>
          <a:xfrm>
            <a:off x="7772400" y="5853240"/>
            <a:ext cx="1182600" cy="82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37FF63-549F-4D24-B323-51061A486247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66"/>
                </a:solidFill>
                <a:latin typeface="Times New Roman"/>
              </a:rPr>
              <a:t>Как внедрять - факторы успеха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Заинтересованность первых ли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оддержка информационных отдело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онесенные трат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top_kamkabel_new_version" descr=""/>
          <p:cNvPicPr/>
          <p:nvPr/>
        </p:nvPicPr>
        <p:blipFill>
          <a:blip r:embed="rId1"/>
          <a:stretch/>
        </p:blipFill>
        <p:spPr>
          <a:xfrm>
            <a:off x="7772400" y="5853240"/>
            <a:ext cx="1182600" cy="82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2209B5-8C91-4345-987F-9ED56D238BC8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66"/>
                </a:solidFill>
                <a:latin typeface="Times New Roman"/>
              </a:rPr>
              <a:t>Как внедрять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 чего начинать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?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роизводство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Имейте решимость вовремя остановить специалисто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аботирование: крайности позиций сотруднико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Дублирование информаци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top_kamkabel_new_version" descr=""/>
          <p:cNvPicPr/>
          <p:nvPr/>
        </p:nvPicPr>
        <p:blipFill>
          <a:blip r:embed="rId1"/>
          <a:stretch/>
        </p:blipFill>
        <p:spPr>
          <a:xfrm>
            <a:off x="7772400" y="5853240"/>
            <a:ext cx="1182600" cy="82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EB069B-646C-4929-A8DC-4A9A855B09C1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66"/>
                </a:solidFill>
                <a:latin typeface="Times New Roman"/>
              </a:rPr>
              <a:t>Главный итог внедрения ИС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аличие информации для управленческого учет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аличие информации доступной напрямую руководителям для принятия решени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егулярный менеджмент - регулярный контроль ключевых параметр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top_kamkabel_new_version" descr=""/>
          <p:cNvPicPr/>
          <p:nvPr/>
        </p:nvPicPr>
        <p:blipFill>
          <a:blip r:embed="rId1"/>
          <a:stretch/>
        </p:blipFill>
        <p:spPr>
          <a:xfrm>
            <a:off x="7772400" y="5853240"/>
            <a:ext cx="1182600" cy="82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7B31D1-ED51-4B8C-A453-FDEB979BC606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66"/>
                </a:solidFill>
                <a:latin typeface="Times New Roman"/>
              </a:rPr>
              <a:t>Вопросы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гарков Алексей Иванови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лужба информационных систе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АО Камкабе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-mail: agarkov@kamkabel.r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телефон: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3422) 195-11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top_kamkabel_new_version" descr=""/>
          <p:cNvPicPr/>
          <p:nvPr/>
        </p:nvPicPr>
        <p:blipFill>
          <a:blip r:embed="rId1"/>
          <a:stretch/>
        </p:blipFill>
        <p:spPr>
          <a:xfrm>
            <a:off x="7772400" y="5853240"/>
            <a:ext cx="1182600" cy="82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D99E6D-A77A-433D-9959-AE65DA5E192E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1T07:17:27Z</dcterms:created>
  <dc:creator>Агарков А.И.</dc:creator>
  <dc:description/>
  <dc:language>en-US</dc:language>
  <cp:lastModifiedBy>Агарков А.И.</cp:lastModifiedBy>
  <dcterms:modified xsi:type="dcterms:W3CDTF">2002-12-02T12:43:38Z</dcterms:modified>
  <cp:revision>4</cp:revision>
  <dc:subject/>
  <dc:title>Место заголовка</dc:title>
</cp:coreProperties>
</file>