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36E87-BCDC-4C4E-9D02-B705C1BB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97468-511A-4316-BBFC-5E05F89B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22A90-2FE3-457F-A3D0-EA891A07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A831E-FA34-42D7-A813-2A968FFF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676CA-F7AE-4D58-8BC5-623D752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7AD3B-1782-4455-997C-AB8DCA82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8B677-DB61-46EB-BC53-06F954F7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FDB2B-FC1B-4630-9806-2B3CEB3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EF852-7655-428F-995F-4A8E992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2D077-44FD-4C0A-B007-A4AF0714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7B317-C750-40F2-A001-3D7FE384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0273A-EF85-4114-8625-EC0D13FD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3DBA-41E6-4826-A9D2-6FBDB977AFF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D8CB-21BA-4A59-8752-B5546533D8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5A01-56A2-45AB-A598-6558F05F94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ктический опыт построения ИС масштаба предприятия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истем 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EB9C9D-4536-4269-BDC5-132134B46AC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ыбор информационной систем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ля чего мы выбираем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лько нужно выбира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оимость проек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лавное в выбор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61E19-BD53-48B2-8F7E-BC7516673908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Акценты производителей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ухгалтерско-финансовые систе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BD90A-1EE9-4AC2-AE19-4B6E60621172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 - факторы успеха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интересованность первых ли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ддержка информационных отдел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несенные тра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FE48A-1017-4D84-9174-CADC4D98085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чего начинат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мейте решимость вовремя остановить специалист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ботирование: крайности позиций сотрудник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ублирование информ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02C5D-F9BD-4643-AAF1-636DE2F153BC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Главный итог внедрения ИС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ля управленческого уче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оступной напрямую руководителям для принятия ре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гулярный менеджмент - регулярный контроль ключевых параметр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85194-E1FD-46BC-94EB-0D0EE804DD3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опрос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систе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mail: agarkov@kamkabel.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лефон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422) 195-1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8104E-9513-47BC-95BC-6452AEA358B9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7:17:27Z</dcterms:created>
  <dc:creator>Агарков А.И.</dc:creator>
  <dc:description/>
  <dc:language>en-US</dc:language>
  <cp:lastModifiedBy>Агарков А.И.</cp:lastModifiedBy>
  <dcterms:modified xsi:type="dcterms:W3CDTF">2002-12-02T12:43:38Z</dcterms:modified>
  <cp:revision>4</cp:revision>
  <dc:subject/>
  <dc:title>Место заголовка</dc:title>
</cp:coreProperties>
</file>