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418526A9-696F-4B5C-ACB2-923B7087C5B7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ли Исполнителя в рамках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решить задачи, поставленные Заказчик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сроки выполнения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обеспечить должное качество работ по проек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найти или подготовить трудо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обеспечить поступление финанс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улево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основных целей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след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специалистов Заказч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их зад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Внед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технического проек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ение рабочей програм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олнение основных справоч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рой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ыт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ая эксплуат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проектная поддержка Заказ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A27-7016-414A-9FEC-6A863784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D7C-A8B9-4A66-8B95-DD1B0184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E66-C4D7-4FD9-8A3E-97530D1D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BC9-3162-4499-B687-A9D4D67D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4384-3388-46CF-AA86-992F5725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8072-DF73-4937-B8EB-4AC742FF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C9A-B7C8-4E7B-A370-07284151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26FC-4154-42FD-BD0C-11D3CA4F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6C2B-0646-49A8-B5B0-897C5592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40A7-C326-4A39-859F-D765D312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4830-8D8C-432F-A93B-5835B7E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3D7-DFB7-44F1-8161-0EFDDDF0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0B6C-8523-40D8-9806-D3096E23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B6D2-98F1-4751-8D17-96C7188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4093-ABC1-48A3-ACFF-AFADB9D5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F178-3C59-4418-901B-460AC2B0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9782-A267-4FB2-851F-2073A813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E9B-B2BE-44C8-A163-CD0D5E2C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ABE-025E-4C73-ABF9-34FCD65B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CEB-4652-476C-87D3-63C0113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C25-3D4C-42B7-B4D5-CD4C0E88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C4B-898D-4B3C-85CF-D4BAB9BD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132-D078-43D7-8AAA-A3917D61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A21-BE34-46BF-8873-3DEE99C7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7D1C-AE5A-4A7B-A6D3-2245ED93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BA2-DAFE-486C-A8E2-8CE77B21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Futuris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ОРГАНИЗ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ОЕКТА ВНЕД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Й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З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конкретно необходимо сделать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219320"/>
            <a:ext cx="9067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и (ведущие специалисты) Заказчика и консультанты Исполнителя составляют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З используются в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автоматизируемых операц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входящих и исходящих докумен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исание отчет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ация доступ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е требования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детали интерфейса, скорость и точность вычислений и т.п.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СОСТАВЛЕНИЕ ТП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ак будет сделан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94489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 и ИТ специалисты Заказчика составляют Т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утверждает Т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Уточняются объемы работ, сроки и стоим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атериалы ТП используются при планировании и документировании рабо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Т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руктура хранимых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лгорит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спользуемые ресурсы системы, их структура и связ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льзовательский интерфей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ЛАНИРОВАНИЕ РАБОТ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кем и когда будет сделано и принят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295280"/>
            <a:ext cx="94489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соответствии с утвержденным регламен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неджеры проекта Исполнителя и Заказчика составляют рабочие программы (Р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Заказчик и Исполнитель утверждаю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оставляются индивидуальные планы участников рабочей коман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став Р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еречень работ: настройка, тестирование, прием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в перечень работ могут входить ТЗ и ТП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роки выполнения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ветственный за каждый пункт Р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ПОЛНЕНИЕ ОСНОВНЫХ СПРАВОЧНИКОВ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952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Может потребовать от 1 до 18 меся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талкивает интересы подразделений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Требует централизации ввода информ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Является необходимым условием работы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пособы реализаци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конвертирование данны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учной ввод данных пользователями (операторами)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НВЕРТИРОВАНИЕ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371600"/>
            <a:ext cx="9296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ожность алгоритм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жест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ысокая надежность, но недостаточн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7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еобходим контроль со стороны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УЧНОЙ ВВОД ДАННЫХ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гибкость инструкций использ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евысокая надеж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человеческий фактор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, но высокая гибк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6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экономичность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 требуется специальное ПО и контроль со стороны пользователей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НАСТРОЙКА, ТЕСТИРОВНИЕ, ПРИЕМ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80" y="685800"/>
            <a:ext cx="93726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Самый трудоемкий и ответственн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Существенно зависит от предварительной подготовки (регламенты, ТЗ, ТП, РП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Как правило не вписывается в плановые сро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Требует жесткой дисциплины как со стороны Исполнителя, так и со стороны Заказч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появлением дополнительных заданий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Требует гибкости со стороны Заказчика и  Исполнителя для преодоления конфликтных ситу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7. Должен заканчиваться предвари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62467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467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906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ЫТНАЯ ЭКСПЛУАТАЦ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3080" y="609480"/>
            <a:ext cx="9372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собенности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В идеале является «промышленной» эксплуата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Требует оперативности и надежности отклика от Исполн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Может потребовать значительных усилий от Заказчика (двойная рабо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Имеет значительную длительность (1-3 месяц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5. Сопровождается формированием окончательного списка замечаний (предложений), планированием и выполнением финальных работ по настройке, тестированию и прием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6. Должен заканчиваться окончательной сдачей и оплатой работ по настройке функциональности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28600" y="626580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26580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ОКУМЕНТИРОВАНИЕ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95280"/>
            <a:ext cx="9220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Оформление инструкций для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Оформление регламентов взаимодействия подразделений в рамках систе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Доработка технической документ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4. Формирование иных (заранее оговоренных) доку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ЗАВЕРШЕНИЕ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280" y="1295280"/>
            <a:ext cx="9345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держание этап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Юридическое закрытие догов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кончательные финансовые расч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Принятие решений о дальнейшем сотрудничеств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заключение договоров технической поддержки и постгарантийного  сопровож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380880">
              <a:lnSpc>
                <a:spcPct val="13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ализация новых проек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ЗАКАЗЧИКА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ировать структуру бизнес-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меньшить трудоемкость и сложность опер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величить оперативность и точность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решение Исполнителем поставленных задач с требуемым качест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стоимость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ГРАФИК ПЛАТЕЖЕЙ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Нулевой цик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Обследова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Обучение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Составление ТЗ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недр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1. Аванс (ТП, РП, настройка)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uturis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2. Завершение этапа настройки 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3. Завершение опытной эксплуатации</a:t>
            </a: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r" pos="885816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4. Юридическое закрытие договор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Заказчик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14360"/>
            <a:ext cx="9372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Участие в проекте топ-менедж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валифицированных ИТ специалист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Финансовая ответственность за невыполнение встречных обязательств перед Исполни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мотивация и стимулирование участников рабочей группы со стороны Заказч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1447920"/>
            <a:ext cx="9372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ритически важные факт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Использование качественного продукта (надежного, гибкого, современ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Наличие команды опытных консульта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3. Владение эффективными процедурами внедрения (технологиями внедрени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Дополнительным фактором успеха является наличие у Исполнителя готовых прикладных реш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80840" y="1519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ФАКТОРЫ УСПЕХА ПРОЕКТА</a:t>
            </a: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зависящие от Исполнител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ФЕДОСЕЕВ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Futuris"/>
              </a:rPr>
              <a:t>Сергей Анатольевич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226692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Директор по внедр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is"/>
              </a:rPr>
              <a:t>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fsa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ИНТЕРЕСЫ ИСПОЛНИТЕЛЯ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В РАМКАХ ПРОЕКТА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Первичные (основ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воевременное поступление финансов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инимизировать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is"/>
              </a:rPr>
              <a:t>Вторичные (договор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шить задачи поставленные Заказч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сроки выполнения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беспечить должное каче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1. Нулевой цик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определение основных целей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обслед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3" action="ppaction://hlinksldjump"/>
              </a:rPr>
              <a:t>подготовка специалистов Заказчи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4" action="ppaction://hlinksldjump"/>
              </a:rPr>
              <a:t>подготовка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5" action="ppaction://hlinksldjump"/>
              </a:rPr>
              <a:t>составление технических заданий (ТЗ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2. Внедр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6" action="ppaction://hlinksldjump"/>
              </a:rPr>
              <a:t>составление технических проектов (ТП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7" action="ppaction://hlinksldjump"/>
              </a:rPr>
              <a:t>планирование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8" action="ppaction://hlinksldjump"/>
              </a:rPr>
              <a:t>заполнение основных справочник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9" action="ppaction://hlinksldjump"/>
              </a:rPr>
              <a:t>настройка, тестирование, прием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0" action="ppaction://hlinksldjump"/>
              </a:rPr>
              <a:t>опытная эксплуатац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1" action="ppaction://hlinksldjump"/>
              </a:rPr>
              <a:t>документирова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2" action="ppaction://hlinksldjump"/>
              </a:rPr>
              <a:t>завершение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Е ЭТАПЫ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2" name="">
            <a:hlinkClick r:id="rId13" action="ppaction://hlinksldjump"/>
          </p:cNvPr>
          <p:cNvSpPr/>
          <p:nvPr/>
        </p:nvSpPr>
        <p:spPr>
          <a:xfrm>
            <a:off x="8839080" y="5867280"/>
            <a:ext cx="738360" cy="685800"/>
          </a:xfrm>
          <a:custGeom>
            <a:avLst/>
            <a:gdLst>
              <a:gd name="textAreaLeft" fmla="*/ 0 w 738360"/>
              <a:gd name="textAreaRight" fmla="*/ 738720 w 738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3255" h="21600">
                <a:moveTo>
                  <a:pt x="0" y="0"/>
                </a:moveTo>
                <a:lnTo>
                  <a:pt x="23255" y="0"/>
                </a:lnTo>
                <a:lnTo>
                  <a:pt x="23255" y="21600"/>
                </a:lnTo>
                <a:lnTo>
                  <a:pt x="0" y="21600"/>
                </a:lnTo>
                <a:close/>
              </a:path>
              <a:path fill="lightenLess" w="23255" h="21600">
                <a:moveTo>
                  <a:pt x="0" y="0"/>
                </a:moveTo>
                <a:lnTo>
                  <a:pt x="23255" y="0"/>
                </a:lnTo>
                <a:lnTo>
                  <a:pt x="23255" y="0"/>
                </a:lnTo>
                <a:lnTo>
                  <a:pt x="0" y="0"/>
                </a:lnTo>
                <a:close/>
              </a:path>
              <a:path fill="darken" w="23255" h="21600">
                <a:moveTo>
                  <a:pt x="23255" y="0"/>
                </a:moveTo>
                <a:lnTo>
                  <a:pt x="23255" y="21600"/>
                </a:lnTo>
                <a:lnTo>
                  <a:pt x="23255" y="21600"/>
                </a:lnTo>
                <a:lnTo>
                  <a:pt x="23255" y="0"/>
                </a:lnTo>
                <a:close/>
              </a:path>
              <a:path fill="darkenLess" w="23255" h="21600">
                <a:moveTo>
                  <a:pt x="23255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3255" y="21600"/>
                </a:lnTo>
                <a:close/>
              </a:path>
              <a:path fill="lighten" w="23255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3255" h="21600">
                <a:moveTo>
                  <a:pt x="3577" y="2750"/>
                </a:moveTo>
                <a:lnTo>
                  <a:pt x="19677" y="10800"/>
                </a:lnTo>
                <a:lnTo>
                  <a:pt x="3577" y="1885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1371600"/>
            <a:ext cx="9067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ем меньше четкости в формулировках целей проекта, тем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оки выполнения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тоимость проек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зочарование в результатах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Что делать Заказчику, если его цели размыты или не определены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остичь максимально возможной четкости целей с помощью предварительного обследования сила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бственных сотрудн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Исполнител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ретьих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937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ПРЕДЕЛЕНИЕ ЗАКАЗЧИКОМ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СНОВНЫХ ЦЕЛЕЙ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95360" y="1219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399960" indent="-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рядок проведения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Собрание с участием топ-менедж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Анкетирование и интервьюиро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Составл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95256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4. Утверждение отч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ОБСЛЕДОВАНИЕ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Futuris"/>
              </a:rPr>
              <a:t>(что изменить, почему и для чего)</a:t>
            </a:r>
            <a:endParaRPr b="0" lang="en-US" sz="2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86240"/>
            <a:ext cx="9220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зультаты обслед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точняют цели проек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лужат исходными данными для Т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озволяют предварительно оценить объем работ, сроки и, следовательно, стоимость прое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915400" y="5791320"/>
            <a:ext cx="719280" cy="718920"/>
          </a:xfrm>
          <a:custGeom>
            <a:avLst/>
            <a:gdLst>
              <a:gd name="textAreaLeft" fmla="*/ 0 w 719280"/>
              <a:gd name="textAreaRight" fmla="*/ 71964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1611" y="0"/>
                </a:lnTo>
                <a:lnTo>
                  <a:pt x="0" y="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1611" y="21600"/>
                </a:lnTo>
                <a:lnTo>
                  <a:pt x="21611" y="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11" y="216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11" h="21600">
                <a:moveTo>
                  <a:pt x="10805" y="2800"/>
                </a:moveTo>
                <a:lnTo>
                  <a:pt x="13765" y="5800"/>
                </a:ln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lnTo>
                  <a:pt x="18805" y="10800"/>
                </a:lnTo>
                <a:lnTo>
                  <a:pt x="16905" y="10800"/>
                </a:lnTo>
                <a:lnTo>
                  <a:pt x="16905" y="19060"/>
                </a:lnTo>
                <a:lnTo>
                  <a:pt x="4705" y="19060"/>
                </a:lnTo>
                <a:lnTo>
                  <a:pt x="4705" y="10800"/>
                </a:lnTo>
                <a:lnTo>
                  <a:pt x="2805" y="10800"/>
                </a:lnTo>
                <a:close/>
              </a:path>
              <a:path fill="darkenLess" w="21611" h="21600">
                <a:moveTo>
                  <a:pt x="13765" y="5800"/>
                </a:moveTo>
                <a:lnTo>
                  <a:pt x="13765" y="3800"/>
                </a:lnTo>
                <a:lnTo>
                  <a:pt x="15805" y="3800"/>
                </a:lnTo>
                <a:lnTo>
                  <a:pt x="15805" y="7840"/>
                </a:lnTo>
                <a:close/>
              </a:path>
              <a:path fill="darkenLess" w="21611" h="21600">
                <a:moveTo>
                  <a:pt x="9745" y="14820"/>
                </a:moveTo>
                <a:lnTo>
                  <a:pt x="11865" y="14820"/>
                </a:lnTo>
                <a:lnTo>
                  <a:pt x="11865" y="19060"/>
                </a:lnTo>
                <a:lnTo>
                  <a:pt x="16905" y="19060"/>
                </a:lnTo>
                <a:lnTo>
                  <a:pt x="16905" y="10800"/>
                </a:lnTo>
                <a:lnTo>
                  <a:pt x="4705" y="10800"/>
                </a:lnTo>
                <a:lnTo>
                  <a:pt x="4705" y="19060"/>
                </a:lnTo>
                <a:lnTo>
                  <a:pt x="9745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9448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СЕЦИАЛИСТОВ ЗАКАЗЧИК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95280"/>
            <a:ext cx="9677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ользова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MS Windows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S Off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сновы работы с системой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(в много-пользовательском режим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прикладных программис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УБД,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SQL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О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настройки ресурсов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Обучение системных администра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администрирования системы Капитал 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400" spc="-1" strike="noStrike" baseline="30000">
                <a:solidFill>
                  <a:srgbClr val="000000"/>
                </a:solidFill>
                <a:latin typeface="Futuris"/>
              </a:rPr>
              <a:t>®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редства резервного копирования данны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9680" y="142920"/>
            <a:ext cx="944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ПОДГОТОВКА ПРОЕКТ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680" y="609480"/>
            <a:ext cx="96012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1. Подготовка технических сред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2. Утверждение регла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оставления технической и плановой документац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принятия оперативных решен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сдачи-приемки рабо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внесения изменений в руководящие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3. Организация проекта (три уровн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управляющ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1-ое лицо Заказчика или его заместитель и представитель Исполнителя). Совещания 1 раз в месяц. Определяют стратегию, выделяют ресурс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абочий комитет </a:t>
            </a:r>
            <a:r>
              <a:rPr b="1" i="1" lang="ru-RU" sz="2400" spc="-1" strike="noStrike">
                <a:solidFill>
                  <a:srgbClr val="000000"/>
                </a:solidFill>
                <a:latin typeface="Futuris"/>
              </a:rPr>
              <a:t>(руководители среднего звена и представители Исполнителя). Совещания 1 раз в неделю. Планируют, организуют и контролируют работы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Futuris"/>
                <a:hlinkClick r:id="rId2" action="ppaction://hlinksldjump"/>
              </a:rPr>
              <a:t>рабочая кома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РАБОЧАЯ КОМАНДА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8915400" y="5867280"/>
            <a:ext cx="719280" cy="719280"/>
          </a:xfrm>
          <a:custGeom>
            <a:avLst/>
            <a:gdLst>
              <a:gd name="textAreaLeft" fmla="*/ 0 w 719280"/>
              <a:gd name="textAreaRight" fmla="*/ 719640 w 719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1600" y="21600"/>
                </a:lnTo>
                <a:lnTo>
                  <a:pt x="21600" y="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1600" y="21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1600" h="21600">
                <a:moveTo>
                  <a:pt x="10800" y="2800"/>
                </a:moveTo>
                <a:lnTo>
                  <a:pt x="13760" y="5800"/>
                </a:ln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lnTo>
                  <a:pt x="18800" y="10800"/>
                </a:lnTo>
                <a:lnTo>
                  <a:pt x="16900" y="10800"/>
                </a:lnTo>
                <a:lnTo>
                  <a:pt x="16900" y="19060"/>
                </a:lnTo>
                <a:lnTo>
                  <a:pt x="4700" y="19060"/>
                </a:lnTo>
                <a:lnTo>
                  <a:pt x="4700" y="10800"/>
                </a:lnTo>
                <a:lnTo>
                  <a:pt x="2800" y="10800"/>
                </a:lnTo>
                <a:close/>
              </a:path>
              <a:path fill="darkenLess" w="21600" h="21600">
                <a:moveTo>
                  <a:pt x="13760" y="5800"/>
                </a:moveTo>
                <a:lnTo>
                  <a:pt x="13760" y="3800"/>
                </a:lnTo>
                <a:lnTo>
                  <a:pt x="15800" y="3800"/>
                </a:lnTo>
                <a:lnTo>
                  <a:pt x="15800" y="7840"/>
                </a:lnTo>
                <a:close/>
              </a:path>
              <a:path fill="darkenLess" w="21600" h="21600">
                <a:moveTo>
                  <a:pt x="9740" y="14820"/>
                </a:moveTo>
                <a:lnTo>
                  <a:pt x="11860" y="14820"/>
                </a:lnTo>
                <a:lnTo>
                  <a:pt x="11860" y="19060"/>
                </a:lnTo>
                <a:lnTo>
                  <a:pt x="16900" y="19060"/>
                </a:lnTo>
                <a:lnTo>
                  <a:pt x="16900" y="10800"/>
                </a:lnTo>
                <a:lnTo>
                  <a:pt x="4700" y="10800"/>
                </a:lnTo>
                <a:lnTo>
                  <a:pt x="4700" y="19060"/>
                </a:lnTo>
                <a:lnTo>
                  <a:pt x="9740" y="1906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990720"/>
            <a:ext cx="9372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альная структура рабочей коман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ведущие специалисты Заказчика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(непосредственные участники бизнес-процессов). Функции: консультации ИТ специалистов, текущий контроль и предварительная приемка работ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Т специалисты Заказчика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участие в разработке и доводке системы, оперативное консультирование пользователей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110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нсультанты Исполнителя. </a:t>
            </a:r>
            <a:r>
              <a:rPr b="1" i="1" lang="en-US" sz="2400" spc="-1" strike="noStrike">
                <a:solidFill>
                  <a:srgbClr val="000000"/>
                </a:solidFill>
                <a:latin typeface="Futuris"/>
              </a:rPr>
              <a:t>Функции: разработка, внедрение и адаптация ресурсов системы, консультирование ИТ специалистов Заказчика</a:t>
            </a: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1-27T10:31:11Z</cp:lastPrinted>
  <dcterms:modified xsi:type="dcterms:W3CDTF">2002-12-10T14:51:12Z</dcterms:modified>
  <cp:revision>441</cp:revision>
  <dc:subject/>
  <dc:title>ОСНОВНЫЕ НАПРАВЛЕНИЯ ДЕЯТЕЛЬНОСТИ АО ГЕЛИКОН ПРО</dc:title>
</cp:coreProperties>
</file>