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179-31AA-46D9-842C-B81F0BDB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032-568E-43D4-81D1-BEBC76DD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E5D-6CD1-4ED1-A367-6DD80A86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180-75EB-449E-A03E-9EC44C04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C29-E369-466C-A10B-788DBE36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179-3650-40A4-84C9-87DD1FD6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7FA-F26B-4820-A35F-D7A074FB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103-9EC3-4277-8E19-BE4097F9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35B-4C1D-4E99-BDC8-98B9599B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A31-9431-4A0A-A066-B7BE93A6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0C3-3450-48CE-B165-9469C832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7FA-5765-4A5E-B260-E298236E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96DE-CDB1-4BB5-9469-024B9DE3A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ВТОМАТИЗАЦИЯ НАЛОГОВОГО УЧЕТА ПРЕДПРИЯТИЯ</a:t>
            </a:r>
            <a:endParaRPr b="0" lang="en-US" sz="5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2" name="logo7" descr=""/>
          <p:cNvPicPr/>
          <p:nvPr/>
        </p:nvPicPr>
        <p:blipFill>
          <a:blip r:embed="rId1"/>
          <a:stretch/>
        </p:blipFill>
        <p:spPr>
          <a:xfrm>
            <a:off x="152280" y="6324480"/>
            <a:ext cx="2573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НУ)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87" name="logo7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7621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Перенос данных на дополнительные счета + необходимая модифик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807732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24080" y="586728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2. Перенос данных на счета налогового уч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Н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8380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Выполняем проводки на налоговые сче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logo7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342900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Распределяем убыток на будущие периоды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2120" y="1224000"/>
          <a:ext cx="8622000" cy="3119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1224000"/>
                    <a:ext cx="862200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28600" y="3962520"/>
          <a:ext cx="8523360" cy="2708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962520"/>
                    <a:ext cx="85233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3045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Н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00" name="logo7" descr=""/>
          <p:cNvPicPr/>
          <p:nvPr/>
        </p:nvPicPr>
        <p:blipFill>
          <a:blip r:embed="rId1"/>
          <a:stretch/>
        </p:blipFill>
        <p:spPr>
          <a:xfrm>
            <a:off x="304920" y="609588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143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По данным на дополнительных счетах формируем регистр налогового уч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8458200" cy="3733560"/>
          </a:xfrm>
          <a:prstGeom prst="rect">
            <a:avLst/>
          </a:prstGeom>
          <a:solidFill>
            <a:srgbClr val="f8f8f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6386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3 РНУ Реализация амортизируемого иму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153280" y="594360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4003" y="0"/>
                </a:lnTo>
                <a:lnTo>
                  <a:pt x="0" y="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4003" y="21600"/>
                </a:lnTo>
                <a:lnTo>
                  <a:pt x="24003" y="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003" y="216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003" h="21600">
                <a:moveTo>
                  <a:pt x="12001" y="2800"/>
                </a:moveTo>
                <a:lnTo>
                  <a:pt x="14961" y="5800"/>
                </a:lnTo>
                <a:lnTo>
                  <a:pt x="14961" y="3800"/>
                </a:lnTo>
                <a:lnTo>
                  <a:pt x="17001" y="3800"/>
                </a:lnTo>
                <a:lnTo>
                  <a:pt x="17001" y="7840"/>
                </a:lnTo>
                <a:lnTo>
                  <a:pt x="20001" y="10800"/>
                </a:lnTo>
                <a:lnTo>
                  <a:pt x="18101" y="10800"/>
                </a:lnTo>
                <a:lnTo>
                  <a:pt x="18101" y="19060"/>
                </a:lnTo>
                <a:lnTo>
                  <a:pt x="5901" y="19060"/>
                </a:lnTo>
                <a:lnTo>
                  <a:pt x="5901" y="10800"/>
                </a:lnTo>
                <a:lnTo>
                  <a:pt x="4001" y="10800"/>
                </a:lnTo>
                <a:close/>
              </a:path>
              <a:path fill="darkenLess" w="24003" h="21600">
                <a:moveTo>
                  <a:pt x="14961" y="5800"/>
                </a:moveTo>
                <a:lnTo>
                  <a:pt x="14961" y="3800"/>
                </a:lnTo>
                <a:lnTo>
                  <a:pt x="17001" y="3800"/>
                </a:lnTo>
                <a:lnTo>
                  <a:pt x="17001" y="7840"/>
                </a:lnTo>
                <a:close/>
              </a:path>
              <a:path fill="darkenLess" w="24003" h="21600">
                <a:moveTo>
                  <a:pt x="10941" y="14820"/>
                </a:moveTo>
                <a:lnTo>
                  <a:pt x="13061" y="14820"/>
                </a:lnTo>
                <a:lnTo>
                  <a:pt x="13061" y="19060"/>
                </a:lnTo>
                <a:lnTo>
                  <a:pt x="18101" y="19060"/>
                </a:lnTo>
                <a:lnTo>
                  <a:pt x="18101" y="10800"/>
                </a:lnTo>
                <a:lnTo>
                  <a:pt x="5901" y="10800"/>
                </a:lnTo>
                <a:lnTo>
                  <a:pt x="5901" y="19060"/>
                </a:lnTo>
                <a:lnTo>
                  <a:pt x="10941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05120"/>
          <a:ext cx="845820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8458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Способы занесения данных на счета налогового учета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енос + необходимая модификация проводок 1 раз за отчетный период (Пример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олнительная проводка в момент возникновения   дохода/расхода в бухучете. Для примера 2: одновременно с провод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31720" y="3043080"/>
          <a:ext cx="8288280" cy="169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1720" y="3043080"/>
                    <a:ext cx="828828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09480" y="419112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едует выполнять проводку на налоговые сче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1720" y="4648320"/>
          <a:ext cx="8263080" cy="1941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1720" y="4648320"/>
                    <a:ext cx="82630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Возможности системы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налогового учета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четание нескольких подходов к организации налогового учета, выбор оптимального сочетания метод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окальные изменения - можно изменить метод учета отдельного вида доходов/расходов, не изменяя систему в цел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нимость на многих предприятиях с предварительной настрой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logo7" descr=""/>
          <p:cNvPicPr/>
          <p:nvPr/>
        </p:nvPicPr>
        <p:blipFill>
          <a:blip r:embed="rId1"/>
          <a:stretch/>
        </p:blipFill>
        <p:spPr>
          <a:xfrm>
            <a:off x="152280" y="632448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990720"/>
            <a:ext cx="81532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ЛУКИН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Ольга Вячеславов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819520"/>
            <a:ext cx="685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УЩИЙ СПЕЦИАЛ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О ГЕЛИКОН П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. (3422) 103-101, 103-178, 103-7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: lov@gelicon.perm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gelicon.perm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ТРЕБОВАНИЯ К СИСТЕМЕ НАЛОГОВОГО УЧЕТА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4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467820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имальные затраты рабочего времени бухгал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362320"/>
            <a:ext cx="77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тота реал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27672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бкость, возможность быстрой    адаптации к изменени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ПОДХОДЫ</a:t>
            </a:r>
            <a:br>
              <a:rPr sz="4000"/>
            </a:b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к организации учета доходов и расходов в целях налогообложения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аз от разделения налогового и бухгалтерского учетов - закрытие различий с помощью дополнительной анали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деление налогового учета от бухгалтерского - ведение двух независимых планов сч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458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1 (БУ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 расхода: услуги ба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600200"/>
          <a:ext cx="8386920" cy="171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00200"/>
                    <a:ext cx="838692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80880" y="3352680"/>
            <a:ext cx="8153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данного вида расхода различий между бухгалтерским и налоговым учетом нет, поэтому в этом случае предпочтительнее система отказа от разделения у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492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БУ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 расхода: реализация амортизируемого иму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57200" y="1595520"/>
          <a:ext cx="8313840" cy="2820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95520"/>
                    <a:ext cx="8313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3520" y="3962520"/>
            <a:ext cx="807696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формирования налогового регистра нуж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вязать доход и расхо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считать остаточную стоимость в целях налогообложения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пределить убытки на несколько отчетных пери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Б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62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066680"/>
            <a:ext cx="838188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Отказ от разделения бухгалтерского и налогового уче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ополнительная аналитика на 91 счете (основное средство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ополнительный субсчет для учета амортизации для налогооблож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ополнительный субсчет для распределения убытков на будущие пери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возможно, дополнительный субсчет для формирования налогооблагаемой баз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029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7800" y="4724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Раздельное ведение налогового и бухгалтерского планов счетов - потребуется примерно то же самое, но ведение учета отдельно не будет загромождать бухгалтери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logo7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80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Отказ от разделения у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3049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Ведение налогового учета в отдельном плане с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93544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олнительные счета для учета различий в признании доходов и расход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Если нет различий между учетами: формируем регистр по данным бухгалтерского учета, итоговые суммы за квартал переносим на дополнительный сч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Если есть различия: храним на дополнительных счетах информацию, достаточную для формирования регист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98920" y="1438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7480" y="1438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1 (НУ)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447920"/>
            <a:ext cx="7315200" cy="4419360"/>
          </a:xfrm>
          <a:prstGeom prst="rect">
            <a:avLst/>
          </a:prstGeom>
          <a:solidFill>
            <a:srgbClr val="f8f8f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990720" y="1523880"/>
          <a:ext cx="71625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5238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97180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1. РНУ «Расходы - услуги бан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533520" y="990720"/>
            <a:ext cx="816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егистр формируется по данным бухгалтерского уч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1 (Н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80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7680" y="914400"/>
            <a:ext cx="816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Выполняется проводка на счета налогового учета на сумму «Итого за квартал»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4120" y="1830240"/>
          <a:ext cx="8621640" cy="149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1830240"/>
                    <a:ext cx="862164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7680" y="339264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м случае перенос итоговых данных за квартал на счета налогового учета нужен для формирования сводных справок, например, «Справки о внереализационных расхода» за отчетны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05:16:04Z</dcterms:created>
  <dc:creator>lov</dc:creator>
  <dc:description/>
  <dc:language>en-US</dc:language>
  <cp:lastModifiedBy>В.В. Шишляев</cp:lastModifiedBy>
  <dcterms:modified xsi:type="dcterms:W3CDTF">2002-12-10T14:51:43Z</dcterms:modified>
  <cp:revision>181</cp:revision>
  <dc:subject/>
  <dc:title>Заголовок слайда отсутствует</dc:title>
</cp:coreProperties>
</file>