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1B9-13B3-4746-88B0-FBE6F04E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0B0-07EE-4B93-BCFB-BBF66837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A19-ED71-4C8A-9696-33D55119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CBF-3D8D-496C-8432-8A8AA029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EAE4-01C3-4FCA-82B9-C625B0C6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311F-3B99-4B50-8BA9-E38B4F76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9082-81D1-4099-B274-7FBEE3F0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752C-720F-44D9-80C1-2BF986BD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1D7C-5DE6-4019-8639-18E2988E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C397-BE68-4ECB-9C48-9135D828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65F0-1127-4ED4-9F08-A1DF0389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AE6-87B8-4314-8508-F5E181C1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8B1F-1E6C-46CF-8810-CA74FD02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5177-0810-48A0-9AB9-1DC8327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A53B-4589-4014-B325-244674C6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0BD1-626A-4E84-99E5-5668249D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E0B5-6F06-4A4D-AFFF-C68AB621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E56-6183-40D4-9480-FFF52876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193-8E23-4E4F-89F3-B607F0A1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26A-4F2A-46AE-9508-892DE284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C62-F4DF-4CDB-B07F-DB79A67A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8CF-9732-4D1F-9970-9E9CFC88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525-88DB-4171-8B89-DA8B956E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1FE-785C-4AC0-A623-0CA5BAD1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FEEC-C9D9-4B0F-BACB-538CC334CB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3635-783E-4E81-9774-6FD2E2D5F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15A-DA9A-4739-B333-FA0B7B666E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C566-5D62-45E0-A3E1-3031D53D5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"/>
              </a:rPr>
              <a:t>АО ГЕЛИКОН ПРО</a:t>
            </a:r>
            <a:endParaRPr b="0" lang="en-US" sz="5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матизация кадровой служ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 учета кадр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  управлению персона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42680" y="609120"/>
            <a:ext cx="86295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Рангулов Руслан Анваро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й специалист отдела внедрения информационных систе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: (3422) 103-101, 103-178,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rra@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ФАКТОРЫ</a:t>
            </a:r>
            <a:br>
              <a:rPr sz="4000"/>
            </a:b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 определяющие необходимость развития системы управления персоналом 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версификация деятельности пред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Что дает автоматизация кадровой службы 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572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т и управление трудовыми ресурс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ь получения достоверных данных о структуре предприятия, расстановке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сонала, структуре затрат на оплату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еспечение мероприятий по улучшению качества персо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ь внедрения новых кадров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величение эффективности  труда сотрудников кадровых служб, плановых и расчетных подраз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озможности 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КИС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Капитал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SE” 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 части управления персоналом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едение организационной структуры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 Полный учет информации о сотрудник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 Ведение кадровой документации и отчетности в соответствии с требованиями ТК РФ и Госкомс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т отработанного времени и расходов по оплат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7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ВЕДЕНИЕ ОРГАНИЗАЦИОННОЙ СТРУКТУРЫ ПРЕДПРИЯТИ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справочника штатного расписания в виде иерархического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анение всей истории движений сотрудников и изменения штатного расписания, получение актуальной картины о кадровом составе и структуре предприятия на произвольный момент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водной отчетности о штатной численности, занятости ставок, вакантных ставках, планируемом фонде заработной 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ПОЛНЫЙ УЧЕТ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ИНФОРМАЦИИ О СОТРУДНИКАХ ПРЕДПРИЯТИ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4479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личных сведений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анение полной истории работы сотрудника на предприя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т документов о неявках (отпуска, командировки, временная нетрудоспособность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т переподготовок и аттестаций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зволяет получать информацию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очной численности на любую дату и среднесписочной численности за любой пери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образованию и повышению квалификации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ВЕДЕНИЕ КАДРОВОЙ ДОКУМЕНТАЦИИ И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ОТЧЕТНОСТИ В СООТВЕТСТВИИ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С ТРЕБОВАНИЯМИ ТК РФ И ГОСКОМСТАТ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держка унифицированных  форм Госкомстата по учету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держка классификаторов ОКАТО, О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можность ведения справочника должностей в соответствии с ОКПД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УЧЕТ ОТРАБОТАННОГО ВРЕМЕНИ И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РАСХОДОВ ПО ОПЛАТЕ ТРУДА</a:t>
            </a:r>
            <a:br>
              <a:rPr sz="4000"/>
            </a:b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ельный уч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бкие алгоритмы расчетов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т расходов на заработную плату по шифрам производственных зат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ДОСТОИНСТВ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ое информационное пространство всех модуле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я настройка расчетных алгорит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граничение прав дост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штабируемость п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ональному исполь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ие форматов экспортируемых данных требованиям МНС и ПФ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ддержка и сопровож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2-03T05:11:13Z</cp:lastPrinted>
  <dcterms:modified xsi:type="dcterms:W3CDTF">2002-12-10T14:52:06Z</dcterms:modified>
  <cp:revision>405</cp:revision>
  <dc:subject/>
  <dc:title>ОСНОВНЫЕ НАПРАВЛЕНИЯ ДЕЯТЕЛЬНОСТИ АО ГЕЛИКОН ПРО</dc:title>
</cp:coreProperties>
</file>