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10E-4E0D-4620-BAD8-C7CDE3BD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3F8-A685-48B4-8C9F-F46A64C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797-ED0C-4081-B617-92967AEC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E3C-C5E1-4DD2-A8D1-4DB1FBF5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81D-E8E6-4F20-B3BA-3083E3A9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1CA-9C6B-45AE-8E37-5DB1521D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961A-754F-4761-9F78-F30E297D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E8C-7F03-456E-8355-659049D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A2E2-82B2-440C-8C41-1884B61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91DB-6DF3-4DAD-9E19-5DB1BCF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AAE6-95B1-4631-835F-06A0E0D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E64-E2A9-40C6-BBF2-5AEAADE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578-547D-4501-8D71-5BA79F4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A96B-20E3-4580-9B2E-CD6B785E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48C-D636-45EF-ABEF-CE48AD8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B49-8BE2-45DF-A42E-F0FC7BF1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AE03-52F4-4F77-BB90-A754F0B0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DC8-5FC3-494D-8F65-5488578B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6FB-D8B7-4370-8DAE-F48A0C1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8C7-A20F-44A2-83E2-BC5F19A6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999-18E0-4852-9560-CB63D7C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7DD-B14B-451F-AA94-893EC1E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825-FE72-45EB-87AE-5E35243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981-CB57-4CDE-AFB8-8A7A1B3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E058-72F7-4AE5-A87E-BECA5038C8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9BC-100F-4764-928C-B823A683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B26D-2818-43DB-9462-4E6C1B970A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C45F-E3E1-4A3A-AC6E-0F8AB9737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атизация кадровой служ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учета кад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 управлению персо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42680" y="609120"/>
            <a:ext cx="8629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ангулов Руслан Анва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специалист отдела внедрения информационных систе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: (3422) 103-101, 103-178,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rra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ФАКТОРЫ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определяющие необходимость развития системы управления персоналом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ерсификация деятельности пред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Что дает автоматизация кадровой службы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572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и управление трудовыми ресур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получения достоверных данных о структуре предприятия, расстановке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сонала, структуре затрат на оплату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ение мероприятий по улучшению качества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внедрения новых кадров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эффективности  труда сотрудников кадровых служб, плановых и расчетных подраз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озможности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ИС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питал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SE”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 части управления персоналом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Полный учет информации о сотрудни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 Ведение кадровой документации и отчетности в соответствии с требованиями ТК РФ и Госком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отработанного времени и расходов по оплат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7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правочника штатного расписания в виде иерарх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ение всей истории движений сотрудников и изменения штатного расписания, получение актуальной картины о кадровом составе и структуре предприятия на произволь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водной отчетности о штатной численности, занятости ставок, вакантных ставках, планируемом фонде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ПОЛНЫЙ УЧЕТ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ИНФОРМАЦИИ О СОТРУДНИКАХ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личных сведен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анение полной истории работы сотрудника на предпри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документов о неявках (отпуска, командировки, временная нетрудоспособность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переподготовок и аттестац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воляет получать информацию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чной численности на любую дату и среднесписочной численности за любой пери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бразованию и повышению квалификации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ВЕДЕНИЕ КАДРОВОЙ ДОКУМЕНТАЦИИ И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ОТЧЕТНОСТИ В СООТВЕТСТВИ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С ТРЕБОВАНИЯМИ ТК РФ И ГОСКОМСТАТ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унифицированных  форм Госкомстата по учету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классификаторов ОКАТО, О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справочника должностей в соответствии с ОКПД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УЧЕТ ОТРАБОТАННОГО ВРЕМЕНИ 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РАСХОДОВ ПО ОПЛАТЕ ТРУДА</a:t>
            </a:r>
            <a:br>
              <a:rPr sz="4000"/>
            </a:b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ный у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бкие алгоритмы расчетов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 расходов на заработную плату по шифрам производствен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ДОСТОИНСТВ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всех модул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я настройка расчетных алгорит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граничение прав 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штабируемость п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ональному исполь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форматов экспортируемых данных требованиям МНС и ПФ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ддержка и сопров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3T05:11:13Z</cp:lastPrinted>
  <dcterms:modified xsi:type="dcterms:W3CDTF">2002-12-10T14:52:06Z</dcterms:modified>
  <cp:revision>405</cp:revision>
  <dc:subject/>
  <dc:title>ОСНОВНЫЕ НАПРАВЛЕНИЯ ДЕЯТЕЛЬНОСТИ АО ГЕЛИКОН ПРО</dc:title>
</cp:coreProperties>
</file>