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639-EAA1-4F9C-98E5-0E3C4E07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187-F52B-4C99-8BC6-5717ADE4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83B-766D-4AC3-A7A8-CFB76127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37B-09F1-4F57-8C17-EB62FAF5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02AF-7A16-4842-B651-3C125E83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1DA3-BABC-4EC6-8B42-A66021BC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427C-9CAA-4C6B-B233-96A8CA20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7C28-7B53-4F24-B579-424803DA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465-13A4-41AF-9083-70005E76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11BA-E846-4FDC-8516-A52AA8DB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9DAE-BE9D-4E0F-9B1F-D53C0F32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66B-88E0-4240-9FC5-C742EAAD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18E8-490A-4842-9C21-96F7BF12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29B8-170D-4A6A-A2E5-9CD2484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E0F0-C064-4FEC-B3C6-B2E0821B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E02C-C059-4F2F-B51C-58383CC5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828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3978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645B-1F78-40EF-B043-2306CAFA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B6D-59DD-45CE-9DD1-32E26096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20F-D858-475F-9300-DFCA8732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00E-1BB6-41F9-8016-A06DF1F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228240"/>
            <a:ext cx="8420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3D9-8969-451F-86D5-530158A5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FC2-F5D1-48AC-905B-30E2BE61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3978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168-F2C6-4BBB-84E9-6CAB2EE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828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3978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DC6-AD34-443D-9B42-3747C852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E669-7E4B-4385-977F-42A9123406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E67E-9639-4597-AED9-E1F0D8B22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85400" cy="6173640"/>
            <a:chOff x="0" y="0"/>
            <a:chExt cx="918540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643800" cy="6173640"/>
            </a:xfrm>
            <a:custGeom>
              <a:avLst/>
              <a:gdLst/>
              <a:ahLst/>
              <a:rect l="l" t="t" r="r" b="b"/>
              <a:pathLst>
                <a:path w="4185" h="3889">
                  <a:moveTo>
                    <a:pt x="4184" y="3418"/>
                  </a:moveTo>
                  <a:lnTo>
                    <a:pt x="495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676" y="3888"/>
                  </a:lnTo>
                  <a:lnTo>
                    <a:pt x="4184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9600" y="0"/>
              <a:ext cx="5835600" cy="5116680"/>
            </a:xfrm>
            <a:custGeom>
              <a:avLst/>
              <a:gdLst/>
              <a:ahLst/>
              <a:rect l="l" t="t" r="r" b="b"/>
              <a:pathLst>
                <a:path w="3676" h="3223">
                  <a:moveTo>
                    <a:pt x="400" y="0"/>
                  </a:moveTo>
                  <a:lnTo>
                    <a:pt x="3675" y="3036"/>
                  </a:lnTo>
                  <a:lnTo>
                    <a:pt x="3474" y="3222"/>
                  </a:lnTo>
                  <a:lnTo>
                    <a:pt x="0" y="0"/>
                  </a:lnTo>
                  <a:lnTo>
                    <a:pt x="40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60920" y="0"/>
              <a:ext cx="4916520" cy="4057560"/>
            </a:xfrm>
            <a:custGeom>
              <a:avLst/>
              <a:gdLst/>
              <a:ahLst/>
              <a:rect l="l" t="t" r="r" b="b"/>
              <a:pathLst>
                <a:path w="3097" h="2556">
                  <a:moveTo>
                    <a:pt x="682" y="0"/>
                  </a:moveTo>
                  <a:lnTo>
                    <a:pt x="3096" y="2238"/>
                  </a:lnTo>
                  <a:lnTo>
                    <a:pt x="2754" y="2555"/>
                  </a:lnTo>
                  <a:lnTo>
                    <a:pt x="0" y="0"/>
                  </a:lnTo>
                  <a:lnTo>
                    <a:pt x="682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54560" y="0"/>
              <a:ext cx="3930840" cy="3367080"/>
            </a:xfrm>
            <a:custGeom>
              <a:avLst/>
              <a:gdLst/>
              <a:ahLst/>
              <a:rect l="l" t="t" r="r" b="b"/>
              <a:pathLst>
                <a:path w="2476" h="2121">
                  <a:moveTo>
                    <a:pt x="0" y="0"/>
                  </a:moveTo>
                  <a:lnTo>
                    <a:pt x="2286" y="2120"/>
                  </a:lnTo>
                  <a:lnTo>
                    <a:pt x="2475" y="1945"/>
                  </a:lnTo>
                  <a:lnTo>
                    <a:pt x="376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142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0E5D-5FEF-4A37-8D3B-A335217753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92E9-D6E1-449B-9DBC-4DE3560B5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601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</a:rPr>
              <a:t>АО ГЕЛИКОН ПРО</a:t>
            </a:r>
            <a:endParaRPr b="0" lang="en-US" sz="5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885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матизация кадровой служ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 учета кадр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  управлению персона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42680" y="609120"/>
            <a:ext cx="86295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Рангулов Руслан Анваро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й специалист отдела внедрения информационных систем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: (3422) 103-101, 103-178,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rra@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gelicon.perm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9829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ФАКТОРЫ</a:t>
            </a:r>
            <a:br>
              <a:rPr sz="4000"/>
            </a:b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 определяющие необходимость развития системы управления персоналом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острение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версификация деятельности пред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Что дает автоматизация кадровой службы </a:t>
            </a:r>
            <a:endParaRPr b="0" lang="en-US" sz="40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572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и управление трудовыми ресур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получения достоверных данных о структуре предприятия, расстановке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сонала, структуре затрат на оплату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беспечение мероприятий по улучшению качества персо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сть внедрения новых кадров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величение эффективности  труда сотрудников кадровых служб, плановых и расчетных подраз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озможности </a:t>
            </a:r>
            <a:br>
              <a:rPr sz="4400"/>
            </a:b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ИС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Капитал </a:t>
            </a:r>
            <a:r>
              <a:rPr b="0" lang="en-US" sz="4400" spc="-1" strike="noStrike">
                <a:solidFill>
                  <a:srgbClr val="6600ff"/>
                </a:solidFill>
                <a:latin typeface="Arial"/>
              </a:rPr>
              <a:t>CSE” </a:t>
            </a: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в части управления персоналом</a:t>
            </a:r>
            <a:endParaRPr b="0" lang="en-US" sz="44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 Полный учет информации о сотрудника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 Ведение кадровой документации и отчетности в соответствии с требованиями ТК РФ и Госкомс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чет отработанного времени и расходов по оплат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7" descr=""/>
          <p:cNvPicPr/>
          <p:nvPr/>
        </p:nvPicPr>
        <p:blipFill>
          <a:blip r:embed="rId3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ВЕДЕНИЕ ОРГАНИЗАЦИОННОЙ СТРУКТУРЫ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справочника штатного расписания в виде иерархического дер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анение всей истории движений сотрудников и изменения штатного расписания, получение актуальной картины о кадровом составе и структуре предприятия на произвольный момент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водной отчетности о штатной численности, занятости ставок, вакантных ставках, планируемом фонде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ПОЛНЫЙ УЧЕТ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ИНФОРМАЦИИ О СОТРУДНИКАХ ПРЕДПРИЯТИЯ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2680" y="14479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личных сведен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ранение полной истории работы сотрудника на предприят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документов о неявках (отпуска, командировки, временная нетрудоспособность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ет переподготовок и аттестаций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7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зволяет получать информацию п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писочной численности на любую дату и среднесписочной численности за любой пери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ре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образованию и повышению квалификации персо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 algn="just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ВЕДЕНИЕ КАДРОВОЙ ДОКУМЕНТАЦИИ И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 ОТЧЕТНОСТИ В СООТВЕТСТВИ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С ТРЕБОВАНИЯМИ ТК РФ И ГОСКОМСТАТ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унифицированных  форм Госкомстата по учету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держка классификаторов ОКАТО, О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зможность ведения справочника должностей в соответствии с ОКПД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67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УЧЕТ ОТРАБОТАННОГО ВРЕМЕНИ И </a:t>
            </a:r>
            <a:br>
              <a:rPr sz="2800"/>
            </a:b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РАСХОДОВ ПО ОПЛАТЕ ТРУДА</a:t>
            </a:r>
            <a:br>
              <a:rPr sz="4000"/>
            </a:b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4268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ельный уч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бкие алгоритмы расчетов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т расходов на заработную плату по шифрам производственных зат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2680" y="2282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ДОСТОИНСТВА</a:t>
            </a:r>
            <a:endParaRPr b="0" lang="en-US" sz="2800" spc="-1" strike="noStrike">
              <a:solidFill>
                <a:srgbClr val="66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ое информационное пространство всех модуле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я настройка расчетных алгорит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граничение прав дост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штабируемость п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ональному использов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ие форматов экспортируемых данных требованиям МНС и ПФ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ддержка и сопровожд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ogo7" descr=""/>
          <p:cNvPicPr/>
          <p:nvPr/>
        </p:nvPicPr>
        <p:blipFill>
          <a:blip r:embed="rId1"/>
          <a:stretch/>
        </p:blipFill>
        <p:spPr>
          <a:xfrm>
            <a:off x="457200" y="6095880"/>
            <a:ext cx="3276720" cy="5335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7T18:13:00Z</dcterms:created>
  <dc:creator>Виктор Шишляев</dc:creator>
  <dc:description/>
  <dc:language>en-US</dc:language>
  <cp:lastModifiedBy>В.В. Шишляев</cp:lastModifiedBy>
  <cp:lastPrinted>2002-12-03T05:11:13Z</cp:lastPrinted>
  <dcterms:modified xsi:type="dcterms:W3CDTF">2002-12-10T14:52:06Z</dcterms:modified>
  <cp:revision>405</cp:revision>
  <dc:subject/>
  <dc:title>ОСНОВНЫЕ НАПРАВЛЕНИЯ ДЕЯТЕЛЬНОСТИ АО ГЕЛИКОН ПРО</dc:title>
</cp:coreProperties>
</file>