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4FE84685-59D5-45A3-8821-E8D0A2460D63}" type="slidenum"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едрение корпоративного портала и обеспечение доступа к нему внешних пользователей способствует укреплению деловых связей с заказчиками, партнерами, поставщиками и повышает качество обслуживания заказчиков и партнеров за счет предоставления им дополнительных возможностей 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440" y="4670280"/>
            <a:ext cx="5257800" cy="477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нутренних пользователей (руководителей и сотрудников предприятия) на основе корпоративного информационного портала может быть реализована следующая функциональ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ая библиотека технико-экономической, технологической, договорной или юридической документ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подачи заявок (например, на расходные материалы, автотранспорт, и т.п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очник контактных реквизитов сотрудников предприя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отека существующих и потенциальных контраг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внутренней отчетности для оперативного контроля и управления производством и проектами (отчеты по использованию рабочего времени сотрудников, выполнение календарных планов и графиков проект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ханизмы совместной работы (форумы по различным проектам или направлениям деятельности предприятия, переговорные сессии для проведения оперативных совещан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ба технической поддержки пользователей компьютеров и оргтехники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ые новостные сервисы с персонифицированной доставкой и системой оповещения получателей (например, оперативные показатели финансовой и производственной деятельности предприятия, сводки деловой информации, корпоративные и региональные новости, прогноз погоды, меню столово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нешних посетителей портала (поставщиков, партнеров и заказчиков) могут быть созданы механизмы, включающие себя информирование о ценах, продуктах, складских запасах, доставке и процессе выполнения заказов, а также решения типа "торговой площадки". Эти решения позволяют наладить совместное планирование и прогнозирование, скоординированное производство и управление дистрибуцией. Таким образом, корпоративный портал обеспечивает интеграцию традиционных учетных систем с приложениями для управления отношениями с клиентами (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условно, это далеко не полный перечень функциональных возможностей, которые могут быть реализованы в рамках корпоративного портала. Следует подчеркнуть, что развитие портала представляет собой динамический процесс, который неразрывно связан с процессом формализации информационных потоков предприятия. Соответственно, отдача от информационного портала будет увеличиваться по мере роста его функционального напол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подсчетам аналитиков, на сегодняшний день инструменты для построения порталов выпускают уже более 200 компаний, причем с каждым днем предложений становится все больше и боль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рошлом году свои новые инициативы в этой области анонсировали такие гиганты рынка прикладного программного обеспечения как SAP, IBM и Microsoft. Они намерены составить конкуренцию компаниям Plumtree Software, DataChannel, Hummingbird и Epicentric, в значительной степени посвятившим себя разработке программного обеспечения для порт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енно, существует целый спектр продуктов — от готовых к работе инструментов до конфигурируемых решений, которые для обеспечения интеграции требуют серьезной настрой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корпоративного порта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ерьезный и довольно затратный проект. Стоимость вышеназванных портальных решений в среднем составляет от 100 до 500 долларов за одно рабочее мес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зарубежным данным,  на приобретение программного обеспечения небольшому предприятию придется затратить окол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00 долларов, среднем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т 500 000 до 1 миллиона долларов. Дополнительные затраты на сооружение порталов, согласно результатам опросов, составляют 100-300% от стоимости программного обесп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рынок портальных проектов сейчас находится в стадии формирования. Положительных и отрицательных примеров, на которые могли бы ориентироваться заказчики, пока совсем немного. Столь скромная практика отчасти объясняется невысоким уровнем автоматизации большинства российских компаний, которые еще не завершили первый «виток», связанный с построение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 и хранилищ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этой причине важно заранее определить базовые принцип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ции и проанализировать возможные технологические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ельство и внедрение корпоративного портала практически всегда сопряжено с рядом типовых проблем, обусловленных существующей на предприятии информационной сред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 организации нескольких операционных систем вызывает необходимость проведения кросс-платформенной интег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рые и "унаследованные" базы данных, построенные на базе архитектуры файлового сервера, не всегда могут быть интегрированы в порт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ложения, прежде всего написанные сторонними разработчиками и небольшими фирмами, могут не име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нтерфейсов и (или) документированных API-интерфейсов, что затрудняет их интегра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702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настоящему моменту де-факто сложились следующие базовые принципы интеграции корпоративных данных и приложений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зуализация информации при помощи Web-браузера, благодаря чему исчезает необходимость в установке и поддержке "тяжелых" клиентских при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ируемость, переносимость и открытость создаваемых решений, которые достигаются благодаря использованию XML/XSL и Java. Хранение и передача данных происходит с помощью языка XML, специально созданного для организации взаимодействия с различными приложениями. Формат данных в XML не зависит от способа его дальнейшей визуализации. За это отвечают хранимые отдельно файлы таблицы стилей XSL, которые преобразуют файлы XML для их представления в виде Web-стран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входа в портал из различных систем, в том числе территориально удал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 безопасность и защита информации посредством централизованного доступа и разделения прав пользователей на стороне источников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ани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ликон Пр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дставляет в качестве технологической платформы для разработки приклад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шений свой новый продукт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lic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дставляет собой инструментальную прослойку, которая объединяет известные Internet-технологии в единую цепочку на основе использования открытых стандартов. Предлагаемый продукт ориентирован на Заказчиков, заинтересованных в интеграции данных и приложений на основе современ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й. Его применение позволяет повысить оперативность управления предприятием при сохранении надежности и конфиденциальности, присущих традиционным решениям на основе СУБ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626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технолог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ает следующие 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нтеграции данных и приложений независимо от размещения и форматов хранения информации. При этом в качестве источников данных, помимо базы данных системы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могут использоваться другие локальные базы данных, удаленные оперативные источники XML-данных и неоперативные источники данных в виде XML-фай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ческая сборк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траниц путем интерпретации гетерогенных данных. Эти данные могут представлять собой статический HTML-документ, шаблон на языке XML (содержащий, например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прос к базе данных), документ XSL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шаблоном преобразования, программный код на языке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ли поток байтов (который может интерпретироваться, как рисунок, звук, мультимеди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ная интеграция с инструментарием 39-й версии системы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ая позволяет эффективно применять имеющиеся в системе механизмы разработки ресурсов, администрирования прав пользователей и аудита событий в базе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 безопасности и защита информации за счет эффективного управления потоком соединений и использования механизмов администрирования прав пользователей на стороне источников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ый информационный портал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является мощным инструментом интеграции информационных ресурсов, который многократно повышает эффективность управления предприятием. Портал представляет собой совокупность технологий и программных средств, позволяющих компаниям "расконсервировать" информацию, которая возникает и накапливается как внутри, так и вне их границ. Одновременно, портал предоставляет каждому пользователю персонифицированное "окно" для просмотра всей информации, необходимой ему для принятия обоснованных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технологической точки зрения портал представляет собой совокуп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нтерфейсов, которые обеспечивают единообразный доступ к корпоративным данным и программам через локальные и глобальные сети. В качестве терминала может быть использовано любое устройство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браузером (стационарный или переносной компьютер), подключенное к корпоративной сети либо находящееся далеко за ее пределами. Порталы позволяют организовывать дополнительные сервисы, основанные на доступе к разнородным данным и приложениям с од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транички. При этом пользователь может и не знать, с какими приложениями он работает, где и в каком формате хранятся предоставляемые ему данные и с помощью каких операционных систем они обрабатыв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440" y="4670280"/>
            <a:ext cx="5257800" cy="4702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технологи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полной мере отвечает всем вышеназванным принципам и может использоваться в качестве инструментария для построения корпоративного информационного пор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примера рассмотрим систему подачи заявок на расходные материалы, реализованную на основе техноло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 качестве источника данных используется база данных системы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льзователей, участвующих в формировании и утверждении заявок, реализованы несложные с функциональной точки з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нтерфейсы. Перечень доступных для заказа расходных материалов формируется на основе информации из справочника ТМЦ. Сформированные заявки хранятся в одноименной таблице БД. Пользователи в статусе руководителей структурных подразделений наделяются доступом к функции утверждения заявок своих сотрудников. При этом права доступа определяются при помощи стандартных механизмов, реализованных в модуле «Администратор». Такой подход не требует инсталляции клиентских компонентов системы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рабочих местах всех сотрудников предприятия и, соответственно, не требует покупки клиентских лиценз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ьзователи в статусе работников отдела МТО обладают возможностью сформировать сводный заказ на приобретение расходных материалов. При этом они могут использовать хорошо структурированн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тчет, реализованный стандартными средствами модуля «Анализатор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. Я готов ответить на Ваши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ельство корпоративных порталов в настоящее время является одним из наиболее перспективных направлений в области информационных технологий. Так, аналитики  компан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 Group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читают, что к 2003 году 60% компаний из Fortune 500 будут использовать корпоративный портал в качестве инструмента поддержки принятия решений, совершенствования информационных потоков и развития электронной коммерции типа B2B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результатам опросов руководителе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дразделений на сегодняшний день почти 60% крупнейших предприятий России из числа участников рейтинг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100 одной из своих первоочередных задач считают создание корпоративного информационного пор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дрение корпоративного портала обеспечивает компании серьезные конкурентные преимущества. При этом, по оценкам компан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tre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орма возврата инвестиций от внедрения корпоративного портала в среднем составляет 145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аспекты, определяющие экономические и организационные эффекты от построения портала, перечислены на этом слайде. Рассмотрим их более подроб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и сотрудники ежедневно получают информацию из различных источников, таких как корпоративные информационные системы, периодические печатные издания, внутренние нормативные документы, деловая переписка, электронная почта, техническая документация и ресурсы сет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я корпоративный портал, Вы и Ваши специалисты сможете получать необходимую информацию в предельно сжатые сроки непосредственно со своего рабочего места, независимо от его географического расположения и времени суток. Использование современных технологий позволит организовать целевую доставку информации и своевременное оповещение ее получателей, обеспечив при этом необходимый уровень конфиденциа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тал играет роль центрального информационного ресурса для руководства и сотрудников компании, ее заказчиков, поставщиков, дистрибьюторов, партнеров и акционе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уководители  и сотрудн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лучают интегрированную внутреннюю и внешнюю информацию и доступ к корпоративным прило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азч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лучают информацию о выпускаемой компанией продукции, новые инструменты работы с ней. Анализ действий заказчиков при работе с порталом может помочь компании принимать более взвешенные маркетинговые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авщ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лучают возможность повысить эффективность взаимодействия с компанией, оптимизировать объемы и время поставок. Таким образом, портал становится инструментом для планирования и прогнозирования расходования запасов и постав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ционеры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портала получают инструмент контроля над ключевыми параметрами деятельности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артнер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лучают более эффективный инструмент по обмену информацией. Через портал они имеют доступ к маркетинговой и технической документации, планам выпуска продукции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корпоративного портала позволит в полной мере применить управленческую технологию управления знаниями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, которая во всем мире признана наиболее эффективной формой взаимодействия сотрудников. Любой работник достаточно легко сможет найти и использовать различные отчеты, сводки, статьи, библиографические справочники, новости, методики, регламенты, аналитические обзоры и исследования, вне зависимости от того, где и кем они были созданы. Накопление и сортировка всей этой информации позволит создать и использовать "базу знаний" Вашей компании, охватывающую большую часть корпоратив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нтеграция корпоративного портала с другими компонентами информационной системы предприятия (финансово-учетные и сбытовые программы, хранилища данных, электронный документооборот и т.п.) открывает новые возможности анализа деловой информации, сегментирования рынка и позиционирования, планирования и прогнозирования, выполнения ряда иных функций. Соответственно, менеджеры Вашей компании смогут принимать более эффективные решения, учитывающие все нюансы конкретной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тал – это интегрированное приложение, которое можно достаточно быстро внедрить и легко поддерживать, затрачивая при этом сравнительно скромные ресурсы по сравнению с системами со сходными функциями, но построенными на основе других концепций. Все это снижает издержки и повышает отдачу от вложений в информационную систему предприятия. Использование для визуализации информации "тонкого клиента" (обыч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браузера) позволяет экономить на обучении персонала и, одновременно, дает возможность не устанавливать клиентские приложения на множестве компьютеров. Сокращение затрат на приобретение и обслуживание клиентского ПО и оборудования – один из основных ресурсов снижения издержек при использовании корпоративного портала. Также важно упомянуть о минимизации затрат на аренду Internet-канала за счет того, что наиболее значительная часть информации, необходимой для пользователей портала, размещается в корпоративной с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0323-8AEF-4286-B3A7-CC61BEF9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1FA6-9DDA-4EFD-856A-A17DE022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0E7D-9403-4072-A080-A7708773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AA7-E3EB-41A7-B970-A514BF12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E2A2-F320-418F-B366-29E932AA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045D-DE0F-4AB9-BC06-8A38B4CF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7EC4-6CE5-4470-AA1C-55B672D4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988A-8418-4FEA-8449-2CA5A981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B39F-703A-4125-8795-5D3FB883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729D-2D3E-46A3-91C8-9ACFA26C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1299-116E-48B3-9926-74444BB2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B1C-F338-441B-A09F-DDB5C0F7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EAB8-E711-4F60-9C95-223BAEC0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685C-9CCC-49D5-B78A-1CE23447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23D2-6AAC-4B44-9BD0-260B11DF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37B5-B575-4B70-A928-4863B3FC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1CD0-2060-4682-AFF7-3109923B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76BD-86F4-4C30-B53B-3E083A60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BF7-3C72-41F5-82D6-6EBD3FCE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BF5-726B-4AF5-8BE1-12B0128F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DC0-AE87-4CB7-BBC3-EE3843F0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5D0C-94AC-4D7D-96C0-6F9AD425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E5E7-7E8E-49CA-BD06-9F2583F7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0D8-E6E8-42BA-9649-41D0EECF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5F3A-39D7-4D5B-BBCC-B672405E5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142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A9DD-D36C-4EFB-8F76-8FB82CBFA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9885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ПО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КОРПОРАТИВ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ИНФОРМАЦИОННОГО ПОРТ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ПРЕД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280" y="6248520"/>
          <a:ext cx="281952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248520"/>
                    <a:ext cx="28195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ЕДИНАЯ ПЛАТФОРМ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ДЛЯ ЭЛЕКТРОННОГО БИЗНЕСА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9601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2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предоставление дополнительных услу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2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улучшение качества обслу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2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увеличение скорости выполнения заказ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2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укрепление деловых связей с заказчиками и поставщи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934320" y="1600200"/>
          <a:ext cx="2835000" cy="28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600200"/>
                    <a:ext cx="283500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9220320" y="62485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uturis"/>
              </a:rPr>
              <a:t>ФУНКЦИОНАЛЬНОЕ НАПОЛНЕНИЕ КОРПОРАТИВНОГО ПОРТАЛА</a:t>
            </a:r>
            <a:endParaRPr b="0" lang="en-US" sz="6000" spc="-1" strike="noStrike">
              <a:solidFill>
                <a:srgbClr val="6600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ДЛЯ СОТРУДНИКОВ ПРЕДПРИЯТИЯ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9296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корпоративная библиотека финансовой, технологической, договорной, юридической докум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система подачи заявок (на расходные материалы, автотранспорт,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справочник контактных реквизитов сотрудников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картотека существующих и потенциальных контраг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формы внутренней отчетности для оперативного контроля и управления производством и проектами (отчеты по использованию рабочего времени, исполнение календарных планов и графиков проек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механизмы совместной работы (форумы по различным проектам или направлениям деятельности предприятия, переговорные сессии для проведения оперативных совещ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служба технической поддержки пользователей (</a:t>
            </a: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Help</a:t>
            </a: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Desk</a:t>
            </a: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различные новостные сервисы с персонифицированной доставкой (оперативные показатели финансовой и производственной деятельности предприятия, сводки деловой информации, корпоративные и региональные новости, прогноз погоды, меню столов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9525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ДЛЯ ВНЕШНИХ ПОСЕТИТЕЛЕЙ </a:t>
            </a:r>
            <a:r>
              <a:rPr b="1" lang="en-US" sz="3000" spc="-1" strike="noStrike">
                <a:solidFill>
                  <a:srgbClr val="ffffff"/>
                </a:solidFill>
                <a:latin typeface="Futuris"/>
              </a:rPr>
              <a:t>ПОСТАВЩИКОВ, ПАРТНЕРОВ И ЗАКАЗЧИКОВ</a:t>
            </a:r>
            <a:endParaRPr b="0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формация о ценах, продуктах и складских запа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истема подачи заявок и резервирования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формация о состоянии зак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формация о доставке выполненных зак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терактивные торговые площ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52280" y="4800240"/>
            <a:ext cx="9601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Futuris"/>
              </a:rPr>
              <a:t>УПРАВЛЕНИЕ ОТНОШЕНИЯМИ С КЛИЕН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Futuris"/>
              </a:rPr>
              <a:t>Customer Relationship Management </a:t>
            </a:r>
            <a:r>
              <a:rPr b="1" lang="ru-RU" sz="3200" spc="-1" strike="noStrike">
                <a:solidFill>
                  <a:srgbClr val="ff3300"/>
                </a:solidFill>
                <a:latin typeface="Futuris"/>
              </a:rPr>
              <a:t>–</a:t>
            </a:r>
            <a:r>
              <a:rPr b="1" lang="en-US" sz="3200" spc="-1" strike="noStrike">
                <a:solidFill>
                  <a:srgbClr val="ff3300"/>
                </a:solidFill>
                <a:latin typeface="Futuris"/>
              </a:rPr>
              <a:t>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9448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ИНСТРУМЕНТАРИЙ ДЛЯ СОЗДАНИЯ КОРПОРАТИВНЫХ ПОРТАЛОВ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Corporate Portal (Plumtree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Brio.Portal (Brio Technolo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DataChannel Server (Data Chan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EIP (Hummingbi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Epicentric Foundation Server (Epicentr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mySAP Enterprise Portals (S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Oracle9iAS Portal (Ora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WebSphere Portal (I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Futuris"/>
              </a:rPr>
              <a:t>РАСХОДЫ НА ПОСТРОЕНИЕ КОРПОРАТИВНОГО ПОРТАЛА</a:t>
            </a:r>
            <a:endParaRPr b="0" lang="en-US" sz="3800" spc="-1" strike="noStrike">
              <a:solidFill>
                <a:srgbClr val="6600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52480" y="1600200"/>
          <a:ext cx="6400800" cy="39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640080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2209680" y="562284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По данным Delphi Group, 2001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ТИПОВЫЕ ПРОБЛЕМЫ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Futuris"/>
              </a:rPr>
              <a:t>ОБУСЛОВЛЕННЫЕ СУЩЕСТВУЮЩЕЙ НА ПРЕДПРИЯТИИ ИНФОРМАЦИОННОЙ СРЕДОЙ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9067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эксплуатация нескольких операционных систем вызывает необходимость проведения кросс-платформной интег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старые и унаследованные базы данных, построенные на базе архитектуры файлового сервера, не всегда могут быть интегрированы в пор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приложения, прежде всего написанные сторонними разработчиками и небольшими фирмами, могут не иметь </a:t>
            </a: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Web</a:t>
            </a: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-интерфейсов и (или) документированных API-интерфейсов, что затрудняет их интегр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uturis"/>
              </a:rPr>
              <a:t>БАЗОВЫЕ ПРИНЦИПЫ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Futuris"/>
              </a:rPr>
              <a:t>ИНТЕГРАЦИИ КОРПОРАТИВНЫХ ДАННЫХ И ПРИЛОЖЕНИЙ НА ОСНОВЕ </a:t>
            </a:r>
            <a:r>
              <a:rPr b="1" lang="en-US" sz="2800" spc="-1" strike="noStrike">
                <a:solidFill>
                  <a:srgbClr val="ffffff"/>
                </a:solidFill>
                <a:latin typeface="Futuris"/>
              </a:rPr>
              <a:t>WEB</a:t>
            </a:r>
            <a:r>
              <a:rPr b="1" lang="ru-RU" sz="2800" spc="-1" strike="noStrike">
                <a:solidFill>
                  <a:srgbClr val="ffffff"/>
                </a:solidFill>
                <a:latin typeface="Futuris"/>
              </a:rPr>
              <a:t>-ТЕХНОЛОГИЙ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визуализация информации при помощи Web-брауз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масштабируемость, переносимость и открытость создаваемых решений, которые достигаются благодаря использованию XML/XSL и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возможность входа в портал из различных систем, в том числе территориально удал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обеспечение безопасности и защиты информации посредством централизованного доступа и разделения прав пользователей на стороне источников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04560" y="9907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Futuris"/>
              </a:rPr>
              <a:t>GELICON</a:t>
            </a:r>
            <a:r>
              <a:rPr b="1" lang="ru-RU" sz="46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Futuris"/>
              </a:rPr>
              <a:t>WEB</a:t>
            </a:r>
            <a:r>
              <a:rPr b="1" lang="ru-RU" sz="46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Futuris"/>
              </a:rPr>
              <a:t>APPLICATION</a:t>
            </a:r>
            <a:r>
              <a:rPr b="1" lang="ru-RU" sz="46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Futuris"/>
              </a:rPr>
              <a:t>SERVER (GWAS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uturis"/>
              </a:rPr>
              <a:t>КАК ТЕХНОЛОГИЧЕСКАЯ ПЛАТФ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uturis"/>
              </a:rPr>
              <a:t>ДЛЯ РАЗРАБО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uturis"/>
              </a:rPr>
              <a:t>ПРИКЛАДНЫХ </a:t>
            </a:r>
            <a:r>
              <a:rPr b="1" lang="en-AU" sz="3200" spc="-1" strike="noStrike">
                <a:solidFill>
                  <a:srgbClr val="000000"/>
                </a:solidFill>
                <a:latin typeface="Futuris"/>
              </a:rPr>
              <a:t>INTERNE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Futuris"/>
              </a:rPr>
              <a:t>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92962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uturis"/>
              </a:rPr>
              <a:t>ТЕХНОЛОГИЧЕСКИЕ ПРЕИМУЩЕСТВА </a:t>
            </a:r>
            <a:r>
              <a:rPr b="1" lang="en-US" sz="3200" spc="-1" strike="noStrike">
                <a:solidFill>
                  <a:srgbClr val="ffffff"/>
                </a:solidFill>
                <a:latin typeface="Futuris"/>
              </a:rPr>
              <a:t>GWAS</a:t>
            </a:r>
            <a:endParaRPr b="0" lang="en-US" sz="32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944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возможность интеграции данных и приложений независимо от размещения и форматов хранения информации (локальные базы данных, удаленные оперативные источники XML-данных и неоперативные источники данных в виде XML-фай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динамическая сборка </a:t>
            </a: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Web</a:t>
            </a: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-страниц путем интерпретации гетерогенных данных (статические HTML-документы, шаблоны на языке XML, документы XSLT с шаблоном преобразования, программный код на </a:t>
            </a:r>
            <a:r>
              <a:rPr b="1" lang="en-AU" sz="2000" spc="-1" strike="noStrike">
                <a:solidFill>
                  <a:srgbClr val="000000"/>
                </a:solidFill>
                <a:latin typeface="Futuris"/>
              </a:rPr>
              <a:t>Java</a:t>
            </a: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 или поток байтов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интеграция с инструментарием системы Капитал </a:t>
            </a: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CSE</a:t>
            </a:r>
            <a:r>
              <a:rPr b="1" lang="ru-RU" sz="2000" spc="-1" strike="noStrike" baseline="30000">
                <a:solidFill>
                  <a:srgbClr val="000000"/>
                </a:solidFill>
                <a:latin typeface="Futuris"/>
              </a:rPr>
              <a:t>©</a:t>
            </a: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 вер. 3.0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эффективное управление потоком соединений и использование механизмов администрирования прав пользователей на стороне источников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Корпоративный информационный портал (</a:t>
            </a:r>
            <a:r>
              <a:rPr b="1" lang="en-US" sz="2600" spc="-1" strike="noStrike">
                <a:solidFill>
                  <a:srgbClr val="ffffff"/>
                </a:solidFill>
                <a:latin typeface="Futuris"/>
              </a:rPr>
              <a:t>Enterprise</a:t>
            </a: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Futuris"/>
              </a:rPr>
              <a:t>Information</a:t>
            </a: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Futuris"/>
              </a:rPr>
              <a:t>Portal</a:t>
            </a: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 – </a:t>
            </a:r>
            <a:r>
              <a:rPr b="1" lang="en-US" sz="2600" spc="-1" strike="noStrike">
                <a:solidFill>
                  <a:srgbClr val="ffffff"/>
                </a:solidFill>
                <a:latin typeface="Futuris"/>
              </a:rPr>
              <a:t>EIP</a:t>
            </a: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) является мощным инструментом интеграции информационных ресурсов, который многократно повышает эффективность управления предприятием</a:t>
            </a:r>
            <a:endParaRPr b="0" lang="en-US" sz="2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200400"/>
            <a:ext cx="8420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uturis"/>
              </a:rPr>
              <a:t>С технологической точки зрения портал представляет собой совокупность </a:t>
            </a:r>
            <a:r>
              <a:rPr b="1" lang="en-US" sz="2600" spc="-1" strike="noStrike">
                <a:solidFill>
                  <a:srgbClr val="000000"/>
                </a:solidFill>
                <a:latin typeface="Futuris"/>
              </a:rPr>
              <a:t>Web</a:t>
            </a:r>
            <a:r>
              <a:rPr b="1" lang="ru-RU" sz="2600" spc="-1" strike="noStrike">
                <a:solidFill>
                  <a:srgbClr val="000000"/>
                </a:solidFill>
                <a:latin typeface="Futuris"/>
              </a:rPr>
              <a:t>-интерфейсов, которые обеспечивают единообразный доступ к корпоративным данным и программам через локальные и глобальные се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6012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Futuris"/>
              </a:rPr>
              <a:t>Шишляев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Futuris"/>
              </a:rPr>
              <a:t>Виктор Валерьевич</a:t>
            </a:r>
            <a:endParaRPr b="0" lang="en-US" sz="6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uturis"/>
              </a:rPr>
              <a:t>Генеральный директ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uturis"/>
              </a:rPr>
              <a:t>ЗАО Геликон Пр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4191120"/>
            <a:ext cx="9219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тел.: (3422) 103-101, 103-178, 103-76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E-mail: svv@gelicon.perm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www. </a:t>
            </a: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gelicon.perm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982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is"/>
              </a:rPr>
              <a:t>ПЕРСПЕКТИВЫ КОРПОРАТИВНЫХ ПОРТАЛОВ</a:t>
            </a:r>
            <a:endParaRPr b="0" lang="en-US" sz="32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uturis"/>
              </a:rPr>
              <a:t>по оценкам компании Meta Group к 2003 г. 60% компаний из Fortune 500 будут использовать корпоративный портал в качестве инструмента поддержки принятия решений, совершенствования информационных потоков и развития электронной коммерции типа B2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uturis"/>
              </a:rPr>
              <a:t>по результатам опросов руководителей </a:t>
            </a: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IT</a:t>
            </a:r>
            <a:r>
              <a:rPr b="1" lang="ru-RU" sz="2200" spc="-1" strike="noStrike">
                <a:solidFill>
                  <a:srgbClr val="000000"/>
                </a:solidFill>
                <a:latin typeface="Futuris"/>
              </a:rPr>
              <a:t>-подразделений на сегодняшний день почти 60% крупнейших предприятий России из числа участников рейтинга </a:t>
            </a: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Top</a:t>
            </a:r>
            <a:r>
              <a:rPr b="1" lang="ru-RU" sz="2200" spc="-1" strike="noStrike">
                <a:solidFill>
                  <a:srgbClr val="000000"/>
                </a:solidFill>
                <a:latin typeface="Futuris"/>
              </a:rPr>
              <a:t>-100 одной из своих первоочередных задач считают создание корпоративного информационного порт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752480"/>
            <a:ext cx="94489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Повышение эффективности работы сотруд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" action="ppaction://hlinksldjump"/>
              </a:rPr>
              <a:t>Улучшение корпоративного взаимо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Управление корпоративными зна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тимизация процесса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тимизация инвестиций в информационные ресур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Единая платформа для ведения электронного бизн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ПРЕИМУЩЕСТВА ОТ СОЗДАНИЯ КОРПОРАТИВНОГО ПОРТАЛА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296280" y="62485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3794"/>
                </a:moveTo>
                <a:lnTo>
                  <a:pt x="17815" y="10800"/>
                </a:lnTo>
                <a:lnTo>
                  <a:pt x="380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92199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ПОВЫШЕНИЕ ЭФФЕКТИВНОСТИ РАБОТЫ СОТРУДНИКОВ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0" y="2133720"/>
          <a:ext cx="2085840" cy="29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133720"/>
                    <a:ext cx="2085840" cy="29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2971800"/>
            <a:ext cx="533412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корпоративные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нормативные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деловая пере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электронная почта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техническая докуме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есурсы сети </a:t>
            </a:r>
            <a:r>
              <a:rPr b="1" lang="en-AU" sz="2400" spc="-1" strike="noStrike">
                <a:solidFill>
                  <a:srgbClr val="000000"/>
                </a:solidFill>
                <a:latin typeface="Futuris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96280" y="62485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09480" y="1981080"/>
            <a:ext cx="6096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УНИФИЦИРОВАННЫЙ ДОСТУ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 ИНФОРМАЦИОННЫМ РЕСУРС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220320" y="62485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9601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УЛУЧШЕНИЕ</a:t>
            </a:r>
            <a:br>
              <a:rPr sz="3800"/>
            </a:b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КОРПОРАТИВНОГО ВЗАИМОДЕЙСТВИЯ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038480" y="3276720"/>
          <a:ext cx="2210040" cy="18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276720"/>
                    <a:ext cx="2210040" cy="18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"/>
          <p:cNvGrpSpPr/>
          <p:nvPr/>
        </p:nvGrpSpPr>
        <p:grpSpPr>
          <a:xfrm>
            <a:off x="2104200" y="3809880"/>
            <a:ext cx="2006640" cy="2364840"/>
            <a:chOff x="2104200" y="3809880"/>
            <a:chExt cx="2006640" cy="2364840"/>
          </a:xfrm>
        </p:grpSpPr>
        <p:graphicFrame>
          <p:nvGraphicFramePr>
            <p:cNvPr id="130" name=""/>
            <p:cNvGraphicFramePr/>
            <p:nvPr/>
          </p:nvGraphicFramePr>
          <p:xfrm>
            <a:off x="2361960" y="3809880"/>
            <a:ext cx="1680840" cy="1981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61960" y="3809880"/>
                      <a:ext cx="16808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" name=""/>
            <p:cNvSpPr/>
            <p:nvPr/>
          </p:nvSpPr>
          <p:spPr>
            <a:xfrm>
              <a:off x="2104200" y="5715000"/>
              <a:ext cx="200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акционер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3962520"/>
            <a:ext cx="1959480" cy="2212200"/>
            <a:chOff x="6019920" y="3962520"/>
            <a:chExt cx="1959480" cy="2212200"/>
          </a:xfrm>
        </p:grpSpPr>
        <p:graphicFrame>
          <p:nvGraphicFramePr>
            <p:cNvPr id="134" name=""/>
            <p:cNvGraphicFramePr/>
            <p:nvPr/>
          </p:nvGraphicFramePr>
          <p:xfrm>
            <a:off x="6019920" y="3962520"/>
            <a:ext cx="1904760" cy="1865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19920" y="3962520"/>
                      <a:ext cx="1904760" cy="18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6219720" y="5715000"/>
              <a:ext cx="17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партнер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550280" y="1981080"/>
            <a:ext cx="2198520" cy="2745720"/>
            <a:chOff x="7550280" y="1981080"/>
            <a:chExt cx="2198520" cy="2745720"/>
          </a:xfrm>
        </p:grpSpPr>
        <p:graphicFrame>
          <p:nvGraphicFramePr>
            <p:cNvPr id="138" name=""/>
            <p:cNvGraphicFramePr/>
            <p:nvPr/>
          </p:nvGraphicFramePr>
          <p:xfrm>
            <a:off x="8076960" y="1981080"/>
            <a:ext cx="936360" cy="2400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6960" y="1981080"/>
                      <a:ext cx="936360" cy="240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" name=""/>
            <p:cNvSpPr/>
            <p:nvPr/>
          </p:nvSpPr>
          <p:spPr>
            <a:xfrm>
              <a:off x="7550280" y="4267080"/>
              <a:ext cx="21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поставщ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662920" y="1219320"/>
            <a:ext cx="4509000" cy="2059920"/>
            <a:chOff x="2662920" y="1219320"/>
            <a:chExt cx="4509000" cy="2059920"/>
          </a:xfrm>
        </p:grpSpPr>
        <p:graphicFrame>
          <p:nvGraphicFramePr>
            <p:cNvPr id="142" name=""/>
            <p:cNvGraphicFramePr/>
            <p:nvPr/>
          </p:nvGraphicFramePr>
          <p:xfrm>
            <a:off x="3733920" y="1219320"/>
            <a:ext cx="2514600" cy="1581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733920" y="1219320"/>
                      <a:ext cx="2514600" cy="15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2662920" y="2819520"/>
              <a:ext cx="450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руководство и сотрудн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880" y="1752480"/>
            <a:ext cx="1795680" cy="3340080"/>
            <a:chOff x="380880" y="1752480"/>
            <a:chExt cx="1795680" cy="3340080"/>
          </a:xfrm>
        </p:grpSpPr>
        <p:graphicFrame>
          <p:nvGraphicFramePr>
            <p:cNvPr id="146" name=""/>
            <p:cNvGraphicFramePr/>
            <p:nvPr/>
          </p:nvGraphicFramePr>
          <p:xfrm>
            <a:off x="1066680" y="1752480"/>
            <a:ext cx="754200" cy="2590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066680" y="1752480"/>
                      <a:ext cx="754200" cy="25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380880" y="4267080"/>
              <a:ext cx="179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заказч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8581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УПРАВЛЕНИЕ</a:t>
            </a:r>
            <a:r>
              <a:rPr b="1" lang="en-US" sz="48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КОРПОРАТИВНЫМИ ЗНАНИЯМИ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64958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во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библиографические справ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но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метод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регла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аналитические обз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848720" y="1600200"/>
          <a:ext cx="1511280" cy="32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600200"/>
                    <a:ext cx="1511280" cy="32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9220320" y="62485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3160" y="5029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Futuris"/>
              </a:rPr>
              <a:t>ТЕХНОЛОГИЯ УПРАВЛЕНИЯ ЗНА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Futuris"/>
              </a:rPr>
              <a:t>Knowledge</a:t>
            </a:r>
            <a:r>
              <a:rPr b="1" lang="ru-RU" sz="3600" spc="-1" strike="noStrike">
                <a:solidFill>
                  <a:srgbClr val="ff3300"/>
                </a:solidFill>
                <a:latin typeface="Futuri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Futuris"/>
              </a:rPr>
              <a:t>Management </a:t>
            </a:r>
            <a:r>
              <a:rPr b="1" lang="ru-RU" sz="3600" spc="-1" strike="noStrike">
                <a:solidFill>
                  <a:srgbClr val="ff3300"/>
                </a:solidFill>
                <a:latin typeface="Futuris"/>
              </a:rPr>
              <a:t>–</a:t>
            </a:r>
            <a:r>
              <a:rPr b="1" lang="en-US" sz="3600" spc="-1" strike="noStrike">
                <a:solidFill>
                  <a:srgbClr val="ff3300"/>
                </a:solidFill>
                <a:latin typeface="Futuris"/>
              </a:rPr>
              <a:t> 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uturis"/>
              </a:rPr>
              <a:t>ОПТИМИЗАЦИЯ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Futuris"/>
              </a:rPr>
              <a:t>ПРОЦЕССА УПРАВЛЕНИЯ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5791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ТЕГРАЦИЯ ПОРТАЛА С ДРУГ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ОМПОНЕНТАМИ ИС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финансово-учетными систе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сбытовыми програм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хранилищами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системами электронного документообо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153280" y="1600200"/>
          <a:ext cx="115416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1600200"/>
                    <a:ext cx="115416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9296280" y="62485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676520" y="4038480"/>
            <a:ext cx="670536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ТКРЫВАЕТ НОВЫЕ ВОЗМОЖНОСТИ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анализа дел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сегментирования ры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позиционирования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прогнозирования и планирования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952524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ОПТИМИЗАЦИЯ ИНВЕСТИЦИЙ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В ИНФОРМАЦИОННЫЕ РЕСУРСЫ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экономия на клиентских лиценз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снижение требований к рабочим станц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экономия на обучении польз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повышение информацион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централизованное администрирование рабочих 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определение востребованности информационных ресур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934320" y="1752480"/>
          <a:ext cx="251460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752480"/>
                    <a:ext cx="251460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9296280" y="62485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" y="6248520"/>
          <a:ext cx="281952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248520"/>
                    <a:ext cx="28195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7T18:13:00Z</dcterms:created>
  <dc:creator>Виктор Шишляев</dc:creator>
  <dc:description/>
  <dc:language>en-US</dc:language>
  <cp:lastModifiedBy>В.В. Шишляев</cp:lastModifiedBy>
  <cp:lastPrinted>2002-12-01T16:20:33Z</cp:lastPrinted>
  <dcterms:modified xsi:type="dcterms:W3CDTF">2002-12-10T14:52:36Z</dcterms:modified>
  <cp:revision>309</cp:revision>
  <dc:subject/>
  <dc:title>ОСНОВНЫЕ НАПРАВЛЕНИЯ ДЕЯТЕЛЬНОСТИ АО ГЕЛИКОН ПРО</dc:title>
</cp:coreProperties>
</file>