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907588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774960" y="-3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  <a:defRPr b="0" i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93405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  <a:defRPr b="0" i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774960" y="9340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  <a:defRPr b="0" i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fld id="{A0E9D3DC-2B26-47EB-983B-4C488F69BA9A}" type="slidenum">
              <a:rPr b="0" i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недрение корпоративного портала и обеспечение доступа к нему внешних пользователей способствует укреплению деловых связей с заказчиками, партнерами, поставщиками и повышает качество обслуживания заказчиков и партнеров за счет предоставления им дополнительных возможностей и услу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440" y="4670280"/>
            <a:ext cx="5257800" cy="477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внутренних пользователей (руководителей и сотрудников предприятия) на основе корпоративного информационного портала может быть реализована следующая функциональнос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рпоративная библиотека технико-экономической, технологической, договорной или юридической документ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подачи заявок (например, на расходные материалы, автотранспорт, и т.п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авочник контактных реквизитов сотрудников предприят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ртотека существующих и потенциальных контрагент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ы внутренней отчетности для оперативного контроля и управления производством и проектами (отчеты по использованию рабочего времени сотрудников, выполнение календарных планов и графиков проектов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ханизмы совместной работы (форумы по различным проектам или направлениям деятельности предприятия, переговорные сессии для проведения оперативных совещаний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ужба технической поддержки пользователей компьютеров и оргтехники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k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личные новостные сервисы с персонифицированной доставкой и системой оповещения получателей (например, оперативные показатели финансовой и производственной деятельности предприятия, сводки деловой информации, корпоративные и региональные новости, прогноз погоды, меню столовой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внешних посетителей портала (поставщиков, партнеров и заказчиков) могут быть созданы механизмы, включающие себя информирование о ценах, продуктах, складских запасах, доставке и процессе выполнения заказов, а также решения типа "торговой площадки". Эти решения позволяют наладить совместное планирование и прогнозирование, скоординированное производство и управление дистрибуцией. Таким образом, корпоративный портал обеспечивает интеграцию традиционных учетных систем с приложениями для управления отношениями с клиентами (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Relationshi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зусловно, это далеко не полный перечень функциональных возможностей, которые могут быть реализованы в рамках корпоративного портала. Следует подчеркнуть, что развитие портала представляет собой динамический процесс, который неразрывно связан с процессом формализации информационных потоков предприятия. Соответственно, отдача от информационного портала будет увеличиваться по мере роста его функционального наполн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подсчетам аналитиков, на сегодняшний день инструменты для построения порталов выпускают уже более 200 компаний, причем с каждым днем предложений становится все больше и больш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рошлом году свои новые инициативы в этой области анонсировали такие гиганты рынка прикладного программного обеспечения как SAP, IBM и Microsoft. Они намерены составить конкуренцию компаниям Plumtree Software, DataChannel, Hummingbird и Epicentric, в значительной степени посвятившим себя разработке программного обеспечения для порта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ответственно, существует целый спектр продуктов — от готовых к работе инструментов до конфигурируемых решений, которые для обеспечения интеграции требуют серьезной настрой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ние корпоративного портал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ерьезный и довольно затратный проект. Стоимость вышеназванных портальных решений в среднем составляет от 100 до 500 долларов за одно рабочее мест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зарубежным данным,  на приобретение программного обеспечения небольшому предприятию придется затратить окол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000 долларов, среднему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от 500 000 до 1 миллиона долларов. Дополнительные затраты на сооружение порталов, согласно результатам опросов, составляют 100-300% от стоимости программного обеспе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оссии рынок портальных проектов сейчас находится в стадии формирования. Положительных и отрицательных примеров, на которые могли бы ориентироваться заказчики, пока совсем немного. Столь скромная практика отчасти объясняется невысоким уровнем автоматизации большинства российских компаний, которые еще не завершили первый «виток», связанный с построение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истем и хранилищ дан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этой причине важно заранее определить базовые принцип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-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теграции и проанализировать возможные технологические ре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оительство и внедрение корпоративного портала практически всегда сопряжено с рядом типовых проблем, обусловленных существующей на предприятии информационной средо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 в организации нескольких операционных систем вызывает необходимость проведения кросс-платформенной интегр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рые и "унаследованные" базы данных, построенные на базе архитектуры файлового сервера, не всегда могут быть интегрированы в порта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ложения, прежде всего написанные сторонними разработчиками и небольшими фирмами, могут не име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интерфейсов и (или) документированных API-интерфейсов, что затрудняет их интеграц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887400" y="4670280"/>
            <a:ext cx="4888080" cy="4702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настоящему моменту де-факто сложились следующие базовые принципы интеграции корпоративных данных и приложений на основ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технолог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зуализация информации при помощи Web-браузера, благодаря чему исчезает необходимость в установке и поддержке "тяжелых" клиентских прилож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сштабируемость, переносимость и открытость создаваемых решений, которые достигаются благодаря использованию XML/XSL и Java. Хранение и передача данных происходит с помощью языка XML, специально созданного для организации взаимодействия с различными приложениями. Формат данных в XML не зависит от способа его дальнейшей визуализации. За это отвечают хранимые отдельно файлы таблицы стилей XSL, которые преобразуют файлы XML для их представления в виде Web-страни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сть входа в портал из различных систем, в том числе территориально удале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еспечение безопасность и защита информации посредством централизованного доступа и разделения прав пользователей на стороне источников дан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пания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еликон Про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редставляет в качестве технологической платформы для разработки прикладных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решений свой новый продукт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WA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lic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ология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GWA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редставляет собой инструментальную прослойку, которая объединяет известные Internet-технологии в единую цепочку на основе использования открытых стандартов. Предлагаемый продукт ориентирован на Заказчиков, заинтересованных в интеграции данных и приложений на основе современных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-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ологий. Его применение позволяет повысить оперативность управления предприятием при сохранении надежности и конфиденциальности, присущих традиционным решениям на основе СУБ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887400" y="4670280"/>
            <a:ext cx="4888080" cy="4626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пользование технологии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GWA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дает следующие преимущест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сть интеграции данных и приложений независимо от размещения и форматов хранения информации. При этом в качестве источников данных, помимо базы данных системы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питал 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SE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©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могут использоваться другие локальные базы данных, удаленные оперативные источники XML-данных и неоперативные источники данных в виде XML-фай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намическая сборк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траниц путем интерпретации гетерогенных данных. Эти данные могут представлять собой статический HTML-документ, шаблон на языке XML (содержащий, например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запрос к базе данных), документ XSL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шаблоном преобразования, программный код на языке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Jav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ли поток байтов (который может интерпретироваться, как рисунок, звук, мультимеди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сная интеграция с инструментарием 39-й версии системы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питал 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SE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©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которая позволяет эффективно применять имеющиеся в системе механизмы разработки ресурсов, администрирования прав пользователей и аудита событий в базе дан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еспечение безопасности и защита информации за счет эффективного управления потоком соединений и использования механизмов администрирования прав пользователей на стороне источников дан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рпоративный информационный портал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terpri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 является мощным инструментом интеграции информационных ресурсов, который многократно повышает эффективность управления предприятием. Портал представляет собой совокупность технологий и программных средств, позволяющих компаниям "расконсервировать" информацию, которая возникает и накапливается как внутри, так и вне их границ. Одновременно, портал предоставляет каждому пользователю персонифицированное "окно" для просмотра всей информации, необходимой ему для принятия обоснованных управленческих ре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технологической точки зрения портал представляет собой совокуп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интерфейсов, которые обеспечивают единообразный доступ к корпоративным данным и программам через локальные и глобальные сети. В качестве терминала может быть использовано любое устройство с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браузером (стационарный или переносной компьютер), подключенное к корпоративной сети либо находящееся далеко за ее пределами. Порталы позволяют организовывать дополнительные сервисы, основанные на доступе к разнородным данным и приложениям с одно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транички. При этом пользователь может и не знать, с какими приложениями он работает, где и в каком формате хранятся предоставляемые ему данные и с помощью каких операционных систем они обрабатываю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440" y="4670280"/>
            <a:ext cx="5257800" cy="4702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ким образом, технология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GWA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 полной мере отвечает всем вышеназванным принципам и может использоваться в качестве инструментария для построения корпоративного информационного пор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ачестве примера рассмотрим систему подачи заявок на расходные материалы, реализованную на основе технологи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WA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В качестве источника данных используется база данных системы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питал 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SE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©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пользователей, участвующих в формировании и утверждении заявок, реализованы несложные с функциональной точки зр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интерфейсы. Перечень доступных для заказа расходных материалов формируется на основе информации из справочника ТМЦ. Сформированные заявки хранятся в одноименной таблице БД. Пользователи в статусе руководителей структурных подразделений наделяются доступом к функции утверждения заявок своих сотрудников. При этом права доступа определяются при помощи стандартных механизмов, реализованных в модуле «Администратор». Такой подход не требует инсталляции клиентских компонентов системы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питал 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SE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©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на рабочих местах всех сотрудников предприятия и, соответственно, не требует покупки клиентских лиценз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ьзователи в статусе работников отдела МТО обладают возможностью сформировать сводный заказ на приобретение расходных материалов. При этом они могут использовать хорошо структурированны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A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отчет, реализованный стандартными средствами модуля «Анализатор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асибо за внимание. Я готов ответить на Ваши вопро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оительство корпоративных порталов в настоящее время является одним из наиболее перспективных направлений в области информационных технологий. Так, аналитики  компани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 Group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читают, что к 2003 году 60% компаний из Fortune 500 будут использовать корпоративный портал в качестве инструмента поддержки принятия решений, совершенствования информационных потоков и развития электронной коммерции типа B2B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результатам опросов руководителе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подразделений на сегодняшний день почти 60% крупнейших предприятий России из числа участников рейтинг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100 одной из своих первоочередных задач считают создание корпоративного информационного пор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едрение корпоративного портала обеспечивает компании серьезные конкурентные преимущества. При этом, по оценкам компани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mtre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tware,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норма возврата инвестиций от внедрения корпоративного портала в среднем составляет 145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аспекты, определяющие экономические и организационные эффекты от построения портала, перечислены на этом слайде. Рассмотрим их более подроб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ши сотрудники ежедневно получают информацию из различных источников, таких как корпоративные информационные системы, периодические печатные издания, внутренние нормативные документы, деловая переписка, электронная почта, техническая документация и ресурсы сет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пользуя корпоративный портал, Вы и Ваши специалисты сможете получать необходимую информацию в предельно сжатые сроки непосредственно со своего рабочего места, независимо от его географического расположения и времени суток. Использование современных технологий позволит организовать целевую доставку информации и своевременное оповещение ее получателей, обеспечив при этом необходимый уровень конфиденциа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ртал играет роль центрального информационного ресурса для руководства и сотрудников компании, ее заказчиков, поставщиков, дистрибьюторов, партнеров и акционер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уководители  и сотрудник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олучают интегрированную внутреннюю и внешнюю информацию и доступ к корпоративным приложени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казчик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олучают информацию о выпускаемой компанией продукции, новые инструменты работы с ней. Анализ действий заказчиков при работе с порталом может помочь компании принимать более взвешенные маркетинговые ре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ставщик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олучают возможность повысить эффективность взаимодействия с компанией, оптимизировать объемы и время поставок. Таким образом, портал становится инструментом для планирования и прогнозирования расходования запасов и поставок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кционеры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помощью портала получают инструмент контроля над ключевыми параметрами деятельности организ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артнер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олучают более эффективный инструмент по обмену информацией. Через портал они имеют доступ к маркетинговой и технической документации, планам выпуска продукции и т.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пользование корпоративного портала позволит в полной мере применить управленческую технологию управления знаниями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ledg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, которая во всем мире признана наиболее эффективной формой взаимодействия сотрудников. Любой работник достаточно легко сможет найти и использовать различные отчеты, сводки, статьи, библиографические справочники, новости, методики, регламенты, аналитические обзоры и исследования, вне зависимости от того, где и кем они были созданы. Накопление и сортировка всей этой информации позволит создать и использовать "базу знаний" Вашей компании, охватывающую большую часть корпоративной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Интеграция корпоративного портала с другими компонентами информационной системы предприятия (финансово-учетные и сбытовые программы, хранилища данных, электронный документооборот и т.п.) открывает новые возможности анализа деловой информации, сегментирования рынка и позиционирования, планирования и прогнозирования, выполнения ряда иных функций. Соответственно, менеджеры Вашей компании смогут принимать более эффективные решения, учитывающие все нюансы конкретной ситу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676440" y="743040"/>
            <a:ext cx="5308560" cy="3674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87400" y="4669920"/>
            <a:ext cx="4888080" cy="442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ртал – это интегрированное приложение, которое можно достаточно быстро внедрить и легко поддерживать, затрачивая при этом сравнительно скромные ресурсы по сравнению с системами со сходными функциями, но построенными на основе других концепций. Все это снижает издержки и повышает отдачу от вложений в информационную систему предприятия. Использование для визуализации информации "тонкого клиента" (обычн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браузера) позволяет экономить на обучении персонала и, одновременно, дает возможность не устанавливать клиентские приложения на множестве компьютеров. Сокращение затрат на приобретение и обслуживание клиентского ПО и оборудования – один из основных ресурсов снижения издержек при использовании корпоративного портала. Также важно упомянуть о минимизации затрат на аренду Internet-канала за счет того, что наиболее значительная часть информации, необходимой для пользователей портала, размещается в корпоративной се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DB25-D587-417F-B806-18A0BE640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3D02-2268-41AE-81ED-EC8112914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D013-06F5-4947-8431-2139ADF6B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2F8C-085E-4032-B823-C0245C8B5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8A7D4-4FB9-46B6-9731-07620EBB0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34776-692B-4C0E-872F-B7735FF45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DCA01-FF39-46E2-89A8-3517C1C3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DC8F6-2EB0-4B51-9748-B4EE64EEC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FB823-B83C-4979-A7B9-1954D615C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CEC4D-8A1D-42D1-B99A-6D68608FF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D0463-A25E-460A-9058-AD16A79F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B2EF-3829-47D5-9DB9-D148A6499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02B7E-7E81-4B25-A7FC-BBA98AD6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D9D99-C0AD-45AD-887D-753E8C14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FFF6E-3BBA-46F8-A43F-C2AC82F51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ECF78-1413-4454-ACC4-D2F20455E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09BCE-D531-4E42-A391-26680577C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3233-F282-47E5-9781-5E53CC7B5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DFC8-F1C3-4CDC-867E-2B88B40A4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0829-9907-433F-B849-6EFD22356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DA7E-B858-4430-82E7-AA244B4C5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80C1-64AA-4568-8014-63EBED55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458D-9B87-4B11-864E-A1C6ED1C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A65E-6D43-41B0-A460-CBE8A7AB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85400" cy="6173640"/>
            <a:chOff x="0" y="0"/>
            <a:chExt cx="918540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643800" cy="6173640"/>
            </a:xfrm>
            <a:custGeom>
              <a:avLst/>
              <a:gdLst/>
              <a:ahLst/>
              <a:rect l="l" t="t" r="r" b="b"/>
              <a:pathLst>
                <a:path w="4185" h="3889">
                  <a:moveTo>
                    <a:pt x="4184" y="3418"/>
                  </a:moveTo>
                  <a:lnTo>
                    <a:pt x="495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676" y="3888"/>
                  </a:lnTo>
                  <a:lnTo>
                    <a:pt x="4184" y="3418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479600" y="0"/>
              <a:ext cx="5835600" cy="5116680"/>
            </a:xfrm>
            <a:custGeom>
              <a:avLst/>
              <a:gdLst/>
              <a:ahLst/>
              <a:rect l="l" t="t" r="r" b="b"/>
              <a:pathLst>
                <a:path w="3676" h="3223">
                  <a:moveTo>
                    <a:pt x="400" y="0"/>
                  </a:moveTo>
                  <a:lnTo>
                    <a:pt x="3675" y="3036"/>
                  </a:lnTo>
                  <a:lnTo>
                    <a:pt x="3474" y="3222"/>
                  </a:lnTo>
                  <a:lnTo>
                    <a:pt x="0" y="0"/>
                  </a:lnTo>
                  <a:lnTo>
                    <a:pt x="40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760920" y="0"/>
              <a:ext cx="4916520" cy="4057560"/>
            </a:xfrm>
            <a:custGeom>
              <a:avLst/>
              <a:gdLst/>
              <a:ahLst/>
              <a:rect l="l" t="t" r="r" b="b"/>
              <a:pathLst>
                <a:path w="3097" h="2556">
                  <a:moveTo>
                    <a:pt x="682" y="0"/>
                  </a:moveTo>
                  <a:lnTo>
                    <a:pt x="3096" y="2238"/>
                  </a:lnTo>
                  <a:lnTo>
                    <a:pt x="2754" y="2555"/>
                  </a:lnTo>
                  <a:lnTo>
                    <a:pt x="0" y="0"/>
                  </a:lnTo>
                  <a:lnTo>
                    <a:pt x="682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254560" y="0"/>
              <a:ext cx="3930840" cy="3367080"/>
            </a:xfrm>
            <a:custGeom>
              <a:avLst/>
              <a:gdLst/>
              <a:ahLst/>
              <a:rect l="l" t="t" r="r" b="b"/>
              <a:pathLst>
                <a:path w="2476" h="2121">
                  <a:moveTo>
                    <a:pt x="0" y="0"/>
                  </a:moveTo>
                  <a:lnTo>
                    <a:pt x="2286" y="2120"/>
                  </a:lnTo>
                  <a:lnTo>
                    <a:pt x="2475" y="1945"/>
                  </a:lnTo>
                  <a:lnTo>
                    <a:pt x="376" y="0"/>
                  </a:lnTo>
                  <a:lnTo>
                    <a:pt x="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6600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A8F1-6691-42DE-B11C-C23E7AB2C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9185400" cy="6173640"/>
            <a:chOff x="0" y="0"/>
            <a:chExt cx="918540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643800" cy="6173640"/>
            </a:xfrm>
            <a:custGeom>
              <a:avLst/>
              <a:gdLst/>
              <a:ahLst/>
              <a:rect l="l" t="t" r="r" b="b"/>
              <a:pathLst>
                <a:path w="4185" h="3889">
                  <a:moveTo>
                    <a:pt x="4184" y="3418"/>
                  </a:moveTo>
                  <a:lnTo>
                    <a:pt x="495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676" y="3888"/>
                  </a:lnTo>
                  <a:lnTo>
                    <a:pt x="4184" y="3418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479600" y="0"/>
              <a:ext cx="5835600" cy="5116680"/>
            </a:xfrm>
            <a:custGeom>
              <a:avLst/>
              <a:gdLst/>
              <a:ahLst/>
              <a:rect l="l" t="t" r="r" b="b"/>
              <a:pathLst>
                <a:path w="3676" h="3223">
                  <a:moveTo>
                    <a:pt x="400" y="0"/>
                  </a:moveTo>
                  <a:lnTo>
                    <a:pt x="3675" y="3036"/>
                  </a:lnTo>
                  <a:lnTo>
                    <a:pt x="3474" y="3222"/>
                  </a:lnTo>
                  <a:lnTo>
                    <a:pt x="0" y="0"/>
                  </a:lnTo>
                  <a:lnTo>
                    <a:pt x="40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760920" y="0"/>
              <a:ext cx="4916520" cy="4057560"/>
            </a:xfrm>
            <a:custGeom>
              <a:avLst/>
              <a:gdLst/>
              <a:ahLst/>
              <a:rect l="l" t="t" r="r" b="b"/>
              <a:pathLst>
                <a:path w="3097" h="2556">
                  <a:moveTo>
                    <a:pt x="682" y="0"/>
                  </a:moveTo>
                  <a:lnTo>
                    <a:pt x="3096" y="2238"/>
                  </a:lnTo>
                  <a:lnTo>
                    <a:pt x="2754" y="2555"/>
                  </a:lnTo>
                  <a:lnTo>
                    <a:pt x="0" y="0"/>
                  </a:lnTo>
                  <a:lnTo>
                    <a:pt x="682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54560" y="0"/>
              <a:ext cx="3930840" cy="3367080"/>
            </a:xfrm>
            <a:custGeom>
              <a:avLst/>
              <a:gdLst/>
              <a:ahLst/>
              <a:rect l="l" t="t" r="r" b="b"/>
              <a:pathLst>
                <a:path w="2476" h="2121">
                  <a:moveTo>
                    <a:pt x="0" y="0"/>
                  </a:moveTo>
                  <a:lnTo>
                    <a:pt x="2286" y="2120"/>
                  </a:lnTo>
                  <a:lnTo>
                    <a:pt x="2475" y="1945"/>
                  </a:lnTo>
                  <a:lnTo>
                    <a:pt x="376" y="0"/>
                  </a:lnTo>
                  <a:lnTo>
                    <a:pt x="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1142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8E658-0F96-46CE-AF30-F1E1C0318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00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3.xml"/><Relationship Id="rId1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-360" y="1142640"/>
            <a:ext cx="9885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uturis"/>
              </a:rPr>
              <a:t>ПОСТРО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uturis"/>
              </a:rPr>
              <a:t>КОРПОРАТИВН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uturis"/>
              </a:rPr>
              <a:t>ИНФОРМАЦИОННОГО ПОРТА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uturis"/>
              </a:rPr>
              <a:t>ПРЕДПРИЯ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52280" y="6248520"/>
          <a:ext cx="2819520" cy="4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248520"/>
                    <a:ext cx="281952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uturis"/>
              </a:rPr>
              <a:t>ЕДИНАЯ ПЛАТФОРМА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Futuris"/>
              </a:rPr>
              <a:t>ДЛЯ ЭЛЕКТРОННОГО БИЗНЕСА</a:t>
            </a:r>
            <a:endParaRPr b="0" lang="en-US" sz="40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2209320"/>
            <a:ext cx="96012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22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uturis"/>
              </a:rPr>
              <a:t>предоставление дополнительных услу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22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uturis"/>
              </a:rPr>
              <a:t>улучшение качества обслужив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22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uturis"/>
              </a:rPr>
              <a:t>увеличение скорости выполнения заказ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22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uturis"/>
              </a:rPr>
              <a:t>укрепление деловых связей с заказчиками и поставщик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6934320" y="1600200"/>
          <a:ext cx="2835000" cy="28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600200"/>
                    <a:ext cx="2835000" cy="28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9220320" y="624852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Futuris"/>
              </a:rPr>
              <a:t>ФУНКЦИОНАЛЬНОЕ НАПОЛНЕНИЕ КОРПОРАТИВНОГО ПОРТАЛА</a:t>
            </a:r>
            <a:endParaRPr b="0" lang="en-US" sz="6000" spc="-1" strike="noStrike">
              <a:solidFill>
                <a:srgbClr val="6600ff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8420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ДЛЯ СОТРУДНИКОВ ПРЕДПРИЯТИЯ</a:t>
            </a:r>
            <a:endParaRPr b="0" lang="en-US" sz="36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92962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uturis"/>
              </a:rPr>
              <a:t>корпоративная библиотека финансовой, технологической, договорной, юридической докумен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uturis"/>
              </a:rPr>
              <a:t>система подачи заявок (на расходные материалы, автотранспорт, и т.п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uturis"/>
              </a:rPr>
              <a:t>справочник контактных реквизитов сотрудников пред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uturis"/>
              </a:rPr>
              <a:t>картотека существующих и потенциальных контраг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uturis"/>
              </a:rPr>
              <a:t>формы внутренней отчетности для оперативного контроля и управления производством и проектами (отчеты по использованию рабочего времени, исполнение календарных планов и графиков проект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uturis"/>
              </a:rPr>
              <a:t>механизмы совместной работы (форумы по различным проектам или направлениям деятельности предприятия, переговорные сессии для проведения оперативных совещан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uturis"/>
              </a:rPr>
              <a:t>служба технической поддержки пользователей (</a:t>
            </a:r>
            <a:r>
              <a:rPr b="1" lang="en-US" sz="1800" spc="-1" strike="noStrike">
                <a:solidFill>
                  <a:srgbClr val="000000"/>
                </a:solidFill>
                <a:latin typeface="Futuris"/>
              </a:rPr>
              <a:t>Help</a:t>
            </a:r>
            <a:r>
              <a:rPr b="1" lang="ru-RU" sz="1800" spc="-1" strike="noStrike">
                <a:solidFill>
                  <a:srgbClr val="000000"/>
                </a:solidFill>
                <a:latin typeface="Futuri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Futuris"/>
              </a:rPr>
              <a:t>Desk</a:t>
            </a:r>
            <a:r>
              <a:rPr b="1" lang="ru-RU" sz="1800" spc="-1" strike="noStrike">
                <a:solidFill>
                  <a:srgbClr val="000000"/>
                </a:solidFill>
                <a:latin typeface="Futuri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uturis"/>
              </a:rPr>
              <a:t>различные новостные сервисы с персонифицированной доставкой (оперативные показатели финансовой и производственной деятельности предприятия, сводки деловой информации, корпоративные и региональные новости, прогноз погоды, меню столово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9525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ДЛЯ ВНЕШНИХ ПОСЕТИТЕЛЕЙ </a:t>
            </a:r>
            <a:r>
              <a:rPr b="1" lang="en-US" sz="3000" spc="-1" strike="noStrike">
                <a:solidFill>
                  <a:srgbClr val="ffffff"/>
                </a:solidFill>
                <a:latin typeface="Futuris"/>
              </a:rPr>
              <a:t>ПОСТАВЩИКОВ, ПАРТНЕРОВ И ЗАКАЗЧИКОВ</a:t>
            </a:r>
            <a:endParaRPr b="0" lang="en-US" sz="30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91440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информация о ценах, продуктах и складских запас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система подачи заявок и резервирования това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информация о состоянии заказ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информация о доставке выполненных заказ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интерактивные торговые площад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152280" y="4800240"/>
            <a:ext cx="96012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3300"/>
                </a:solidFill>
                <a:latin typeface="Futuris"/>
              </a:rPr>
              <a:t>УПРАВЛЕНИЕ ОТНОШЕНИЯМИ С КЛИЕНТ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Futuris"/>
              </a:rPr>
              <a:t>Customer Relationship Management </a:t>
            </a:r>
            <a:r>
              <a:rPr b="1" lang="ru-RU" sz="3200" spc="-1" strike="noStrike">
                <a:solidFill>
                  <a:srgbClr val="ff3300"/>
                </a:solidFill>
                <a:latin typeface="Futuris"/>
              </a:rPr>
              <a:t>–</a:t>
            </a:r>
            <a:r>
              <a:rPr b="1" lang="en-US" sz="3200" spc="-1" strike="noStrike">
                <a:solidFill>
                  <a:srgbClr val="ff3300"/>
                </a:solidFill>
                <a:latin typeface="Futuris"/>
              </a:rPr>
              <a:t> C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94489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uturis"/>
              </a:rPr>
              <a:t>ИНСТРУМЕНТАРИЙ ДЛЯ СОЗДАНИЯ КОРПОРАТИВНЫХ ПОРТАЛОВ</a:t>
            </a:r>
            <a:endParaRPr b="0" lang="en-US" sz="40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71240" y="16765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Corporate Portal (Plumtree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Brio.Portal (Brio Technolog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DataChannel Server (Data Chann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EIP (Hummingbir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Epicentric Foundation Server (Epicentr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mySAP Enterprise Portals (S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Oracle9iAS Portal (Orac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WebSphere Portal (IB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Futuris"/>
              </a:rPr>
              <a:t>РАСХОДЫ НА ПОСТРОЕНИЕ КОРПОРАТИВНОГО ПОРТАЛА</a:t>
            </a:r>
            <a:endParaRPr b="0" lang="en-US" sz="3800" spc="-1" strike="noStrike">
              <a:solidFill>
                <a:srgbClr val="6600ff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752480" y="1600200"/>
          <a:ext cx="6400800" cy="39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00200"/>
                    <a:ext cx="6400800" cy="39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2209680" y="562284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uturis"/>
              </a:rPr>
              <a:t>По данным Delphi Group, 2001 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ТИПОВЫЕ ПРОБЛЕМЫ</a:t>
            </a:r>
            <a:br>
              <a:rPr sz="3200"/>
            </a:br>
            <a:r>
              <a:rPr b="1" lang="en-US" sz="2800" spc="-1" strike="noStrike">
                <a:solidFill>
                  <a:srgbClr val="ffffff"/>
                </a:solidFill>
                <a:latin typeface="Futuris"/>
              </a:rPr>
              <a:t>ОБУСЛОВЛЕННЫЕ СУЩЕСТВУЮЩЕЙ НА ПРЕДПРИЯТИИ ИНФОРМАЦИОННОЙ СРЕДОЙ</a:t>
            </a:r>
            <a:endParaRPr b="0" lang="en-US" sz="28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90676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uturis"/>
              </a:rPr>
              <a:t>эксплуатация нескольких операционных систем вызывает необходимость проведения кросс-платформной интег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uturis"/>
              </a:rPr>
              <a:t>старые и унаследованные базы данных, построенные на базе архитектуры файлового сервера, не всегда могут быть интегрированы в порт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uturis"/>
              </a:rPr>
              <a:t>приложения, прежде всего написанные сторонними разработчиками и небольшими фирмами, могут не иметь </a:t>
            </a:r>
            <a:r>
              <a:rPr b="1" lang="en-US" sz="2000" spc="-1" strike="noStrike">
                <a:solidFill>
                  <a:srgbClr val="000000"/>
                </a:solidFill>
                <a:latin typeface="Futuris"/>
              </a:rPr>
              <a:t>Web</a:t>
            </a:r>
            <a:r>
              <a:rPr b="1" lang="ru-RU" sz="2000" spc="-1" strike="noStrike">
                <a:solidFill>
                  <a:srgbClr val="000000"/>
                </a:solidFill>
                <a:latin typeface="Futuris"/>
              </a:rPr>
              <a:t>-интерфейсов и (или) документированных API-интерфейсов, что затрудняет их интеграц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9917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Futuris"/>
              </a:rPr>
              <a:t>БАЗОВЫЕ ПРИНЦИПЫ</a:t>
            </a:r>
            <a:br>
              <a:rPr sz="4000"/>
            </a:br>
            <a:r>
              <a:rPr b="1" lang="ru-RU" sz="2800" spc="-1" strike="noStrike">
                <a:solidFill>
                  <a:srgbClr val="ffffff"/>
                </a:solidFill>
                <a:latin typeface="Futuris"/>
              </a:rPr>
              <a:t>ИНТЕГРАЦИИ КОРПОРАТИВНЫХ ДАННЫХ И ПРИЛОЖЕНИЙ НА ОСНОВЕ </a:t>
            </a:r>
            <a:r>
              <a:rPr b="1" lang="en-US" sz="2800" spc="-1" strike="noStrike">
                <a:solidFill>
                  <a:srgbClr val="ffffff"/>
                </a:solidFill>
                <a:latin typeface="Futuris"/>
              </a:rPr>
              <a:t>WEB</a:t>
            </a:r>
            <a:r>
              <a:rPr b="1" lang="ru-RU" sz="2800" spc="-1" strike="noStrike">
                <a:solidFill>
                  <a:srgbClr val="ffffff"/>
                </a:solidFill>
                <a:latin typeface="Futuris"/>
              </a:rPr>
              <a:t>-ТЕХНОЛОГИЙ</a:t>
            </a:r>
            <a:endParaRPr b="0" lang="en-US" sz="28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91440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uturis"/>
              </a:rPr>
              <a:t>визуализация информации при помощи Web-брауз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uturis"/>
              </a:rPr>
              <a:t>масштабируемость, переносимость и открытость создаваемых решений, которые достигаются благодаря использованию XML/XSL и 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uturis"/>
              </a:rPr>
              <a:t>возможность входа в портал из различных систем, в том числе территориально удале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uturis"/>
              </a:rPr>
              <a:t>обеспечение безопасности и защиты информации посредством централизованного доступа и разделения прав пользователей на стороне источников да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304560" y="990720"/>
            <a:ext cx="937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2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Futuris"/>
              </a:rPr>
              <a:t>GELICON</a:t>
            </a:r>
            <a:r>
              <a:rPr b="1" lang="ru-RU" sz="4600" spc="-1" strike="noStrike">
                <a:solidFill>
                  <a:srgbClr val="000000"/>
                </a:solidFill>
                <a:latin typeface="Futuris"/>
              </a:rPr>
              <a:t> </a:t>
            </a:r>
            <a:r>
              <a:rPr b="1" lang="en-US" sz="4600" spc="-1" strike="noStrike">
                <a:solidFill>
                  <a:srgbClr val="000000"/>
                </a:solidFill>
                <a:latin typeface="Futuris"/>
              </a:rPr>
              <a:t>WEB</a:t>
            </a:r>
            <a:r>
              <a:rPr b="1" lang="ru-RU" sz="4600" spc="-1" strike="noStrike">
                <a:solidFill>
                  <a:srgbClr val="000000"/>
                </a:solidFill>
                <a:latin typeface="Futuris"/>
              </a:rPr>
              <a:t> </a:t>
            </a:r>
            <a:r>
              <a:rPr b="1" lang="en-US" sz="4600" spc="-1" strike="noStrike">
                <a:solidFill>
                  <a:srgbClr val="000000"/>
                </a:solidFill>
                <a:latin typeface="Futuris"/>
              </a:rPr>
              <a:t>APPLICATION</a:t>
            </a:r>
            <a:r>
              <a:rPr b="1" lang="ru-RU" sz="4600" spc="-1" strike="noStrike">
                <a:solidFill>
                  <a:srgbClr val="000000"/>
                </a:solidFill>
                <a:latin typeface="Futuris"/>
              </a:rPr>
              <a:t> </a:t>
            </a:r>
            <a:r>
              <a:rPr b="1" lang="en-US" sz="4600" spc="-1" strike="noStrike">
                <a:solidFill>
                  <a:srgbClr val="000000"/>
                </a:solidFill>
                <a:latin typeface="Futuris"/>
              </a:rPr>
              <a:t>SERVER (GWAS)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uturis"/>
              </a:rPr>
              <a:t>КАК ТЕХНОЛОГИЧЕСКАЯ ПЛАТФОР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uturis"/>
              </a:rPr>
              <a:t>ДЛЯ РАЗРАБО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uturis"/>
              </a:rPr>
              <a:t>ПРИКЛАДНЫХ </a:t>
            </a:r>
            <a:r>
              <a:rPr b="1" lang="en-AU" sz="3200" spc="-1" strike="noStrike">
                <a:solidFill>
                  <a:srgbClr val="000000"/>
                </a:solidFill>
                <a:latin typeface="Futuris"/>
              </a:rPr>
              <a:t>INTERNET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3200" spc="-1" strike="noStrike">
                <a:solidFill>
                  <a:srgbClr val="000000"/>
                </a:solidFill>
                <a:latin typeface="Futuris"/>
              </a:rPr>
              <a:t>РЕШ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92962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uturis"/>
              </a:rPr>
              <a:t>ТЕХНОЛОГИЧЕСКИЕ ПРЕИМУЩЕСТВА </a:t>
            </a:r>
            <a:r>
              <a:rPr b="1" lang="en-US" sz="3200" spc="-1" strike="noStrike">
                <a:solidFill>
                  <a:srgbClr val="ffffff"/>
                </a:solidFill>
                <a:latin typeface="Futuris"/>
              </a:rPr>
              <a:t>GWAS</a:t>
            </a:r>
            <a:endParaRPr b="0" lang="en-US" sz="32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9448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uturis"/>
              </a:rPr>
              <a:t>возможность интеграции данных и приложений независимо от размещения и форматов хранения информации (локальные базы данных, удаленные оперативные источники XML-данных и неоперативные источники данных в виде XML-файл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uturis"/>
              </a:rPr>
              <a:t>динамическая сборка </a:t>
            </a:r>
            <a:r>
              <a:rPr b="1" lang="en-US" sz="2000" spc="-1" strike="noStrike">
                <a:solidFill>
                  <a:srgbClr val="000000"/>
                </a:solidFill>
                <a:latin typeface="Futuris"/>
              </a:rPr>
              <a:t>Web</a:t>
            </a:r>
            <a:r>
              <a:rPr b="1" lang="ru-RU" sz="2000" spc="-1" strike="noStrike">
                <a:solidFill>
                  <a:srgbClr val="000000"/>
                </a:solidFill>
                <a:latin typeface="Futuris"/>
              </a:rPr>
              <a:t>-страниц путем интерпретации гетерогенных данных (статические HTML-документы, шаблоны на языке XML, документы XSLT с шаблоном преобразования, программный код на </a:t>
            </a:r>
            <a:r>
              <a:rPr b="1" lang="en-AU" sz="2000" spc="-1" strike="noStrike">
                <a:solidFill>
                  <a:srgbClr val="000000"/>
                </a:solidFill>
                <a:latin typeface="Futuris"/>
              </a:rPr>
              <a:t>Java</a:t>
            </a:r>
            <a:r>
              <a:rPr b="1" lang="ru-RU" sz="2000" spc="-1" strike="noStrike">
                <a:solidFill>
                  <a:srgbClr val="000000"/>
                </a:solidFill>
                <a:latin typeface="Futuris"/>
              </a:rPr>
              <a:t> или поток байтов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uturis"/>
              </a:rPr>
              <a:t>интеграция с инструментарием системы Капитал </a:t>
            </a:r>
            <a:r>
              <a:rPr b="1" lang="en-US" sz="2000" spc="-1" strike="noStrike">
                <a:solidFill>
                  <a:srgbClr val="000000"/>
                </a:solidFill>
                <a:latin typeface="Futuris"/>
              </a:rPr>
              <a:t>CSE</a:t>
            </a:r>
            <a:r>
              <a:rPr b="1" lang="ru-RU" sz="2000" spc="-1" strike="noStrike" baseline="30000">
                <a:solidFill>
                  <a:srgbClr val="000000"/>
                </a:solidFill>
                <a:latin typeface="Futuris"/>
              </a:rPr>
              <a:t>©</a:t>
            </a:r>
            <a:r>
              <a:rPr b="1" lang="ru-RU" sz="2000" spc="-1" strike="noStrike">
                <a:solidFill>
                  <a:srgbClr val="000000"/>
                </a:solidFill>
                <a:latin typeface="Futuris"/>
              </a:rPr>
              <a:t> вер. 3.0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uturis"/>
              </a:rPr>
              <a:t>эффективное управление потоком соединений и использование механизмов администрирования прав пользователей на стороне источников да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42004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Futuris"/>
              </a:rPr>
              <a:t>Корпоративный информационный портал (</a:t>
            </a:r>
            <a:r>
              <a:rPr b="1" lang="en-US" sz="2600" spc="-1" strike="noStrike">
                <a:solidFill>
                  <a:srgbClr val="ffffff"/>
                </a:solidFill>
                <a:latin typeface="Futuris"/>
              </a:rPr>
              <a:t>Enterprise</a:t>
            </a:r>
            <a:r>
              <a:rPr b="1" lang="ru-RU" sz="2600" spc="-1" strike="noStrike">
                <a:solidFill>
                  <a:srgbClr val="ffffff"/>
                </a:solidFill>
                <a:latin typeface="Futuris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Futuris"/>
              </a:rPr>
              <a:t>Information</a:t>
            </a:r>
            <a:r>
              <a:rPr b="1" lang="ru-RU" sz="2600" spc="-1" strike="noStrike">
                <a:solidFill>
                  <a:srgbClr val="ffffff"/>
                </a:solidFill>
                <a:latin typeface="Futuris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Futuris"/>
              </a:rPr>
              <a:t>Portal</a:t>
            </a:r>
            <a:r>
              <a:rPr b="1" lang="ru-RU" sz="2600" spc="-1" strike="noStrike">
                <a:solidFill>
                  <a:srgbClr val="ffffff"/>
                </a:solidFill>
                <a:latin typeface="Futuris"/>
              </a:rPr>
              <a:t> – </a:t>
            </a:r>
            <a:r>
              <a:rPr b="1" lang="en-US" sz="2600" spc="-1" strike="noStrike">
                <a:solidFill>
                  <a:srgbClr val="ffffff"/>
                </a:solidFill>
                <a:latin typeface="Futuris"/>
              </a:rPr>
              <a:t>EIP</a:t>
            </a:r>
            <a:r>
              <a:rPr b="1" lang="ru-RU" sz="2600" spc="-1" strike="noStrike">
                <a:solidFill>
                  <a:srgbClr val="ffffff"/>
                </a:solidFill>
                <a:latin typeface="Futuris"/>
              </a:rPr>
              <a:t>) является мощным инструментом интеграции информационных ресурсов, который многократно повышает эффективность управления предприятием</a:t>
            </a:r>
            <a:endParaRPr b="0" lang="en-US" sz="26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3200400"/>
            <a:ext cx="8420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uturis"/>
              </a:rPr>
              <a:t>С технологической точки зрения портал представляет собой совокупность </a:t>
            </a:r>
            <a:r>
              <a:rPr b="1" lang="en-US" sz="2600" spc="-1" strike="noStrike">
                <a:solidFill>
                  <a:srgbClr val="000000"/>
                </a:solidFill>
                <a:latin typeface="Futuris"/>
              </a:rPr>
              <a:t>Web</a:t>
            </a:r>
            <a:r>
              <a:rPr b="1" lang="ru-RU" sz="2600" spc="-1" strike="noStrike">
                <a:solidFill>
                  <a:srgbClr val="000000"/>
                </a:solidFill>
                <a:latin typeface="Futuris"/>
              </a:rPr>
              <a:t>-интерфейсов, которые обеспечивают единообразный доступ к корпоративным данным и программам через локальные и глобальные сет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960120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Futuris"/>
              </a:rPr>
              <a:t>Шишляев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Futuris"/>
              </a:rPr>
              <a:t>Виктор Валерьевич</a:t>
            </a:r>
            <a:endParaRPr b="0" lang="en-US" sz="66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43000" y="2209320"/>
            <a:ext cx="76960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Futuris"/>
              </a:rPr>
              <a:t>Генеральный директо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Futuris"/>
              </a:rPr>
              <a:t>ЗАО Геликон Пр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04920" y="4191120"/>
            <a:ext cx="921996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Futuris"/>
              </a:rPr>
              <a:t>тел.: (3422) 103-101, 103-178, 103-76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Futuris"/>
              </a:rPr>
              <a:t>E-mail: svv@gelicon.perm.r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uturis"/>
              </a:rPr>
              <a:t>www. </a:t>
            </a:r>
            <a:r>
              <a:rPr b="1" lang="ru-RU" sz="3600" spc="-1" strike="noStrike">
                <a:solidFill>
                  <a:srgbClr val="000000"/>
                </a:solidFill>
                <a:latin typeface="Futuris"/>
              </a:rPr>
              <a:t>gelicon.perm.r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9829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uturis"/>
              </a:rPr>
              <a:t>ПЕРСПЕКТИВЫ КОРПОРАТИВНЫХ ПОРТАЛОВ</a:t>
            </a:r>
            <a:endParaRPr b="0" lang="en-US" sz="32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uturis"/>
              </a:rPr>
              <a:t>по оценкам компании Meta Group к 2003 г. 60% компаний из Fortune 500 будут использовать корпоративный портал в качестве инструмента поддержки принятия решений, совершенствования информационных потоков и развития электронной коммерции типа B2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uturis"/>
              </a:rPr>
              <a:t>по результатам опросов руководителей </a:t>
            </a:r>
            <a:r>
              <a:rPr b="1" lang="en-US" sz="2200" spc="-1" strike="noStrike">
                <a:solidFill>
                  <a:srgbClr val="000000"/>
                </a:solidFill>
                <a:latin typeface="Futuris"/>
              </a:rPr>
              <a:t>IT</a:t>
            </a:r>
            <a:r>
              <a:rPr b="1" lang="ru-RU" sz="2200" spc="-1" strike="noStrike">
                <a:solidFill>
                  <a:srgbClr val="000000"/>
                </a:solidFill>
                <a:latin typeface="Futuris"/>
              </a:rPr>
              <a:t>-подразделений на сегодняшний день почти 60% крупнейших предприятий России из числа участников рейтинга </a:t>
            </a:r>
            <a:r>
              <a:rPr b="1" lang="en-US" sz="2200" spc="-1" strike="noStrike">
                <a:solidFill>
                  <a:srgbClr val="000000"/>
                </a:solidFill>
                <a:latin typeface="Futuris"/>
              </a:rPr>
              <a:t>Top</a:t>
            </a:r>
            <a:r>
              <a:rPr b="1" lang="ru-RU" sz="2200" spc="-1" strike="noStrike">
                <a:solidFill>
                  <a:srgbClr val="000000"/>
                </a:solidFill>
                <a:latin typeface="Futuris"/>
              </a:rPr>
              <a:t>-100 одной из своих первоочередных задач считают создание корпоративного информационного порта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1752480"/>
            <a:ext cx="944892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ts val="2798"/>
              </a:lnSpc>
              <a:spcBef>
                <a:spcPts val="25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Повышение эффективности работы сотрудни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798"/>
              </a:lnSpc>
              <a:spcBef>
                <a:spcPts val="25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Futuris"/>
                <a:hlinkClick r:id="rId1" action="ppaction://hlinksldjump"/>
              </a:rPr>
              <a:t>Улучшение корпоративного взаимодейств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798"/>
              </a:lnSpc>
              <a:spcBef>
                <a:spcPts val="25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Управление корпоративными знания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798"/>
              </a:lnSpc>
              <a:spcBef>
                <a:spcPts val="25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Оптимизация процесса управ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798"/>
              </a:lnSpc>
              <a:spcBef>
                <a:spcPts val="25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Оптимизация инвестиций в информационные ресурс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ts val="2798"/>
              </a:lnSpc>
              <a:spcBef>
                <a:spcPts val="25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Единая платформа для ведения электронного бизне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94489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uturis"/>
              </a:rPr>
              <a:t>ПРЕИМУЩЕСТВА ОТ СОЗДАНИЯ КОРПОРАТИВНОГО ПОРТАЛА</a:t>
            </a:r>
            <a:endParaRPr b="0" lang="en-US" sz="40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296280" y="624852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3803" y="3794"/>
                </a:moveTo>
                <a:lnTo>
                  <a:pt x="17815" y="10800"/>
                </a:lnTo>
                <a:lnTo>
                  <a:pt x="3803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92199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uturis"/>
              </a:rPr>
              <a:t>ПОВЫШЕНИЕ ЭФФЕКТИВНОСТИ РАБОТЫ СОТРУДНИКОВ</a:t>
            </a:r>
            <a:endParaRPr b="0" lang="en-US" sz="4000" spc="-1" strike="noStrike">
              <a:solidFill>
                <a:srgbClr val="6600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858000" y="2133720"/>
          <a:ext cx="2085840" cy="293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2133720"/>
                    <a:ext cx="2085840" cy="29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120" y="2971800"/>
            <a:ext cx="533412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корпоративные Б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нормативные докум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деловая перепи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электронная почта</a:t>
            </a: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техническая документ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uturis"/>
              </a:rPr>
              <a:t>ресурсы сети </a:t>
            </a:r>
            <a:r>
              <a:rPr b="1" lang="en-AU" sz="2400" spc="-1" strike="noStrike">
                <a:solidFill>
                  <a:srgbClr val="000000"/>
                </a:solidFill>
                <a:latin typeface="Futuris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296280" y="624852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609480" y="1981080"/>
            <a:ext cx="60962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УНИФИЦИРОВАННЫЙ ДОСТУ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К ИНФОРМАЦИОННЫМ РЕСУРСА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9220320" y="624852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9601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УЛУЧШЕНИЕ</a:t>
            </a:r>
            <a:br>
              <a:rPr sz="3800"/>
            </a:br>
            <a:r>
              <a:rPr b="1" lang="en-US" sz="3600" spc="-1" strike="noStrike">
                <a:solidFill>
                  <a:srgbClr val="ffffff"/>
                </a:solidFill>
                <a:latin typeface="Futuris"/>
              </a:rPr>
              <a:t>КОРПОРАТИВНОГО ВЗАИМОДЕЙСТВИЯ</a:t>
            </a:r>
            <a:endParaRPr b="0" lang="en-US" sz="3600" spc="-1" strike="noStrike">
              <a:solidFill>
                <a:srgbClr val="6600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038480" y="3276720"/>
          <a:ext cx="2210040" cy="189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276720"/>
                    <a:ext cx="2210040" cy="18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9" name=""/>
          <p:cNvGrpSpPr/>
          <p:nvPr/>
        </p:nvGrpSpPr>
        <p:grpSpPr>
          <a:xfrm>
            <a:off x="2104200" y="3809880"/>
            <a:ext cx="2006640" cy="2364840"/>
            <a:chOff x="2104200" y="3809880"/>
            <a:chExt cx="2006640" cy="2364840"/>
          </a:xfrm>
        </p:grpSpPr>
        <p:graphicFrame>
          <p:nvGraphicFramePr>
            <p:cNvPr id="130" name=""/>
            <p:cNvGraphicFramePr/>
            <p:nvPr/>
          </p:nvGraphicFramePr>
          <p:xfrm>
            <a:off x="2361960" y="3809880"/>
            <a:ext cx="1680840" cy="1981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361960" y="3809880"/>
                      <a:ext cx="1680840" cy="1981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2" name=""/>
            <p:cNvSpPr/>
            <p:nvPr/>
          </p:nvSpPr>
          <p:spPr>
            <a:xfrm>
              <a:off x="2104200" y="5715000"/>
              <a:ext cx="200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Futuris"/>
                </a:rPr>
                <a:t>акционер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3962520"/>
            <a:ext cx="1959480" cy="2212200"/>
            <a:chOff x="6019920" y="3962520"/>
            <a:chExt cx="1959480" cy="2212200"/>
          </a:xfrm>
        </p:grpSpPr>
        <p:graphicFrame>
          <p:nvGraphicFramePr>
            <p:cNvPr id="134" name=""/>
            <p:cNvGraphicFramePr/>
            <p:nvPr/>
          </p:nvGraphicFramePr>
          <p:xfrm>
            <a:off x="6019920" y="3962520"/>
            <a:ext cx="1904760" cy="1865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019920" y="3962520"/>
                      <a:ext cx="1904760" cy="186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6" name=""/>
            <p:cNvSpPr/>
            <p:nvPr/>
          </p:nvSpPr>
          <p:spPr>
            <a:xfrm>
              <a:off x="6219720" y="5715000"/>
              <a:ext cx="175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Futuris"/>
                </a:rPr>
                <a:t>партнер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7550280" y="1981080"/>
            <a:ext cx="2198520" cy="2745720"/>
            <a:chOff x="7550280" y="1981080"/>
            <a:chExt cx="2198520" cy="2745720"/>
          </a:xfrm>
        </p:grpSpPr>
        <p:graphicFrame>
          <p:nvGraphicFramePr>
            <p:cNvPr id="138" name=""/>
            <p:cNvGraphicFramePr/>
            <p:nvPr/>
          </p:nvGraphicFramePr>
          <p:xfrm>
            <a:off x="8076960" y="1981080"/>
            <a:ext cx="936360" cy="24004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3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076960" y="1981080"/>
                      <a:ext cx="936360" cy="240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0" name=""/>
            <p:cNvSpPr/>
            <p:nvPr/>
          </p:nvSpPr>
          <p:spPr>
            <a:xfrm>
              <a:off x="7550280" y="4267080"/>
              <a:ext cx="219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Futuris"/>
                </a:rPr>
                <a:t>поставщик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2662920" y="1219320"/>
            <a:ext cx="4509000" cy="2059920"/>
            <a:chOff x="2662920" y="1219320"/>
            <a:chExt cx="4509000" cy="2059920"/>
          </a:xfrm>
        </p:grpSpPr>
        <p:graphicFrame>
          <p:nvGraphicFramePr>
            <p:cNvPr id="142" name=""/>
            <p:cNvGraphicFramePr/>
            <p:nvPr/>
          </p:nvGraphicFramePr>
          <p:xfrm>
            <a:off x="3733920" y="1219320"/>
            <a:ext cx="2514600" cy="1581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4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733920" y="1219320"/>
                      <a:ext cx="2514600" cy="158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4" name=""/>
            <p:cNvSpPr/>
            <p:nvPr/>
          </p:nvSpPr>
          <p:spPr>
            <a:xfrm>
              <a:off x="2662920" y="2819520"/>
              <a:ext cx="450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Futuris"/>
                </a:rPr>
                <a:t>руководство и сотрудник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880" y="1752480"/>
            <a:ext cx="1795680" cy="3340080"/>
            <a:chOff x="380880" y="1752480"/>
            <a:chExt cx="1795680" cy="3340080"/>
          </a:xfrm>
        </p:grpSpPr>
        <p:graphicFrame>
          <p:nvGraphicFramePr>
            <p:cNvPr id="146" name=""/>
            <p:cNvGraphicFramePr/>
            <p:nvPr/>
          </p:nvGraphicFramePr>
          <p:xfrm>
            <a:off x="1066680" y="1752480"/>
            <a:ext cx="754200" cy="25905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47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066680" y="1752480"/>
                      <a:ext cx="754200" cy="259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8" name=""/>
            <p:cNvSpPr/>
            <p:nvPr/>
          </p:nvSpPr>
          <p:spPr>
            <a:xfrm>
              <a:off x="380880" y="4267080"/>
              <a:ext cx="1795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Futuris"/>
                </a:rPr>
                <a:t>заказчик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49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8581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uturis"/>
              </a:rPr>
              <a:t>УПРАВЛЕНИЕ</a:t>
            </a:r>
            <a:r>
              <a:rPr b="1" lang="en-US" sz="4800" spc="-1" strike="noStrike">
                <a:solidFill>
                  <a:srgbClr val="ffffff"/>
                </a:solidFill>
                <a:latin typeface="Futuris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Futuris"/>
              </a:rPr>
              <a:t>КОРПОРАТИВНЫМИ ЗНАНИЯМИ</a:t>
            </a:r>
            <a:endParaRPr b="0" lang="en-US" sz="40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649584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отч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свод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стать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библиографические справоч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нов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метод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реглам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аналитические обз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7848720" y="1600200"/>
          <a:ext cx="1511280" cy="324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8720" y="1600200"/>
                    <a:ext cx="1511280" cy="32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9220320" y="624852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33160" y="5029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Futuris"/>
              </a:rPr>
              <a:t>ТЕХНОЛОГИЯ УПРАВЛЕНИЯ ЗНАНИ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Futuris"/>
              </a:rPr>
              <a:t>Knowledge</a:t>
            </a:r>
            <a:r>
              <a:rPr b="1" lang="ru-RU" sz="3600" spc="-1" strike="noStrike">
                <a:solidFill>
                  <a:srgbClr val="ff3300"/>
                </a:solidFill>
                <a:latin typeface="Futuris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Futuris"/>
              </a:rPr>
              <a:t>Management </a:t>
            </a:r>
            <a:r>
              <a:rPr b="1" lang="ru-RU" sz="3600" spc="-1" strike="noStrike">
                <a:solidFill>
                  <a:srgbClr val="ff3300"/>
                </a:solidFill>
                <a:latin typeface="Futuris"/>
              </a:rPr>
              <a:t>–</a:t>
            </a:r>
            <a:r>
              <a:rPr b="1" lang="en-US" sz="3600" spc="-1" strike="noStrike">
                <a:solidFill>
                  <a:srgbClr val="ff3300"/>
                </a:solidFill>
                <a:latin typeface="Futuris"/>
              </a:rPr>
              <a:t> K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uturis"/>
              </a:rPr>
              <a:t>ОПТИМИЗАЦИЯ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Futuris"/>
              </a:rPr>
              <a:t>ПРОЦЕССА УПРАВЛЕНИЯ</a:t>
            </a: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579132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ИНТЕГРАЦИЯ ПОРТАЛА С ДРУГИ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КОМПОНЕНТАМИ ИС ПРЕДПРИ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is"/>
              </a:rPr>
              <a:t>финансово-учетными систем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is"/>
              </a:rPr>
              <a:t>сбытовыми программ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is"/>
              </a:rPr>
              <a:t>хранилищами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is"/>
              </a:rPr>
              <a:t>системами электронного документообор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8153280" y="1600200"/>
          <a:ext cx="115416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53280" y="1600200"/>
                    <a:ext cx="115416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9296280" y="624852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1676520" y="4038480"/>
            <a:ext cx="670536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is"/>
              </a:rPr>
              <a:t>ОТКРЫВАЕТ НОВЫЕ ВОЗМОЖНОСТИ 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is"/>
              </a:rPr>
              <a:t>анализа деловой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is"/>
              </a:rPr>
              <a:t>сегментирования рын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is"/>
              </a:rPr>
              <a:t>позиционирования пред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is"/>
              </a:rPr>
              <a:t>прогнозирования и планирования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28600" y="6189840"/>
          <a:ext cx="2819520" cy="44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6189840"/>
                    <a:ext cx="28195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952524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uturis"/>
              </a:rPr>
              <a:t>ОПТИМИЗАЦИЯ ИНВЕСТИЦИЙ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Futuris"/>
              </a:rPr>
              <a:t>В ИНФОРМАЦИОННЫЕ РЕСУРСЫ</a:t>
            </a:r>
            <a:endParaRPr b="0" lang="en-US" sz="40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38188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is"/>
              </a:rPr>
              <a:t>экономия на клиентских лиценз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is"/>
              </a:rPr>
              <a:t>снижение требований к рабочим станц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is"/>
              </a:rPr>
              <a:t>экономия на обучении пользова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is"/>
              </a:rPr>
              <a:t>повышение информационной безопас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is"/>
              </a:rPr>
              <a:t>централизованное администрирование рабочих стан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is"/>
              </a:rPr>
              <a:t>определение востребованности информационных ресур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6934320" y="1752480"/>
          <a:ext cx="2514600" cy="24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752480"/>
                    <a:ext cx="2514600" cy="24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9296280" y="624852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28600" y="6248520"/>
          <a:ext cx="2819520" cy="44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6248520"/>
                    <a:ext cx="281952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07T18:13:00Z</dcterms:created>
  <dc:creator>Виктор Шишляев</dc:creator>
  <dc:description/>
  <dc:language>en-US</dc:language>
  <cp:lastModifiedBy>В.В. Шишляев</cp:lastModifiedBy>
  <cp:lastPrinted>2002-12-01T16:20:33Z</cp:lastPrinted>
  <dcterms:modified xsi:type="dcterms:W3CDTF">2002-12-10T14:52:36Z</dcterms:modified>
  <cp:revision>309</cp:revision>
  <dc:subject/>
  <dc:title>ОСНОВНЫЕ НАПРАВЛЕНИЯ ДЕЯТЕЛЬНОСТИ АО ГЕЛИКОН ПРО</dc:title>
</cp:coreProperties>
</file>