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55FA3226-4EA9-4D0B-A2C7-3E4232320886}" type="slidenum"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едрение корпоративного портала и обеспечение доступа к нему внешних пользователей способствует укреплению деловых связей с заказчиками, партнерами, поставщиками и повышает качество обслуживания заказчиков и партнеров за счет предоставления им дополнительных возможностей 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440" y="4670280"/>
            <a:ext cx="5257800" cy="477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нутренних пользователей (руководителей и сотрудников предприятия) на основе корпоративного информационного портала может быть реализована следующая функциональ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библиотека технико-экономической, технологической, договорной или юридической документ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подачи заявок (например, на расходные материалы, автотранспорт, и т.п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очник контактных реквизитов сотрудников предприя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отека существующих и потенциальных контраг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внутренней отчетности для оперативного контроля и управления производством и проектами (отчеты по использованию рабочего времени сотрудников, выполнение календарных планов и графиков проект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ы совместной работы (форумы по различным проектам или направлениям деятельности предприятия, переговорные сессии для проведения оперативных совеща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ба технической поддержки пользователей компьютеров и оргтехник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е новостные сервисы с персонифицированной доставкой и системой оповещения получателей (например, оперативные показатели финансовой и производственной деятельности предприятия, сводки деловой информации, корпоративные и региональные новости, прогноз погоды, меню столово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нешних посетителей портала (поставщиков, партнеров и заказчиков) могут быть созданы механизмы, включающие себя информирование о ценах, продуктах, складских запасах, доставке и процессе выполнения заказов, а также решения типа "торговой площадки". Эти решения позволяют наладить совместное планирование и прогнозирование, скоординированное производство и управление дистрибуцией. Таким образом, корпоративный портал обеспечивает интеграцию традиционных учетных систем с приложениями для управления отношениями с клиентами (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условно, это далеко не полный перечень функциональных возможностей, которые могут быть реализованы в рамках корпоративного портала. Следует подчеркнуть, что развитие портала представляет собой динамический процесс, который неразрывно связан с процессом формализации информационных потоков предприятия. Соответственно, отдача от информационного портала будет увеличиваться по мере роста его функционального напол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подсчетам аналитиков, на сегодняшний день инструменты для построения порталов выпускают уже более 200 компаний, причем с каждым днем предложений становится все больше и боль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рошлом году свои новые инициативы в этой области анонсировали такие гиганты рынка прикладного программного обеспечения как SAP, IBM и Microsoft. Они намерены составить конкуренцию компаниям Plumtree Software, DataChannel, Hummingbird и Epicentric, в значительной степени посвятившим себя разработке программного обеспечения для пор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енно, существует целый спектр продуктов — от готовых к работе инструментов до конфигурируемых решений, которые для обеспечения интеграции требуют серьезной настрой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корпоративного порта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ерьезный и довольно затратный проект. Стоимость вышеназванных портальных решений в среднем составляет от 100 до 500 долларов за одно рабочее мес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зарубежным данным,  на приобретение программного обеспечения небольшому предприятию придется затратить окол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00 долларов, среднем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т 500 000 до 1 миллиона долларов. Дополнительные затраты на сооружение порталов, согласно результатам опросов, составляют 100-300% от стоимости программного обесп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рынок портальных проектов сейчас находится в стадии формирования. Положительных и отрицательных примеров, на которые могли бы ориентироваться заказчики, пока совсем немного. Столь скромная практика отчасти объясняется невысоким уровнем автоматизации большинства российских компаний, которые еще не завершили первый «виток», связанный с построение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 и хранилищ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этой причине важно заранее определить базовые принцип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ции и проанализировать возможные технологические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о и внедрение корпоративного портала практически всегда сопряжено с рядом типовых проблем, обусловленных существующей на предприятии информационной сред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 организации нескольких операционных систем вызывает необходимость проведения кросс-платформенной интег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рые и "унаследованные" базы данных, построенные на базе архитектуры файлового сервера, не всегда могут быть интегрированы в пор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ложения, прежде всего написанные сторонними разработчиками и небольшими фирмами, могут не име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фейсов и (или) документированных API-интерфейсов, что затрудняет их интегра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702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настоящему моменту де-факто сложились следующие базовые принципы интеграции корпоративных данных и приложений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зуализация информации при помощи Web-браузера, благодаря чему исчезает необходимость в установке и поддержке "тяжелых" клиентских при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уемость, переносимость и открытость создаваемых решений, которые достигаются благодаря использованию XML/XSL и Java. Хранение и передача данных происходит с помощью языка XML, специально созданного для организации взаимодействия с различными приложениями. Формат данных в XML не зависит от способа его дальнейшей визуализации. За это отвечают хранимые отдельно файлы таблицы стилей XSL, которые преобразуют файлы XML для их представления в виде Web-стра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входа в портал из различных систем, в том числе территориально удал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 безопасность и защита информации посредством централизованного доступа и разделения прав пользователей на стороне источников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ликон Пр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дставляет в качестве технологической платформы для разработки приклад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шений свой новый продукт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lic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дставляет собой инструментальную прослойку, которая объединяет известные Internet-технологии в единую цепочку на основе использования открытых стандартов. Предлагаемый продукт ориентирован на Заказчиков, заинтересованных в интеграции данных и приложений на основе современ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й. Его применение позволяет повысить оперативность управления предприятием при сохранении надежности и конфиденциальности, присущих традиционным решениям на основе СУБ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626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технолог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ает следующие 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нтеграции данных и приложений независимо от размещения и форматов хранения информации. При этом в качестве источников данных, помимо базы данных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могут использоваться другие локальные базы данных, удаленные оперативные источники XML-данных и неоперативные источники данных в виде XML-фай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ческая сборк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траниц путем интерпретации гетерогенных данных. Эти данные могут представлять собой статический HTML-документ, шаблон на языке XML (содержащий, например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прос к базе данных), документ XSL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шаблоном преобразования, программный код на языке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ли поток байтов (который может интерпретироваться, как рисунок, звук, мультимеди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ная интеграция с инструментарием 39-й версии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ая позволяет эффективно применять имеющиеся в системе механизмы разработки ресурсов, администрирования прав пользователей и аудита событий в базе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 безопасности и защита информации за счет эффективного управления потоком соединений и использования механизмов администрирования прав пользователей на стороне источников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ый информационный портал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является мощным инструментом интеграции информационных ресурсов, который многократно повышает эффективность управления предприятием. Портал представляет собой совокупность технологий и программных средств, позволяющих компаниям "расконсервировать" информацию, которая возникает и накапливается как внутри, так и вне их границ. Одновременно, портал предоставляет каждому пользователю персонифицированное "окно" для просмотра всей информации, необходимой ему для принятия обоснованных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технологической точки зрения портал представляет собой совокуп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фейсов, которые обеспечивают единообразный доступ к корпоративным данным и программам через локальные и глобальные сети. В качестве терминала может быть использовано любое устройство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раузером (стационарный или переносной компьютер), подключенное к корпоративной сети либо находящееся далеко за ее пределами. Порталы позволяют организовывать дополнительные сервисы, основанные на доступе к разнородным данным и приложениям с од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транички. При этом пользователь может и не знать, с какими приложениями он работает, где и в каком формате хранятся предоставляемые ему данные и с помощью каких операционных систем они обрабатыв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440" y="4670280"/>
            <a:ext cx="5257800" cy="4702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технологи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полной мере отвечает всем вышеназванным принципам и может использоваться в качестве инструментария для построения корпоративного информационного пор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римера рассмотрим систему подачи заявок на расходные материалы, реализованную на основе техноло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качестве источника данных используется база данных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льзователей, участвующих в формировании и утверждении заявок, реализованы несложные с функциональной точки з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фейсы. Перечень доступных для заказа расходных материалов формируется на основе информации из справочника ТМЦ. Сформированные заявки хранятся в одноименной таблице БД. Пользователи в статусе руководителей структурных подразделений наделяются доступом к функции утверждения заявок своих сотрудников. При этом права доступа определяются при помощи стандартных механизмов, реализованных в модуле «Администратор». Такой подход не требует инсталляции клиентских компонентов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рабочих местах всех сотрудников предприятия и, соответственно, не требует покупки клиентских лиценз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ьзователи в статусе работников отдела МТО обладают возможностью сформировать сводный заказ на приобретение расходных материалов. При этом они могут использовать хорошо структурированн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чет, реализованный стандартными средствами модуля «Анализато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. Я готов ответить на Ваши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о корпоративных порталов в настоящее время является одним из наиболее перспективных направлений в области информационных технологий. Так, аналитики  компан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 Group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читают, что к 2003 году 60% компаний из Fortune 500 будут использовать корпоративный портал в качестве инструмента поддержки принятия решений, совершенствования информационных потоков и развития электронной коммерции типа B2B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результатам опросов руководителе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дразделений на сегодняшний день почти 60% крупнейших предприятий России из числа участников рейтинг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100 одной из своих первоочередных задач считают создание корпоративного информационного пор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дрение корпоративного портала обеспечивает компании серьезные конкурентные преимущества. При этом, по оценкам компан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tre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орма возврата инвестиций от внедрения корпоративного портала в среднем составляет 145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аспекты, определяющие экономические и организационные эффекты от построения портала, перечислены на этом слайде. Рассмотрим их более подроб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и сотрудники ежедневно получают информацию из различных источников, таких как корпоративные информационные системы, периодические печатные издания, внутренние нормативные документы, деловая переписка, электронная почта, техническая документация и ресурсы сет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я корпоративный портал, Вы и Ваши специалисты сможете получать необходимую информацию в предельно сжатые сроки непосредственно со своего рабочего места, независимо от его географического расположения и времени суток. Использование современных технологий позволит организовать целевую доставку информации и своевременное оповещение ее получателей, обеспечив при этом необходимый уровень конфиденциа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тал играет роль центрального информационного ресурса для руководства и сотрудников компании, ее заказчиков, поставщиков, дистрибьюторов, партнеров и акционе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уководители  и сотрудн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интегрированную внутреннюю и внешнюю информацию и доступ к корпоративным прило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азч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информацию о выпускаемой компанией продукции, новые инструменты работы с ней. Анализ действий заказчиков при работе с порталом может помочь компании принимать более взвешенные маркетинговые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авщ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возможность повысить эффективность взаимодействия с компанией, оптимизировать объемы и время поставок. Таким образом, портал становится инструментом для планирования и прогнозирования расходования запасов и постав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ционеры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портала получают инструмент контроля над ключевыми параметрами деятельности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ртнер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более эффективный инструмент по обмену информацией. Через портал они имеют доступ к маркетинговой и технической документации, планам выпуска продукции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корпоративного портала позволит в полной мере применить управленческую технологию управления знаниям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, которая во всем мире признана наиболее эффективной формой взаимодействия сотрудников. Любой работник достаточно легко сможет найти и использовать различные отчеты, сводки, статьи, библиографические справочники, новости, методики, регламенты, аналитические обзоры и исследования, вне зависимости от того, где и кем они были созданы. Накопление и сортировка всей этой информации позволит создать и использовать "базу знаний" Вашей компании, охватывающую большую часть корпоратив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теграция корпоративного портала с другими компонентами информационной системы предприятия (финансово-учетные и сбытовые программы, хранилища данных, электронный документооборот и т.п.) открывает новые возможности анализа деловой информации, сегментирования рынка и позиционирования, планирования и прогнозирования, выполнения ряда иных функций. Соответственно, менеджеры Вашей компании смогут принимать более эффективные решения, учитывающие все нюансы конкретной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тал – это интегрированное приложение, которое можно достаточно быстро внедрить и легко поддерживать, затрачивая при этом сравнительно скромные ресурсы по сравнению с системами со сходными функциями, но построенными на основе других концепций. Все это снижает издержки и повышает отдачу от вложений в информационную систему предприятия. Использование для визуализации информации "тонкого клиента" (обыч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раузера) позволяет экономить на обучении персонала и, одновременно, дает возможность не устанавливать клиентские приложения на множестве компьютеров. Сокращение затрат на приобретение и обслуживание клиентского ПО и оборудования – один из основных ресурсов снижения издержек при использовании корпоративного портала. Также важно упомянуть о минимизации затрат на аренду Internet-канала за счет того, что наиболее значительная часть информации, необходимой для пользователей портала, размещается в корпоративной с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48D-82D5-4DC2-9529-557B8B68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F83-8C6B-4479-BCB9-4162872F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C72-5DE4-496B-9D39-899764DA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D833-5517-4937-85C5-6218BF90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E372-1451-480F-A066-943F1829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DBE8-EBAB-436D-8BF9-64310075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5F18-1AC6-4358-9B2E-1CE88FAF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C499-4E86-4752-A4E9-C473188C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5154-0933-49BB-B200-A73C49FA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FB96-F3F4-452D-BA56-88717B14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459D-852B-4E5E-8DA8-58B86689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734-4E13-42A9-9399-FFFA8EF7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33A9-905C-4DB4-8FAB-085D1CD7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2FE7-BDF1-4DC3-B8AB-380AF394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192F-15F0-4001-A8FF-40EE44E9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234F-66BC-4357-B25A-D721E64D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571E-EE85-4F33-9746-9F55D4D7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634-27F0-4A94-8693-1F784AD8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0E8-D4B7-40A7-B5F4-C656CE66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4CB-EE21-4261-ADD6-28B94E07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B7A-11C8-4235-9C55-F5814B49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15F-7A06-4E1D-9F1B-9465CABA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F66E-AC96-444B-BC9D-7DF33E64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469-849F-4517-90D5-2C70F1AD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216A-D9C8-40BD-AF75-C7567B40D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142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7A50-10BD-4F5B-8529-43F1BF302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9885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ПО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КОРПОРАТИВ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ИНФОРМАЦИОННОГО ПОРТ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ПРЕД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280" y="6248520"/>
          <a:ext cx="281952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24852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ЕДИНАЯ ПЛАТФОРМ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ДЛЯ ЭЛЕКТРОННОГО БИЗНЕСА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9601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предоставление дополнительных услу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улучшение качества обслу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увеличение скорости выполнения заказ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укрепление деловых связей с заказчиками и поставщи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934320" y="1600200"/>
          <a:ext cx="2835000" cy="28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600200"/>
                    <a:ext cx="283500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9220320" y="62485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uturis"/>
              </a:rPr>
              <a:t>ФУНКЦИОНАЛЬНОЕ НАПОЛНЕНИЕ КОРПОРАТИВНОГО ПОРТАЛА</a:t>
            </a:r>
            <a:endParaRPr b="0" lang="en-US" sz="60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ДЛЯ СОТРУДНИКОВ ПРЕДПРИЯТИЯ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9296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корпоративная библиотека финансовой, технологической, договорной, юридической докум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система подачи заявок (на расходные материалы, автотранспорт,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справочник контактных реквизитов сотрудников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картотека существующих и потенциальных контраг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формы внутренней отчетности для оперативного контроля и управления производством и проектами (отчеты по использованию рабочего времени, исполнение календарных планов и графиков проек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механизмы совместной работы (форумы по различным проектам или направлениям деятельности предприятия, переговорные сессии для проведения оперативных совещ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служба технической поддержки пользователей (</a:t>
            </a: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Help</a:t>
            </a: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Desk</a:t>
            </a: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различные новостные сервисы с персонифицированной доставкой (оперативные показатели финансовой и производственной деятельности предприятия, сводки деловой информации, корпоративные и региональные новости, прогноз погоды, меню столов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9525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ДЛЯ ВНЕШНИХ ПОСЕТИТЕЛЕЙ </a:t>
            </a:r>
            <a:r>
              <a:rPr b="1" lang="en-US" sz="3000" spc="-1" strike="noStrike">
                <a:solidFill>
                  <a:srgbClr val="ffffff"/>
                </a:solidFill>
                <a:latin typeface="Futuris"/>
              </a:rPr>
              <a:t>ПОСТАВЩИКОВ, ПАРТНЕРОВ И ЗАКАЗЧИКОВ</a:t>
            </a:r>
            <a:endParaRPr b="0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формация о ценах, продуктах и складских запа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истема подачи заявок и резервирования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формация о состоянии зак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формация о доставке выполненных зак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терактивные торговые площ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52280" y="4800240"/>
            <a:ext cx="9601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Futuris"/>
              </a:rPr>
              <a:t>УПРАВЛЕНИЕ ОТНОШЕНИЯМИ С КЛИЕН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Futuris"/>
              </a:rPr>
              <a:t>Customer Relationship Management </a:t>
            </a:r>
            <a:r>
              <a:rPr b="1" lang="ru-RU" sz="3200" spc="-1" strike="noStrike">
                <a:solidFill>
                  <a:srgbClr val="ff3300"/>
                </a:solidFill>
                <a:latin typeface="Futuris"/>
              </a:rPr>
              <a:t>–</a:t>
            </a:r>
            <a:r>
              <a:rPr b="1" lang="en-US" sz="3200" spc="-1" strike="noStrike">
                <a:solidFill>
                  <a:srgbClr val="ff3300"/>
                </a:solidFill>
                <a:latin typeface="Futuris"/>
              </a:rPr>
              <a:t>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9448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ИНСТРУМЕНТАРИЙ ДЛЯ СОЗДАНИЯ КОРПОРАТИВНЫХ ПОРТАЛОВ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orporate Portal (Plumtree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Brio.Portal (Brio Technolo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DataChannel Server (Data Cha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EIP (Hummingbi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Epicentric Foundation Server (Epicentr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mySAP Enterprise Portals (S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Oracle9iAS Portal (Ora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WebSphere Portal (I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Futuris"/>
              </a:rPr>
              <a:t>РАСХОДЫ НА ПОСТРОЕНИЕ КОРПОРАТИВНОГО ПОРТАЛА</a:t>
            </a:r>
            <a:endParaRPr b="0" lang="en-US" sz="38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52480" y="1600200"/>
          <a:ext cx="640080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640080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2209680" y="562284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По данным Delphi Group, 2001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ТИПОВЫЕ ПРОБЛЕМЫ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ОБУСЛОВЛЕННЫЕ СУЩЕСТВУЮЩЕЙ НА ПРЕДПРИЯТИИ ИНФОРМАЦИОННОЙ СРЕДОЙ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эксплуатация нескольких операционных систем вызывает необходимость проведения кросс-платформной интег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старые и унаследованные базы данных, построенные на базе архитектуры файлового сервера, не всегда могут быть интегрированы в пор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приложения, прежде всего написанные сторонними разработчиками и небольшими фирмами, могут не иметь </a:t>
            </a: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-интерфейсов и (или) документированных API-интерфейсов, что затрудняет их интегр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uturis"/>
              </a:rPr>
              <a:t>БАЗОВЫЕ ПРИНЦИПЫ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Futuris"/>
              </a:rPr>
              <a:t>ИНТЕГРАЦИИ КОРПОРАТИВНЫХ ДАННЫХ И ПРИЛОЖЕНИЙ НА ОСНОВЕ </a:t>
            </a: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WEB</a:t>
            </a:r>
            <a:r>
              <a:rPr b="1" lang="ru-RU" sz="2800" spc="-1" strike="noStrike">
                <a:solidFill>
                  <a:srgbClr val="ffffff"/>
                </a:solidFill>
                <a:latin typeface="Futuris"/>
              </a:rPr>
              <a:t>-ТЕХНОЛОГИЙ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визуализация информации при помощи Web-брау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масштабируемость, переносимость и открытость создаваемых решений, которые достигаются благодаря использованию XML/XSL и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возможность входа в портал из различных систем, в том числе территориально удал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обеспечение безопасности и защиты информации посредством централизованного доступа и разделения прав пользователей на стороне источников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GELICON</a:t>
            </a:r>
            <a:r>
              <a:rPr b="1" lang="ru-RU" sz="46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46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APPLICATION</a:t>
            </a:r>
            <a:r>
              <a:rPr b="1" lang="ru-RU" sz="46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SERVER (GWAS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КАК ТЕХНОЛОГИЧЕСКАЯ ПЛАТ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ДЛЯ РАЗРАБО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ПРИКЛАДНЫХ </a:t>
            </a:r>
            <a:r>
              <a:rPr b="1" lang="en-AU" sz="3200" spc="-1" strike="noStrike">
                <a:solidFill>
                  <a:srgbClr val="000000"/>
                </a:solidFill>
                <a:latin typeface="Futuris"/>
              </a:rPr>
              <a:t>INTERNE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92962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uturis"/>
              </a:rPr>
              <a:t>ТЕХНОЛОГИЧЕСКИЕ ПРЕИМУЩЕСТВА </a:t>
            </a:r>
            <a:r>
              <a:rPr b="1" lang="en-US" sz="3200" spc="-1" strike="noStrike">
                <a:solidFill>
                  <a:srgbClr val="ffffff"/>
                </a:solidFill>
                <a:latin typeface="Futuris"/>
              </a:rPr>
              <a:t>GWAS</a:t>
            </a:r>
            <a:endParaRPr b="0" lang="en-US" sz="32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944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возможность интеграции данных и приложений независимо от размещения и форматов хранения информации (локальные базы данных, удаленные оперативные источники XML-данных и неоперативные источники данных в виде XML-фай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динамическая сборка </a:t>
            </a: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-страниц путем интерпретации гетерогенных данных (статические HTML-документы, шаблоны на языке XML, документы XSLT с шаблоном преобразования, программный код на </a:t>
            </a:r>
            <a:r>
              <a:rPr b="1" lang="en-AU" sz="2000" spc="-1" strike="noStrike">
                <a:solidFill>
                  <a:srgbClr val="000000"/>
                </a:solidFill>
                <a:latin typeface="Futuris"/>
              </a:rPr>
              <a:t>Java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 или поток байтов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интеграция с инструментарием системы Капитал </a:t>
            </a: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000" spc="-1" strike="noStrike" baseline="30000">
                <a:solidFill>
                  <a:srgbClr val="000000"/>
                </a:solidFill>
                <a:latin typeface="Futuris"/>
              </a:rPr>
              <a:t>©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 вер. 3.0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эффективное управление потоком соединений и использование механизмов администрирования прав пользователей на стороне источников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Корпоративный информационный портал (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Enterprise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Information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Portal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 – 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EIP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) является мощным инструментом интеграции информационных ресурсов, который многократно повышает эффективность управления предприятием</a:t>
            </a:r>
            <a:endParaRPr b="0" lang="en-US" sz="2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200400"/>
            <a:ext cx="8420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uturis"/>
              </a:rPr>
              <a:t>С технологической точки зрения портал представляет собой совокупность </a:t>
            </a:r>
            <a:r>
              <a:rPr b="1" lang="en-US" sz="26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2600" spc="-1" strike="noStrike">
                <a:solidFill>
                  <a:srgbClr val="000000"/>
                </a:solidFill>
                <a:latin typeface="Futuris"/>
              </a:rPr>
              <a:t>-интерфейсов, которые обеспечивают единообразный доступ к корпоративным данным и программам через локальные и глобальные се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Futuris"/>
              </a:rPr>
              <a:t>Шишляев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Futuris"/>
              </a:rPr>
              <a:t>Виктор Валерьевич</a:t>
            </a:r>
            <a:endParaRPr b="0" lang="en-US" sz="6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uturis"/>
              </a:rPr>
              <a:t>Генеральный директ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uturis"/>
              </a:rPr>
              <a:t>ЗАО Геликон Пр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4191120"/>
            <a:ext cx="9219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тел.: (3422) 103-101, 103-178, 103-76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E-mail: svv@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www. </a:t>
            </a: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982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is"/>
              </a:rPr>
              <a:t>ПЕРСПЕКТИВЫ КОРПОРАТИВНЫХ ПОРТАЛОВ</a:t>
            </a:r>
            <a:endParaRPr b="0" lang="en-US" sz="32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по оценкам компании Meta Group к 2003 г. 60% компаний из Fortune 500 будут использовать корпоративный портал в качестве инструмента поддержки принятия решений, совершенствования информационных потоков и развития электронной коммерции типа B2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по результатам опросов руководителей </a:t>
            </a: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IT</a:t>
            </a: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-подразделений на сегодняшний день почти 60% крупнейших предприятий России из числа участников рейтинга </a:t>
            </a: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Top</a:t>
            </a: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-100 одной из своих первоочередных задач считают создание корпоративного информационного порт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752480"/>
            <a:ext cx="94489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овышение эффективности работы сотруд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Улучшение корпоративного взаимо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правление корпоративными зна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изация процесса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изация инвестиций в информационные ресур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Единая платформа для ведения электронного бизн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ПРЕИМУЩЕСТВА ОТ СОЗДАНИЯ КОРПОРАТИВНОГО ПОРТАЛА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17815" y="10800"/>
                </a:lnTo>
                <a:lnTo>
                  <a:pt x="380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92199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ПОВЫШЕНИЕ ЭФФЕКТИВНОСТИ РАБОТЫ СОТРУДНИКОВ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0" y="2133720"/>
          <a:ext cx="2085840" cy="29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133720"/>
                    <a:ext cx="208584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971800"/>
            <a:ext cx="533412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корпоративные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норматив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деловая пере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электронная почта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техническая докум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есурсы сети </a:t>
            </a:r>
            <a:r>
              <a:rPr b="1" lang="en-AU" sz="2400" spc="-1" strike="noStrike">
                <a:solidFill>
                  <a:srgbClr val="000000"/>
                </a:solidFill>
                <a:latin typeface="Futuri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09480" y="1981080"/>
            <a:ext cx="6096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НИФИЦИРОВАННЫЙ ДОСТУ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 ИНФОРМАЦИОННЫМ РЕСУРС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220320" y="62485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9601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УЛУЧШЕНИЕ</a:t>
            </a:r>
            <a:br>
              <a:rPr sz="3800"/>
            </a:b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КОРПОРАТИВНОГО ВЗАИМОДЕЙСТВИЯ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038480" y="3276720"/>
          <a:ext cx="2210040" cy="18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276720"/>
                    <a:ext cx="2210040" cy="18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2104200" y="3809880"/>
            <a:ext cx="2006640" cy="2364840"/>
            <a:chOff x="2104200" y="3809880"/>
            <a:chExt cx="2006640" cy="2364840"/>
          </a:xfrm>
        </p:grpSpPr>
        <p:graphicFrame>
          <p:nvGraphicFramePr>
            <p:cNvPr id="130" name=""/>
            <p:cNvGraphicFramePr/>
            <p:nvPr/>
          </p:nvGraphicFramePr>
          <p:xfrm>
            <a:off x="2361960" y="3809880"/>
            <a:ext cx="1680840" cy="198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61960" y="3809880"/>
                      <a:ext cx="16808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" name=""/>
            <p:cNvSpPr/>
            <p:nvPr/>
          </p:nvSpPr>
          <p:spPr>
            <a:xfrm>
              <a:off x="2104200" y="5715000"/>
              <a:ext cx="200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акционе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3962520"/>
            <a:ext cx="1959480" cy="2212200"/>
            <a:chOff x="6019920" y="3962520"/>
            <a:chExt cx="1959480" cy="2212200"/>
          </a:xfrm>
        </p:grpSpPr>
        <p:graphicFrame>
          <p:nvGraphicFramePr>
            <p:cNvPr id="134" name=""/>
            <p:cNvGraphicFramePr/>
            <p:nvPr/>
          </p:nvGraphicFramePr>
          <p:xfrm>
            <a:off x="6019920" y="3962520"/>
            <a:ext cx="1904760" cy="1865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19920" y="3962520"/>
                      <a:ext cx="1904760" cy="18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6219720" y="571500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партне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550280" y="1981080"/>
            <a:ext cx="2198520" cy="2745720"/>
            <a:chOff x="7550280" y="1981080"/>
            <a:chExt cx="2198520" cy="2745720"/>
          </a:xfrm>
        </p:grpSpPr>
        <p:graphicFrame>
          <p:nvGraphicFramePr>
            <p:cNvPr id="138" name=""/>
            <p:cNvGraphicFramePr/>
            <p:nvPr/>
          </p:nvGraphicFramePr>
          <p:xfrm>
            <a:off x="8076960" y="1981080"/>
            <a:ext cx="936360" cy="2400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6960" y="1981080"/>
                      <a:ext cx="936360" cy="24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" name=""/>
            <p:cNvSpPr/>
            <p:nvPr/>
          </p:nvSpPr>
          <p:spPr>
            <a:xfrm>
              <a:off x="7550280" y="426708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поставщ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662920" y="1219320"/>
            <a:ext cx="4509000" cy="2059920"/>
            <a:chOff x="2662920" y="1219320"/>
            <a:chExt cx="4509000" cy="2059920"/>
          </a:xfrm>
        </p:grpSpPr>
        <p:graphicFrame>
          <p:nvGraphicFramePr>
            <p:cNvPr id="142" name=""/>
            <p:cNvGraphicFramePr/>
            <p:nvPr/>
          </p:nvGraphicFramePr>
          <p:xfrm>
            <a:off x="3733920" y="1219320"/>
            <a:ext cx="2514600" cy="1581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733920" y="1219320"/>
                      <a:ext cx="2514600" cy="15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2662920" y="2819520"/>
              <a:ext cx="450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руководство и сотрудн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880" y="1752480"/>
            <a:ext cx="1795680" cy="3340080"/>
            <a:chOff x="380880" y="1752480"/>
            <a:chExt cx="1795680" cy="3340080"/>
          </a:xfrm>
        </p:grpSpPr>
        <p:graphicFrame>
          <p:nvGraphicFramePr>
            <p:cNvPr id="146" name=""/>
            <p:cNvGraphicFramePr/>
            <p:nvPr/>
          </p:nvGraphicFramePr>
          <p:xfrm>
            <a:off x="1066680" y="1752480"/>
            <a:ext cx="754200" cy="2590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66680" y="1752480"/>
                      <a:ext cx="754200" cy="25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380880" y="4267080"/>
              <a:ext cx="179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заказч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8581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УПРАВЛЕНИЕ</a:t>
            </a:r>
            <a:r>
              <a:rPr b="1" lang="en-US" sz="48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КОРПОРАТИВНЫМИ ЗНАНИЯМИ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64958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во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библиографические справ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но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етод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регла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аналитические обз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848720" y="1600200"/>
          <a:ext cx="1511280" cy="32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600200"/>
                    <a:ext cx="151128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9220320" y="62485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3160" y="5029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Futuris"/>
              </a:rPr>
              <a:t>ТЕХНОЛОГИЯ УПРАВЛЕНИЯ ЗНА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Futuris"/>
              </a:rPr>
              <a:t>Knowledge</a:t>
            </a:r>
            <a:r>
              <a:rPr b="1" lang="ru-RU" sz="3600" spc="-1" strike="noStrike">
                <a:solidFill>
                  <a:srgbClr val="ff3300"/>
                </a:solidFill>
                <a:latin typeface="Futuri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Futuris"/>
              </a:rPr>
              <a:t>Management </a:t>
            </a:r>
            <a:r>
              <a:rPr b="1" lang="ru-RU" sz="3600" spc="-1" strike="noStrike">
                <a:solidFill>
                  <a:srgbClr val="ff3300"/>
                </a:solidFill>
                <a:latin typeface="Futuris"/>
              </a:rPr>
              <a:t>–</a:t>
            </a:r>
            <a:r>
              <a:rPr b="1" lang="en-US" sz="3600" spc="-1" strike="noStrike">
                <a:solidFill>
                  <a:srgbClr val="ff3300"/>
                </a:solidFill>
                <a:latin typeface="Futuris"/>
              </a:rPr>
              <a:t> 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is"/>
              </a:rPr>
              <a:t>ОПТИМИЗАЦИЯ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Futuris"/>
              </a:rPr>
              <a:t>ПРОЦЕССА УПРАВЛЕНИЯ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5791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ТЕГРАЦИЯ ПОРТАЛА С ДРУГ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ОМПОНЕНТАМИ ИС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финансово-учетными систе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сбытовыми програм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хранилищами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системами электронного документооб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153280" y="1600200"/>
          <a:ext cx="115416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1600200"/>
                    <a:ext cx="115416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676520" y="4038480"/>
            <a:ext cx="670536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ТКРЫВАЕТ НОВЫЕ ВОЗМОЖНОСТИ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анализа дел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сегментирования ры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позиционирования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прогнозирования и планирования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952524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ОПТИМИЗАЦИЯ ИНВЕСТИЦИЙ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В ИНФОРМАЦИОННЫЕ РЕСУРСЫ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экономия на клиентских лиценз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снижение требований к рабочим станц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экономия на обучении польз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повышение информацион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централизованное администрирование рабочих 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определение востребованности информационных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934320" y="1752480"/>
          <a:ext cx="251460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752480"/>
                    <a:ext cx="251460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6248520"/>
          <a:ext cx="281952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24852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7T18:13:00Z</dcterms:created>
  <dc:creator>Виктор Шишляев</dc:creator>
  <dc:description/>
  <dc:language>en-US</dc:language>
  <cp:lastModifiedBy>В.В. Шишляев</cp:lastModifiedBy>
  <cp:lastPrinted>2002-12-01T16:20:33Z</cp:lastPrinted>
  <dcterms:modified xsi:type="dcterms:W3CDTF">2002-12-10T14:52:36Z</dcterms:modified>
  <cp:revision>309</cp:revision>
  <dc:subject/>
  <dc:title>ОСНОВНЫЕ НАПРАВЛЕНИЯ ДЕЯТЕЛЬНОСТИ АО ГЕЛИКОН ПРО</dc:title>
</cp:coreProperties>
</file>