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6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0952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200" y="76032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6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09520" y="93726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5DA2-0CAA-43F2-A84C-C4E2FA480B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дним из видов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мпании является производство программного обеспеч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этой сфер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стоянно занято от 5 до 7 высококвалифицированных сотрудников. Ежемесячные трудозатраты составляют более 700 че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ов. За 10 лет своего существования компания Геликон Про инвестировала в разработку программных продуктов более полумиллиона долларов.Внедрена система управления качеством П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авляющее большинство трудозатра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инвестиций можно отнести к нашему основному продукту – системе управления предприятием «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 В результате, с периодичностью раз в 2 года выпускается новая версия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 в полгода – пакет исправлений, улучшающий эксплуатационные характеристики продукта. Также осуществляется оперативная техническая поддержка, которая, с одной стороны, помогает решать неотложные задачи наших заказчиков, а с другой, реализует обратную связь между заказчиком и разработчи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представляет соб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годн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питал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E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промышленный программны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одукт. Я еще обязательно вернусь к доказательству данного утверждения. А пока, я бы хотел познакомить вас с некоторыми техническими параметрами проекта по разработке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видите, программис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шей компании имеют дела с весьма сложным и крупным проектом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слайде изображен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звестная диаграмма Фредерика Брукса, которая показывает что, для создания ППП необходимы затраты превышающие первоначальные вложени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9 р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ша компания за 10 ле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ошла этот трудный путь и теперь мы можем небезосновательно утверждат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является промышленным программным продукт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нное утвержд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сновывается на том, что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влетворяет основным требованиям, предъявляемым к промышленному ПО. Каковы эти требова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чуждаемость, т.е. способность к эксплуатации без привлечения разработчиков (пример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кументирования(приме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гибкость, т.е. способность адаптироваться под требования заказчика, которые могут быть продиктованы спецификой бизнес-процессов, изменениями в законодательстве или иными обстоятельствами (приме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техническая поддержка (приме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стая процедура инсталляции и обновления (приме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емление к достижению статус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ышленного ПО для нас не самоцель. В мире считается, что эксплуатация промышленного ПО снижает общую стоимость владения, т.е. экономит ресурсы заказч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 эти достижения был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 невозможны без инновационной деятельности нашей компании. Вот несколько примеров инноваци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правления развит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естественно, должны быть подчинены целям, которые мы ставим перед собой. Каковы он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заключении хочу отметить, что Капитал CSE 4 - это не только новая версия системы, - это  платформа для дальнейшего развития функциональности Капитал CSE в сторону ERP-сист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434B-B20B-496C-A703-CB263FFF2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B653-C42A-4812-8797-48C50398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65D4-6257-4624-A498-E79C743D9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6F9E-0267-402D-BB7D-5A6A82FE5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18FB-C5B6-4BD2-92E3-E724B17F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78EA-98AE-4B56-B382-BE302B36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93E9-54CC-4727-9031-88C9B998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7335-4CBA-4A1F-A2BB-41C9BF91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5EFD-2012-4B19-B577-F02F343D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240F-5DE7-4740-9093-042E3D7D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AD7B-A4BA-4443-BDF0-A48BEEE4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324E-895A-4AC8-A7E7-1FFD633B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C4A0-3C5C-4155-AF7C-C5B17604B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00360" y="1495440"/>
            <a:ext cx="5543640" cy="536256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5429880" y="-2823480"/>
            <a:ext cx="695520" cy="673272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215640" y="1501920"/>
            <a:ext cx="2190600" cy="535608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6280" y="6114960"/>
            <a:ext cx="3124080" cy="36216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 w . g e l i c o n . b i 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0200" y="2265480"/>
            <a:ext cx="523872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ahoma"/>
              </a:rPr>
              <a:t>ПРОГРАММНЫЕ ПРОДУКТЫ КОМПАНИИ ГЕЛИКОН ПРО</a:t>
            </a:r>
            <a:r>
              <a:rPr b="1" lang="en-US" sz="29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ru-RU" sz="2900" spc="-1" strike="noStrike">
                <a:solidFill>
                  <a:srgbClr val="ffffff"/>
                </a:solidFill>
                <a:latin typeface="Tahoma"/>
              </a:rPr>
              <a:t>НАСТОЯЩЕЕ И БУДУЩЕ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76680" y="5052960"/>
            <a:ext cx="53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Клюев Андрей Владими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Директор по разработке программного обеспечения ЗАО «Геликон Пр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95360" y="2428920"/>
            <a:ext cx="3105000" cy="1995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80960" y="523800"/>
            <a:ext cx="3129120" cy="97812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3666960" y="576360"/>
            <a:ext cx="4000680" cy="871560"/>
            <a:chOff x="3666960" y="576360"/>
            <a:chExt cx="4000680" cy="871560"/>
          </a:xfrm>
        </p:grpSpPr>
        <p:sp>
          <p:nvSpPr>
            <p:cNvPr id="58" name=""/>
            <p:cNvSpPr/>
            <p:nvPr/>
          </p:nvSpPr>
          <p:spPr>
            <a:xfrm>
              <a:off x="3666960" y="576360"/>
              <a:ext cx="400068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  </a:t>
              </a: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Г  Р  А  М  М  Н  О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О  Б  Е  С  П  Е  Ч  Е  Н  И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В  А  Ш  Е  Г  О     Б  И  З  Н  Е  С  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3789360" y="679320"/>
              <a:ext cx="942840" cy="1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0" y="52848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49400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42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036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828720" y="4940280"/>
            <a:ext cx="2556000" cy="961920"/>
            <a:chOff x="828720" y="4940280"/>
            <a:chExt cx="2556000" cy="961920"/>
          </a:xfrm>
        </p:grpSpPr>
        <p:sp>
          <p:nvSpPr>
            <p:cNvPr id="65" name=""/>
            <p:cNvSpPr/>
            <p:nvPr/>
          </p:nvSpPr>
          <p:spPr>
            <a:xfrm>
              <a:off x="828720" y="4940280"/>
              <a:ext cx="326160" cy="96192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255680" y="4940280"/>
              <a:ext cx="1145520" cy="96192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782800" y="5609160"/>
              <a:ext cx="270360" cy="29304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98160" y="5609160"/>
              <a:ext cx="286560" cy="29304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95800" y="5609160"/>
              <a:ext cx="336960" cy="29304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17720" y="817560"/>
            <a:ext cx="7093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ОИЗВОДСТВО ПРОГРАММНОГО ОБЕСПЕ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previous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27080" y="1693800"/>
            <a:ext cx="5749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ccff"/>
                </a:solidFill>
                <a:latin typeface="Tahoma"/>
              </a:rPr>
              <a:t>ХАРАКТЕРИСТИКА ПРОИЗВОД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9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86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8" name=""/>
          <p:cNvSpPr/>
          <p:nvPr/>
        </p:nvSpPr>
        <p:spPr>
          <a:xfrm>
            <a:off x="1952640" y="3763800"/>
            <a:ext cx="5749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ccff"/>
                </a:solidFill>
                <a:latin typeface="Tahoma"/>
              </a:rPr>
              <a:t>ОБЪЕМЫ ПРОИЗВОД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136440" y="888840"/>
            <a:ext cx="1573200" cy="48294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739880" y="2158920"/>
            <a:ext cx="7404120" cy="153684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27080" y="2293920"/>
            <a:ext cx="70488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74760" indent="-37476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Кол-во разработчиков ПО - 5-7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Трудозатраты &gt;  700 чел.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/</a:t>
            </a: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час. в меся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Объемы внутренних инвестиций &gt;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$500</a:t>
            </a: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Внедренная система управления качеством 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39880" y="4216320"/>
            <a:ext cx="7404120" cy="19432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40040" y="4300560"/>
            <a:ext cx="690876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74760" indent="-37476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Выпуск новых версий с периодичностью в 2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Выпуск пакетов исправлений (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Service Pack</a:t>
            </a: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)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периодичностью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в пол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Оперативная техническая поддержка и выпуск «горячих» исправ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95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-1440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15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7" name=""/>
          <p:cNvSpPr/>
          <p:nvPr/>
        </p:nvSpPr>
        <p:spPr>
          <a:xfrm>
            <a:off x="1908000" y="811080"/>
            <a:ext cx="7093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be0e3"/>
                </a:solidFill>
                <a:latin typeface="Tahoma"/>
              </a:rPr>
              <a:t>КАПИТАЛ </a:t>
            </a:r>
            <a:r>
              <a:rPr b="1" lang="en-US" sz="2400" spc="-1" strike="noStrike">
                <a:solidFill>
                  <a:srgbClr val="bbe0e3"/>
                </a:solidFill>
                <a:latin typeface="Tahoma"/>
              </a:rPr>
              <a:t>CSE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ЗНУТ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17600" y="1784520"/>
            <a:ext cx="751212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36400" indent="-536400">
              <a:lnSpc>
                <a:spcPct val="15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Объем исходного кода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~1000000 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5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98 исполняемых модулей и библиот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5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600 </a:t>
            </a: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таблиц и 1500 хранимых процед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5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объем документации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~700 </a:t>
            </a: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стран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120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52320"/>
            <a:ext cx="9144000" cy="62056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3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34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6" name=""/>
          <p:cNvSpPr/>
          <p:nvPr/>
        </p:nvSpPr>
        <p:spPr>
          <a:xfrm>
            <a:off x="471600" y="857160"/>
            <a:ext cx="7092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be0e3"/>
                </a:solidFill>
                <a:latin typeface="Tahoma"/>
              </a:rPr>
              <a:t>КАПИТАЛ </a:t>
            </a:r>
            <a:r>
              <a:rPr b="1" lang="en-US" sz="2400" spc="-1" strike="noStrike">
                <a:solidFill>
                  <a:srgbClr val="bbe0e3"/>
                </a:solidFill>
                <a:latin typeface="Tahoma"/>
              </a:rPr>
              <a:t>CS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ОМЫШЛЕННЫЙ ПРОГРАММНЫЙ ПРОДУ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61720" y="2104920"/>
            <a:ext cx="4303440" cy="3076560"/>
            <a:chOff x="261720" y="2104920"/>
            <a:chExt cx="4303440" cy="3076560"/>
          </a:xfrm>
        </p:grpSpPr>
        <p:sp>
          <p:nvSpPr>
            <p:cNvPr id="138" name=""/>
            <p:cNvSpPr/>
            <p:nvPr/>
          </p:nvSpPr>
          <p:spPr>
            <a:xfrm>
              <a:off x="2398320" y="2104920"/>
              <a:ext cx="0" cy="307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1400" y="3585960"/>
              <a:ext cx="333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1400" y="2630520"/>
              <a:ext cx="145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рограм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428560" y="2624040"/>
              <a:ext cx="2017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акет прикладных програм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14240" y="3819240"/>
              <a:ext cx="169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рограммный продук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42960" y="3817800"/>
              <a:ext cx="1944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Промышленный программный продук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1339560" y="2233440"/>
              <a:ext cx="1799640" cy="368280"/>
              <a:chOff x="1339560" y="2233440"/>
              <a:chExt cx="1799640" cy="36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1761480" y="2406600"/>
                <a:ext cx="13777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339560" y="2233440"/>
                <a:ext cx="60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x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1496880" y="4730760"/>
              <a:ext cx="1799280" cy="368280"/>
              <a:chOff x="1496880" y="4730760"/>
              <a:chExt cx="1799280" cy="368280"/>
            </a:xfrm>
          </p:grpSpPr>
          <p:sp>
            <p:nvSpPr>
              <p:cNvPr id="148" name=""/>
              <p:cNvSpPr/>
              <p:nvPr/>
            </p:nvSpPr>
            <p:spPr>
              <a:xfrm>
                <a:off x="1918800" y="4903560"/>
                <a:ext cx="1377360" cy="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496880" y="4730760"/>
                <a:ext cx="60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261720" y="2805120"/>
              <a:ext cx="368280" cy="1800000"/>
              <a:chOff x="261720" y="2805120"/>
              <a:chExt cx="368280" cy="1800000"/>
            </a:xfrm>
          </p:grpSpPr>
          <p:sp>
            <p:nvSpPr>
              <p:cNvPr id="151" name=""/>
              <p:cNvSpPr/>
              <p:nvPr/>
            </p:nvSpPr>
            <p:spPr>
              <a:xfrm>
                <a:off x="457200" y="3227400"/>
                <a:ext cx="0" cy="1377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5400000">
                <a:off x="141120" y="2925360"/>
                <a:ext cx="60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x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4196880" y="2746080"/>
              <a:ext cx="368280" cy="1800360"/>
              <a:chOff x="4196880" y="2746080"/>
              <a:chExt cx="368280" cy="1800360"/>
            </a:xfrm>
          </p:grpSpPr>
          <p:sp>
            <p:nvSpPr>
              <p:cNvPr id="154" name=""/>
              <p:cNvSpPr/>
              <p:nvPr/>
            </p:nvSpPr>
            <p:spPr>
              <a:xfrm>
                <a:off x="4392360" y="3168360"/>
                <a:ext cx="0" cy="137808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5400000">
                <a:off x="4076280" y="286668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57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58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3" name=""/>
            <p:cNvGrpSpPr/>
            <p:nvPr/>
          </p:nvGrpSpPr>
          <p:grpSpPr>
            <a:xfrm>
              <a:off x="115920" y="154080"/>
              <a:ext cx="7380360" cy="501480"/>
              <a:chOff x="115920" y="154080"/>
              <a:chExt cx="7380360" cy="501480"/>
            </a:xfrm>
          </p:grpSpPr>
          <p:pic>
            <p:nvPicPr>
              <p:cNvPr id="16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5" name=""/>
              <p:cNvGrpSpPr/>
              <p:nvPr/>
            </p:nvGrpSpPr>
            <p:grpSpPr>
              <a:xfrm>
                <a:off x="1887480" y="204840"/>
                <a:ext cx="5608800" cy="246240"/>
                <a:chOff x="1887480" y="204840"/>
                <a:chExt cx="5608800" cy="2462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381400" y="204840"/>
                  <a:ext cx="5114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8" name=""/>
          <p:cNvGrpSpPr/>
          <p:nvPr/>
        </p:nvGrpSpPr>
        <p:grpSpPr>
          <a:xfrm>
            <a:off x="123840" y="6315120"/>
            <a:ext cx="1590840" cy="542880"/>
            <a:chOff x="123840" y="6315120"/>
            <a:chExt cx="1590840" cy="542880"/>
          </a:xfrm>
        </p:grpSpPr>
        <p:sp>
          <p:nvSpPr>
            <p:cNvPr id="169" name=""/>
            <p:cNvSpPr/>
            <p:nvPr/>
          </p:nvSpPr>
          <p:spPr>
            <a:xfrm>
              <a:off x="12384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4772160" y="2278080"/>
            <a:ext cx="4143240" cy="29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36400" indent="-53640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Отчуждае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Документ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Гиб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Техническая поддерж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Простая процедура инсталляции и обно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87480" y="5545080"/>
            <a:ext cx="59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Стремление к снижению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174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-1440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7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3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94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6" name=""/>
          <p:cNvSpPr/>
          <p:nvPr/>
        </p:nvSpPr>
        <p:spPr>
          <a:xfrm>
            <a:off x="1908000" y="811080"/>
            <a:ext cx="7093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ННОВАЦИОННАЯ ДЕЯТЕЛЬНОСТЬ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17600" y="1784520"/>
            <a:ext cx="75121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36400" indent="-536400">
              <a:lnSpc>
                <a:spcPct val="15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Одна из первых программных систем в России, работающая в технологии «клиент-серв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5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Многомерный аналитический у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5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Применение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OLAP-</a:t>
            </a: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технологий в задачах учета и план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5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Интерфейс с мобильными устройствами К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5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be0e3"/>
                </a:solidFill>
                <a:latin typeface="Tahoma"/>
              </a:rPr>
              <a:t>Что дальше</a:t>
            </a:r>
            <a:r>
              <a:rPr b="0" lang="en-US" sz="2400" spc="-1" strike="noStrike">
                <a:solidFill>
                  <a:srgbClr val="bbe0e3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199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-1440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12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1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8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19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21" name=""/>
          <p:cNvSpPr/>
          <p:nvPr/>
        </p:nvSpPr>
        <p:spPr>
          <a:xfrm>
            <a:off x="1908000" y="811080"/>
            <a:ext cx="7093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АЗВИТИЕ ПРОГРАММНЫХ ПРОДУКТОВ ГЕЛИКОН П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362240" y="1650960"/>
            <a:ext cx="7781760" cy="1771560"/>
            <a:chOff x="1362240" y="1650960"/>
            <a:chExt cx="7781760" cy="1771560"/>
          </a:xfrm>
        </p:grpSpPr>
        <p:sp>
          <p:nvSpPr>
            <p:cNvPr id="223" name=""/>
            <p:cNvSpPr/>
            <p:nvPr/>
          </p:nvSpPr>
          <p:spPr>
            <a:xfrm>
              <a:off x="1890720" y="1650960"/>
              <a:ext cx="7093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be0e3"/>
                  </a:solidFill>
                  <a:latin typeface="Tahoma"/>
                </a:rPr>
                <a:t>ЦЕЛ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39880" y="2144880"/>
              <a:ext cx="7404120" cy="1277640"/>
            </a:xfrm>
            <a:prstGeom prst="rect">
              <a:avLst/>
            </a:prstGeom>
            <a:solidFill>
              <a:srgbClr val="90a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62240" y="2203560"/>
              <a:ext cx="751176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ffffff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ahoma"/>
                </a:rPr>
                <a:t>Удовлетворение потребностей бизнеса в функциональном наполнен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6400" indent="-536400">
                <a:lnSpc>
                  <a:spcPct val="100000"/>
                </a:lnSpc>
                <a:buClr>
                  <a:srgbClr val="ffffff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ahoma"/>
                </a:rPr>
                <a:t>Снижение общей стоимости владения ТС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357200" y="3551400"/>
            <a:ext cx="7786800" cy="2192040"/>
            <a:chOff x="1357200" y="3551400"/>
            <a:chExt cx="7786800" cy="2192040"/>
          </a:xfrm>
        </p:grpSpPr>
        <p:sp>
          <p:nvSpPr>
            <p:cNvPr id="227" name=""/>
            <p:cNvSpPr/>
            <p:nvPr/>
          </p:nvSpPr>
          <p:spPr>
            <a:xfrm>
              <a:off x="1905120" y="3551400"/>
              <a:ext cx="7092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be0e3"/>
                  </a:solidFill>
                  <a:latin typeface="Tahoma"/>
                </a:rPr>
                <a:t>НАПР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39880" y="4059360"/>
              <a:ext cx="7404120" cy="1684080"/>
            </a:xfrm>
            <a:prstGeom prst="rect">
              <a:avLst/>
            </a:prstGeom>
            <a:solidFill>
              <a:srgbClr val="90a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357200" y="4052880"/>
              <a:ext cx="751212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ffffff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3399"/>
                  </a:solidFill>
                  <a:latin typeface="Tahoma"/>
                </a:rPr>
                <a:t>Функциональное развитие «Капитал </a:t>
              </a:r>
              <a:r>
                <a:rPr b="0" lang="en-US" sz="2400" spc="-1" strike="noStrike">
                  <a:solidFill>
                    <a:srgbClr val="003399"/>
                  </a:solidFill>
                  <a:latin typeface="Tahoma"/>
                </a:rPr>
                <a:t>CSE</a:t>
              </a:r>
              <a:r>
                <a:rPr b="0" lang="ru-RU" sz="2400" spc="-1" strike="noStrike">
                  <a:solidFill>
                    <a:srgbClr val="003399"/>
                  </a:solidFill>
                  <a:latin typeface="Tahoma"/>
                </a:rPr>
                <a:t>»</a:t>
              </a:r>
              <a:r>
                <a:rPr b="0" lang="en-US" sz="2400" spc="-1" strike="noStrike">
                  <a:solidFill>
                    <a:srgbClr val="003399"/>
                  </a:solidFill>
                  <a:latin typeface="Tahoma"/>
                </a:rPr>
                <a:t> </a:t>
              </a:r>
              <a:r>
                <a:rPr b="0" lang="ru-RU" sz="2400" spc="-1" strike="noStrike">
                  <a:solidFill>
                    <a:srgbClr val="003399"/>
                  </a:solidFill>
                  <a:latin typeface="Tahoma"/>
                </a:rPr>
                <a:t>до </a:t>
              </a:r>
              <a:r>
                <a:rPr b="0" lang="en-US" sz="2400" spc="-1" strike="noStrike">
                  <a:solidFill>
                    <a:srgbClr val="003399"/>
                  </a:solidFill>
                  <a:latin typeface="Tahoma"/>
                </a:rPr>
                <a:t>ERP</a:t>
              </a:r>
              <a:r>
                <a:rPr b="0" lang="ru-RU" sz="2400" spc="-1" strike="noStrike">
                  <a:solidFill>
                    <a:srgbClr val="003399"/>
                  </a:solidFill>
                  <a:latin typeface="Tahoma"/>
                </a:rPr>
                <a:t>-систем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6400" indent="-536400">
                <a:lnSpc>
                  <a:spcPct val="100000"/>
                </a:lnSpc>
                <a:buClr>
                  <a:srgbClr val="ffffff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3399"/>
                  </a:solidFill>
                  <a:latin typeface="Tahoma"/>
                </a:rPr>
                <a:t>От технологии «клиент-сервер» к технологиям, основанным на </a:t>
              </a:r>
              <a:r>
                <a:rPr b="0" lang="en-US" sz="2400" spc="-1" strike="noStrike">
                  <a:solidFill>
                    <a:srgbClr val="003399"/>
                  </a:solidFill>
                  <a:latin typeface="Tahoma"/>
                </a:rPr>
                <a:t>Web-</a:t>
              </a:r>
              <a:r>
                <a:rPr b="0" lang="ru-RU" sz="2400" spc="-1" strike="noStrike">
                  <a:solidFill>
                    <a:srgbClr val="003399"/>
                  </a:solidFill>
                  <a:latin typeface="Tahoma"/>
                </a:rPr>
                <a:t>сервиса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231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-1440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4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4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0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51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53" name=""/>
          <p:cNvSpPr/>
          <p:nvPr/>
        </p:nvSpPr>
        <p:spPr>
          <a:xfrm>
            <a:off x="1879560" y="124632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люев Андрей Владими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Директор по разработке программ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обеспечения ЗАО «Геликон Пр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86040" y="3367080"/>
            <a:ext cx="7020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3399"/>
                </a:solidFill>
                <a:latin typeface="Tahoma"/>
              </a:rPr>
              <a:t>тел.: (3422) 103-101, 103-178, 103-76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ahoma"/>
              </a:rPr>
              <a:t>E-mail: info@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ahoma"/>
              </a:rPr>
              <a:t>www.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256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1:03:08Z</dcterms:created>
  <dc:creator>Alexander</dc:creator>
  <dc:description/>
  <dc:language>en-US</dc:language>
  <cp:lastModifiedBy>В.В. Шишляев</cp:lastModifiedBy>
  <cp:lastPrinted>2003-11-27T08:17:54Z</cp:lastPrinted>
  <dcterms:modified xsi:type="dcterms:W3CDTF">2004-04-13T09:09:29Z</dcterms:modified>
  <cp:revision>278</cp:revision>
  <dc:subject/>
  <dc:title>Слайд 1</dc:title>
</cp:coreProperties>
</file>