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6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0952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200" y="760320"/>
            <a:ext cx="487692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09520" y="93726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12AA-00CC-451B-A205-F7360EE7C2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дним из видов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пании является производство программного обеспеч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этой сфер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тоянно занято от 5 до 7 высококвалифицированных сотрудников. Ежемесячные трудозатраты составляют более 700 че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ов. За 10 лет своего существования компания Геликон Про инвестировала в разработку программных продуктов более полумиллиона долларов.Внедрена система управления качеством П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авляющее большинство трудозатра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инвестиций можно отнести к нашему основному продукту – системе управления предприятием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. В результате, с периодичностью раз в 2 года выпускается новая версия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 в полгода – пакет исправлений, улучшающий эксплуатационные характеристики продукта. Также осуществляется оперативная техническая поддержка, которая, с одной стороны, помогает решать неотложные задачи наших заказчиков, а с другой, реализует обратную связь между заказчиком и разработч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представляет соб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питал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ромышленный программны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дукт. Я еще обязательно вернусь к доказательству данного утверждения. А пока, я бы хотел познакомить вас с некоторыми техническими параметрами проекта по разработке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к видите, программист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шей компании имеют дела с весьма сложным и крупным проектом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слайде изображен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звестная диаграмма Фредерика Брукса, которая показывает что, для создания ППП необходимы затраты превышающие первоначальные вложени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9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ша компания за 10 ле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шла этот трудный путь и теперь мы можем небезосновательно утвержда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является промышленным программным продук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нное утвержде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сновывается на том, что Капита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E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яет основным требованиям, предъявляемым к промышленному ПО. Каковы эти требова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уждаемость, т.е. способность к эксплуатации без привлечения разработчиков (пример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окументирования(при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ибкость, т.е. способность адаптироваться под требования заказчика, которые могут быть продиктованы спецификой бизнес-процессов, изменениями в законодательстве или иными обстоятельствами (при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ехническая поддержка (при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стая процедура инсталляции и обновления (приме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емление к достижению статус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го ПО для нас не самоцель. В мире считается, что эксплуатация промышленного ПО снижает общую стоимость владения, т.е. экономит ресурсы заказч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 эти достижения был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 невозможны без инновационной деятельности нашей компании. Вот несколько примеров инновац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авления развит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естественно, должны быть подчинены целям, которые мы ставим перед собой. Каковы он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52560" y="760320"/>
            <a:ext cx="4876920" cy="3657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649760"/>
            <a:ext cx="495288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заключении хочу отметить, что Капитал CSE 4 - это не только новая версия системы, - это  платформа для дальнейшего развития функциональности Капитал CSE в сторону ERP-сист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4A55-34EA-4115-81A5-CAD8C3086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5D9C-68DC-4A51-BBF2-C8195443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05AA-AE47-44C5-AA84-1135F2F8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B23-3F21-4913-AEBC-C43BAAAC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0EB-C4DF-4745-AED1-7C15C668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68FA-66BA-44E8-A840-B4C8F4E5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C31-6291-4D16-A1AE-ACA3E952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1F3F-138C-4963-A534-EB79DA62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7A98-5BB0-4764-ACC2-D55CC212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81A-AF90-4463-B84C-1FA0B57C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30C-190D-4DC8-B4FD-A0BD2C7D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742A-3350-4E39-95F0-05D00954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9403-59F7-4A4E-B7A5-469AEF16B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265480"/>
            <a:ext cx="523872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ПРОГРАММНЫЕ ПРОДУКТЫ КОМПАНИИ ГЕЛИКОН ПРО</a:t>
            </a: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НАСТОЯЩЕЕ И БУДУЩЕ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5052960"/>
            <a:ext cx="53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Клюев Андрей Владимиро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Директор по разработке программного обеспечения ЗАО «Геликон П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5360" y="2428920"/>
            <a:ext cx="3105000" cy="1995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8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28720" y="4940280"/>
            <a:ext cx="2556000" cy="961920"/>
            <a:chOff x="828720" y="4940280"/>
            <a:chExt cx="2556000" cy="961920"/>
          </a:xfrm>
        </p:grpSpPr>
        <p:sp>
          <p:nvSpPr>
            <p:cNvPr id="65" name=""/>
            <p:cNvSpPr/>
            <p:nvPr/>
          </p:nvSpPr>
          <p:spPr>
            <a:xfrm>
              <a:off x="828720" y="4940280"/>
              <a:ext cx="326160" cy="96192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55680" y="4940280"/>
              <a:ext cx="1145520" cy="96192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82800" y="5609160"/>
              <a:ext cx="270360" cy="29304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98160" y="5609160"/>
              <a:ext cx="286560" cy="29304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95800" y="5609160"/>
              <a:ext cx="336960" cy="29304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17720" y="817560"/>
            <a:ext cx="70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РОИЗВОДСТВО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previous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27080" y="1693800"/>
            <a:ext cx="574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ff"/>
                </a:solidFill>
                <a:latin typeface="Tahoma"/>
              </a:rPr>
              <a:t>ХАРАКТЕРИСТИКА ПРОИЗ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8" name=""/>
          <p:cNvSpPr/>
          <p:nvPr/>
        </p:nvSpPr>
        <p:spPr>
          <a:xfrm>
            <a:off x="1952640" y="3763800"/>
            <a:ext cx="5749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ff"/>
                </a:solidFill>
                <a:latin typeface="Tahoma"/>
              </a:rPr>
              <a:t>ОБЪЕМЫ ПРОИЗВОД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136440" y="888840"/>
            <a:ext cx="1573200" cy="4829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739880" y="2158920"/>
            <a:ext cx="7404120" cy="153684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27080" y="2293920"/>
            <a:ext cx="7048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Кол-во разработчиков ПО - 5-7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Трудозатраты &gt;  700 чел.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/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час.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Объемы внутренних инвестиций &gt; 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$500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недренная система управления качество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39880" y="4216320"/>
            <a:ext cx="7404120" cy="19432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0040" y="4300560"/>
            <a:ext cx="690876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ыпуск новых версий с периодичностью в 2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ыпуск пакетов исправлений (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Service Pack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)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периодичностью</a:t>
            </a:r>
            <a:r>
              <a:rPr b="0" lang="en-US" sz="20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в пол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Tahoma"/>
              </a:rPr>
              <a:t>Оперативная техническая поддержка и выпуск «горячих» исправ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95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1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" name=""/>
          <p:cNvSpPr/>
          <p:nvPr/>
        </p:nvSpPr>
        <p:spPr>
          <a:xfrm>
            <a:off x="1908000" y="811080"/>
            <a:ext cx="7093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Tahoma"/>
              </a:rPr>
              <a:t>КАПИТАЛ </a:t>
            </a:r>
            <a:r>
              <a:rPr b="1" lang="en-US" sz="2400" spc="-1" strike="noStrike">
                <a:solidFill>
                  <a:srgbClr val="bbe0e3"/>
                </a:solidFill>
                <a:latin typeface="Tahoma"/>
              </a:rPr>
              <a:t>CSE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ИЗНУТ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17600" y="1784520"/>
            <a:ext cx="751212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бъем исходного кода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~1000000 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98 исполняемых модулей и библиот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600 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таблиц и 1500 хранимых процед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бъем документации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~700 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стран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120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52320"/>
            <a:ext cx="9144000" cy="62056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3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6" name=""/>
          <p:cNvSpPr/>
          <p:nvPr/>
        </p:nvSpPr>
        <p:spPr>
          <a:xfrm>
            <a:off x="471600" y="857160"/>
            <a:ext cx="7092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be0e3"/>
                </a:solidFill>
                <a:latin typeface="Tahoma"/>
              </a:rPr>
              <a:t>КАПИТАЛ </a:t>
            </a:r>
            <a:r>
              <a:rPr b="1" lang="en-US" sz="2400" spc="-1" strike="noStrike">
                <a:solidFill>
                  <a:srgbClr val="bbe0e3"/>
                </a:solidFill>
                <a:latin typeface="Tahoma"/>
              </a:rPr>
              <a:t>CS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ОМЫШЛЕННЫЙ ПРОГРАММНЫЙ ПРОДУ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61720" y="2104920"/>
            <a:ext cx="4303440" cy="3076560"/>
            <a:chOff x="261720" y="2104920"/>
            <a:chExt cx="4303440" cy="3076560"/>
          </a:xfrm>
        </p:grpSpPr>
        <p:sp>
          <p:nvSpPr>
            <p:cNvPr id="138" name=""/>
            <p:cNvSpPr/>
            <p:nvPr/>
          </p:nvSpPr>
          <p:spPr>
            <a:xfrm>
              <a:off x="2398320" y="2104920"/>
              <a:ext cx="0" cy="307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1400" y="3585960"/>
              <a:ext cx="333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1400" y="2630520"/>
              <a:ext cx="145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грам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28560" y="2624040"/>
              <a:ext cx="2017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акет прикладных програм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4240" y="3819240"/>
              <a:ext cx="169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Программный проду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42960" y="3817800"/>
              <a:ext cx="1944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Промышленный программный продук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339560" y="2233440"/>
              <a:ext cx="1799640" cy="368280"/>
              <a:chOff x="1339560" y="2233440"/>
              <a:chExt cx="1799640" cy="36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1761480" y="2406600"/>
                <a:ext cx="13777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339560" y="223344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496880" y="4730760"/>
              <a:ext cx="1799280" cy="368280"/>
              <a:chOff x="1496880" y="4730760"/>
              <a:chExt cx="1799280" cy="368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918800" y="4903560"/>
                <a:ext cx="1377360" cy="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96880" y="473076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261720" y="2805120"/>
              <a:ext cx="368280" cy="1800000"/>
              <a:chOff x="261720" y="2805120"/>
              <a:chExt cx="368280" cy="1800000"/>
            </a:xfrm>
          </p:grpSpPr>
          <p:sp>
            <p:nvSpPr>
              <p:cNvPr id="151" name=""/>
              <p:cNvSpPr/>
              <p:nvPr/>
            </p:nvSpPr>
            <p:spPr>
              <a:xfrm>
                <a:off x="457200" y="3227400"/>
                <a:ext cx="0" cy="13777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5400000">
                <a:off x="141120" y="292536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x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4196880" y="2746080"/>
              <a:ext cx="368280" cy="1800360"/>
              <a:chOff x="4196880" y="2746080"/>
              <a:chExt cx="368280" cy="1800360"/>
            </a:xfrm>
          </p:grpSpPr>
          <p:sp>
            <p:nvSpPr>
              <p:cNvPr id="154" name=""/>
              <p:cNvSpPr/>
              <p:nvPr/>
            </p:nvSpPr>
            <p:spPr>
              <a:xfrm>
                <a:off x="4392360" y="3168360"/>
                <a:ext cx="0" cy="1378080"/>
              </a:xfrm>
              <a:prstGeom prst="line">
                <a:avLst/>
              </a:prstGeom>
              <a:ln w="31680">
                <a:solidFill>
                  <a:srgbClr val="ffffff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5400000">
                <a:off x="4076280" y="286668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5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5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6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3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16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5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8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69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772160" y="2278080"/>
            <a:ext cx="414324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Отчуждае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Докумен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Гиб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Техническая поддерж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Простая процедура инсталляции и обно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87480" y="5545080"/>
            <a:ext cx="59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Стремление к снижению 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T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174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9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6" name=""/>
          <p:cNvSpPr/>
          <p:nvPr/>
        </p:nvSpPr>
        <p:spPr>
          <a:xfrm>
            <a:off x="1908000" y="811080"/>
            <a:ext cx="70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ННОВАЦИОННАЯ ДЕЯТЕЛЬНОСТЬ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17600" y="1784520"/>
            <a:ext cx="75121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Одна из первых программных систем в России, работающая в технологии «клиент-серв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Многомерный аналитический у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Применение 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OLAP-</a:t>
            </a: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технологий в задачах учета и план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Tahoma"/>
              </a:rPr>
              <a:t>Интерфейс с мобильными устройствами К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Tahoma"/>
              </a:rPr>
              <a:t>Что дальше</a:t>
            </a:r>
            <a:r>
              <a:rPr b="0" lang="en-US" sz="2400" spc="-1" strike="noStrike">
                <a:solidFill>
                  <a:srgbClr val="bbe0e3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199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1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1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1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21" name=""/>
          <p:cNvSpPr/>
          <p:nvPr/>
        </p:nvSpPr>
        <p:spPr>
          <a:xfrm>
            <a:off x="1908000" y="811080"/>
            <a:ext cx="70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АЗВИТИЕ ПРОГРАММНЫХ ПРОДУКТОВ ГЕЛИКОН П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362240" y="1650960"/>
            <a:ext cx="7781760" cy="1771560"/>
            <a:chOff x="1362240" y="1650960"/>
            <a:chExt cx="7781760" cy="1771560"/>
          </a:xfrm>
        </p:grpSpPr>
        <p:sp>
          <p:nvSpPr>
            <p:cNvPr id="223" name=""/>
            <p:cNvSpPr/>
            <p:nvPr/>
          </p:nvSpPr>
          <p:spPr>
            <a:xfrm>
              <a:off x="1890720" y="1650960"/>
              <a:ext cx="7093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be0e3"/>
                  </a:solidFill>
                  <a:latin typeface="Tahoma"/>
                </a:rPr>
                <a:t>ЦЕ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39880" y="2144880"/>
              <a:ext cx="7404120" cy="1277640"/>
            </a:xfrm>
            <a:prstGeom prst="rect">
              <a:avLst/>
            </a:prstGeom>
            <a:solidFill>
              <a:srgbClr val="90a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62240" y="2203560"/>
              <a:ext cx="751176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ffffff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Удовлетворение потребностей бизнеса в функциональном наполнен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indent="-536400">
                <a:lnSpc>
                  <a:spcPct val="100000"/>
                </a:lnSpc>
                <a:buClr>
                  <a:srgbClr val="ffffff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Снижение общей стоимости владения ТС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357200" y="3551400"/>
            <a:ext cx="7786800" cy="2192040"/>
            <a:chOff x="1357200" y="3551400"/>
            <a:chExt cx="7786800" cy="2192040"/>
          </a:xfrm>
        </p:grpSpPr>
        <p:sp>
          <p:nvSpPr>
            <p:cNvPr id="227" name=""/>
            <p:cNvSpPr/>
            <p:nvPr/>
          </p:nvSpPr>
          <p:spPr>
            <a:xfrm>
              <a:off x="1905120" y="3551400"/>
              <a:ext cx="7092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be0e3"/>
                  </a:solidFill>
                  <a:latin typeface="Tahoma"/>
                </a:rPr>
                <a:t>НАПРА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739880" y="4059360"/>
              <a:ext cx="7404120" cy="1684080"/>
            </a:xfrm>
            <a:prstGeom prst="rect">
              <a:avLst/>
            </a:prstGeom>
            <a:solidFill>
              <a:srgbClr val="90a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57200" y="4052880"/>
              <a:ext cx="7512120" cy="14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536400" indent="-536400">
                <a:lnSpc>
                  <a:spcPct val="100000"/>
                </a:lnSpc>
                <a:buClr>
                  <a:srgbClr val="ffffff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Функциональное развитие «Капитал 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CSE</a:t>
              </a: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»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 </a:t>
              </a: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до 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ERP</a:t>
              </a: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-систем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536400" indent="-536400">
                <a:lnSpc>
                  <a:spcPct val="100000"/>
                </a:lnSpc>
                <a:buClr>
                  <a:srgbClr val="ffffff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От технологии «клиент-сервер» к технологиям, основанным на 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Web-</a:t>
              </a:r>
              <a:r>
                <a:rPr b="0" lang="ru-RU" sz="2400" spc="-1" strike="noStrike">
                  <a:solidFill>
                    <a:srgbClr val="003399"/>
                  </a:solidFill>
                  <a:latin typeface="Tahoma"/>
                </a:rPr>
                <a:t>сервиса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31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-14400"/>
            <a:ext cx="9144000" cy="687384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4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5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3" name=""/>
          <p:cNvSpPr/>
          <p:nvPr/>
        </p:nvSpPr>
        <p:spPr>
          <a:xfrm>
            <a:off x="1879560" y="124632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люев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Директор по разработке программ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обеспечения ЗАО «Геликон Пр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86040" y="3367080"/>
            <a:ext cx="7020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99"/>
                </a:solidFill>
                <a:latin typeface="Tahoma"/>
              </a:rPr>
              <a:t>тел.: (3422) 103-101, 103-178, 103-76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E-mail: info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www.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44440" y="5880240"/>
            <a:ext cx="1387440" cy="441360"/>
            <a:chOff x="244440" y="5880240"/>
            <a:chExt cx="1387440" cy="441360"/>
          </a:xfrm>
        </p:grpSpPr>
        <p:sp>
          <p:nvSpPr>
            <p:cNvPr id="256" name=""/>
            <p:cNvSpPr/>
            <p:nvPr/>
          </p:nvSpPr>
          <p:spPr>
            <a:xfrm>
              <a:off x="244440" y="5880240"/>
              <a:ext cx="177120" cy="441360"/>
            </a:xfrm>
            <a:custGeom>
              <a:avLst/>
              <a:gdLst/>
              <a:ahLst/>
              <a:rect l="l" t="t" r="r" b="b"/>
              <a:pathLst>
                <a:path w="279" h="696">
                  <a:moveTo>
                    <a:pt x="207" y="0"/>
                  </a:moveTo>
                  <a:lnTo>
                    <a:pt x="0" y="0"/>
                  </a:lnTo>
                  <a:lnTo>
                    <a:pt x="0" y="139"/>
                  </a:lnTo>
                  <a:lnTo>
                    <a:pt x="58" y="139"/>
                  </a:lnTo>
                  <a:lnTo>
                    <a:pt x="135" y="139"/>
                  </a:lnTo>
                  <a:lnTo>
                    <a:pt x="135" y="273"/>
                  </a:lnTo>
                  <a:lnTo>
                    <a:pt x="135" y="461"/>
                  </a:lnTo>
                  <a:lnTo>
                    <a:pt x="135" y="628"/>
                  </a:lnTo>
                  <a:lnTo>
                    <a:pt x="135" y="696"/>
                  </a:lnTo>
                  <a:lnTo>
                    <a:pt x="279" y="696"/>
                  </a:lnTo>
                  <a:lnTo>
                    <a:pt x="279" y="0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6280" y="5880240"/>
              <a:ext cx="621720" cy="441360"/>
            </a:xfrm>
            <a:custGeom>
              <a:avLst/>
              <a:gdLst/>
              <a:ahLst/>
              <a:rect l="l" t="t" r="r" b="b"/>
              <a:pathLst>
                <a:path w="979" h="696">
                  <a:moveTo>
                    <a:pt x="197" y="0"/>
                  </a:moveTo>
                  <a:lnTo>
                    <a:pt x="158" y="0"/>
                  </a:lnTo>
                  <a:lnTo>
                    <a:pt x="120" y="14"/>
                  </a:lnTo>
                  <a:lnTo>
                    <a:pt x="87" y="29"/>
                  </a:lnTo>
                  <a:lnTo>
                    <a:pt x="58" y="53"/>
                  </a:lnTo>
                  <a:lnTo>
                    <a:pt x="34" y="82"/>
                  </a:lnTo>
                  <a:lnTo>
                    <a:pt x="15" y="115"/>
                  </a:lnTo>
                  <a:lnTo>
                    <a:pt x="5" y="153"/>
                  </a:lnTo>
                  <a:lnTo>
                    <a:pt x="0" y="192"/>
                  </a:lnTo>
                  <a:lnTo>
                    <a:pt x="0" y="504"/>
                  </a:lnTo>
                  <a:lnTo>
                    <a:pt x="5" y="542"/>
                  </a:lnTo>
                  <a:lnTo>
                    <a:pt x="15" y="580"/>
                  </a:lnTo>
                  <a:lnTo>
                    <a:pt x="34" y="614"/>
                  </a:lnTo>
                  <a:lnTo>
                    <a:pt x="58" y="643"/>
                  </a:lnTo>
                  <a:lnTo>
                    <a:pt x="87" y="667"/>
                  </a:lnTo>
                  <a:lnTo>
                    <a:pt x="120" y="681"/>
                  </a:lnTo>
                  <a:lnTo>
                    <a:pt x="158" y="696"/>
                  </a:lnTo>
                  <a:lnTo>
                    <a:pt x="197" y="696"/>
                  </a:lnTo>
                  <a:lnTo>
                    <a:pt x="787" y="696"/>
                  </a:lnTo>
                  <a:lnTo>
                    <a:pt x="825" y="696"/>
                  </a:lnTo>
                  <a:lnTo>
                    <a:pt x="864" y="681"/>
                  </a:lnTo>
                  <a:lnTo>
                    <a:pt x="897" y="667"/>
                  </a:lnTo>
                  <a:lnTo>
                    <a:pt x="926" y="643"/>
                  </a:lnTo>
                  <a:lnTo>
                    <a:pt x="950" y="614"/>
                  </a:lnTo>
                  <a:lnTo>
                    <a:pt x="965" y="580"/>
                  </a:lnTo>
                  <a:lnTo>
                    <a:pt x="979" y="542"/>
                  </a:lnTo>
                  <a:lnTo>
                    <a:pt x="979" y="504"/>
                  </a:lnTo>
                  <a:lnTo>
                    <a:pt x="979" y="192"/>
                  </a:lnTo>
                  <a:lnTo>
                    <a:pt x="979" y="153"/>
                  </a:lnTo>
                  <a:lnTo>
                    <a:pt x="965" y="115"/>
                  </a:lnTo>
                  <a:lnTo>
                    <a:pt x="950" y="82"/>
                  </a:lnTo>
                  <a:lnTo>
                    <a:pt x="926" y="53"/>
                  </a:lnTo>
                  <a:lnTo>
                    <a:pt x="897" y="29"/>
                  </a:lnTo>
                  <a:lnTo>
                    <a:pt x="864" y="14"/>
                  </a:lnTo>
                  <a:lnTo>
                    <a:pt x="825" y="0"/>
                  </a:lnTo>
                  <a:lnTo>
                    <a:pt x="787" y="0"/>
                  </a:lnTo>
                  <a:lnTo>
                    <a:pt x="197" y="0"/>
                  </a:lnTo>
                  <a:close/>
                  <a:moveTo>
                    <a:pt x="144" y="504"/>
                  </a:moveTo>
                  <a:lnTo>
                    <a:pt x="144" y="192"/>
                  </a:lnTo>
                  <a:lnTo>
                    <a:pt x="149" y="173"/>
                  </a:lnTo>
                  <a:lnTo>
                    <a:pt x="158" y="158"/>
                  </a:lnTo>
                  <a:lnTo>
                    <a:pt x="178" y="144"/>
                  </a:lnTo>
                  <a:lnTo>
                    <a:pt x="197" y="139"/>
                  </a:lnTo>
                  <a:lnTo>
                    <a:pt x="787" y="139"/>
                  </a:lnTo>
                  <a:lnTo>
                    <a:pt x="806" y="144"/>
                  </a:lnTo>
                  <a:lnTo>
                    <a:pt x="821" y="158"/>
                  </a:lnTo>
                  <a:lnTo>
                    <a:pt x="835" y="173"/>
                  </a:lnTo>
                  <a:lnTo>
                    <a:pt x="840" y="192"/>
                  </a:lnTo>
                  <a:lnTo>
                    <a:pt x="840" y="504"/>
                  </a:lnTo>
                  <a:lnTo>
                    <a:pt x="835" y="523"/>
                  </a:lnTo>
                  <a:lnTo>
                    <a:pt x="821" y="537"/>
                  </a:lnTo>
                  <a:lnTo>
                    <a:pt x="806" y="552"/>
                  </a:lnTo>
                  <a:lnTo>
                    <a:pt x="787" y="556"/>
                  </a:lnTo>
                  <a:lnTo>
                    <a:pt x="197" y="556"/>
                  </a:lnTo>
                  <a:lnTo>
                    <a:pt x="178" y="552"/>
                  </a:lnTo>
                  <a:lnTo>
                    <a:pt x="158" y="537"/>
                  </a:lnTo>
                  <a:lnTo>
                    <a:pt x="149" y="523"/>
                  </a:lnTo>
                  <a:lnTo>
                    <a:pt x="144" y="504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305360" y="6186960"/>
              <a:ext cx="146520" cy="13428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58" y="48"/>
                  </a:moveTo>
                  <a:lnTo>
                    <a:pt x="231" y="48"/>
                  </a:lnTo>
                  <a:lnTo>
                    <a:pt x="231" y="0"/>
                  </a:lnTo>
                  <a:lnTo>
                    <a:pt x="207" y="0"/>
                  </a:lnTo>
                  <a:lnTo>
                    <a:pt x="58" y="0"/>
                  </a:lnTo>
                  <a:lnTo>
                    <a:pt x="34" y="5"/>
                  </a:lnTo>
                  <a:lnTo>
                    <a:pt x="15" y="15"/>
                  </a:lnTo>
                  <a:lnTo>
                    <a:pt x="5" y="34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5" y="178"/>
                  </a:lnTo>
                  <a:lnTo>
                    <a:pt x="15" y="197"/>
                  </a:lnTo>
                  <a:lnTo>
                    <a:pt x="34" y="212"/>
                  </a:lnTo>
                  <a:lnTo>
                    <a:pt x="58" y="212"/>
                  </a:lnTo>
                  <a:lnTo>
                    <a:pt x="231" y="212"/>
                  </a:lnTo>
                  <a:lnTo>
                    <a:pt x="231" y="164"/>
                  </a:lnTo>
                  <a:lnTo>
                    <a:pt x="58" y="164"/>
                  </a:lnTo>
                  <a:lnTo>
                    <a:pt x="53" y="159"/>
                  </a:lnTo>
                  <a:lnTo>
                    <a:pt x="53" y="159"/>
                  </a:lnTo>
                  <a:lnTo>
                    <a:pt x="53" y="130"/>
                  </a:lnTo>
                  <a:lnTo>
                    <a:pt x="231" y="130"/>
                  </a:lnTo>
                  <a:lnTo>
                    <a:pt x="231" y="82"/>
                  </a:lnTo>
                  <a:lnTo>
                    <a:pt x="207" y="82"/>
                  </a:lnTo>
                  <a:lnTo>
                    <a:pt x="53" y="82"/>
                  </a:lnTo>
                  <a:lnTo>
                    <a:pt x="53" y="58"/>
                  </a:lnTo>
                  <a:lnTo>
                    <a:pt x="53" y="53"/>
                  </a:lnTo>
                  <a:lnTo>
                    <a:pt x="58" y="48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476360" y="6186960"/>
              <a:ext cx="155520" cy="134280"/>
            </a:xfrm>
            <a:custGeom>
              <a:avLst/>
              <a:gdLst/>
              <a:ahLst/>
              <a:rect l="l" t="t" r="r" b="b"/>
              <a:pathLst>
                <a:path w="245" h="212">
                  <a:moveTo>
                    <a:pt x="245" y="0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01" y="48"/>
                  </a:lnTo>
                  <a:lnTo>
                    <a:pt x="101" y="212"/>
                  </a:lnTo>
                  <a:lnTo>
                    <a:pt x="149" y="212"/>
                  </a:lnTo>
                  <a:lnTo>
                    <a:pt x="149" y="48"/>
                  </a:lnTo>
                  <a:lnTo>
                    <a:pt x="245" y="48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95120" y="6186960"/>
              <a:ext cx="182880" cy="134280"/>
            </a:xfrm>
            <a:custGeom>
              <a:avLst/>
              <a:gdLst/>
              <a:ahLst/>
              <a:rect l="l" t="t" r="r" b="b"/>
              <a:pathLst>
                <a:path w="288" h="212">
                  <a:moveTo>
                    <a:pt x="58" y="212"/>
                  </a:moveTo>
                  <a:lnTo>
                    <a:pt x="130" y="63"/>
                  </a:lnTo>
                  <a:lnTo>
                    <a:pt x="139" y="53"/>
                  </a:lnTo>
                  <a:lnTo>
                    <a:pt x="149" y="48"/>
                  </a:lnTo>
                  <a:lnTo>
                    <a:pt x="235" y="48"/>
                  </a:lnTo>
                  <a:lnTo>
                    <a:pt x="235" y="53"/>
                  </a:lnTo>
                  <a:lnTo>
                    <a:pt x="240" y="58"/>
                  </a:lnTo>
                  <a:lnTo>
                    <a:pt x="240" y="212"/>
                  </a:lnTo>
                  <a:lnTo>
                    <a:pt x="288" y="212"/>
                  </a:lnTo>
                  <a:lnTo>
                    <a:pt x="288" y="58"/>
                  </a:lnTo>
                  <a:lnTo>
                    <a:pt x="288" y="34"/>
                  </a:lnTo>
                  <a:lnTo>
                    <a:pt x="274" y="15"/>
                  </a:lnTo>
                  <a:lnTo>
                    <a:pt x="255" y="5"/>
                  </a:lnTo>
                  <a:lnTo>
                    <a:pt x="235" y="0"/>
                  </a:lnTo>
                  <a:lnTo>
                    <a:pt x="149" y="0"/>
                  </a:lnTo>
                  <a:lnTo>
                    <a:pt x="130" y="0"/>
                  </a:lnTo>
                  <a:lnTo>
                    <a:pt x="111" y="10"/>
                  </a:lnTo>
                  <a:lnTo>
                    <a:pt x="96" y="24"/>
                  </a:lnTo>
                  <a:lnTo>
                    <a:pt x="82" y="44"/>
                  </a:lnTo>
                  <a:lnTo>
                    <a:pt x="0" y="212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В.В. Шишляев</cp:lastModifiedBy>
  <cp:lastPrinted>2003-11-27T08:17:54Z</cp:lastPrinted>
  <dcterms:modified xsi:type="dcterms:W3CDTF">2004-04-13T09:09:29Z</dcterms:modified>
  <cp:revision>278</cp:revision>
  <dc:subject/>
  <dc:title>Слайд 1</dc:title>
</cp:coreProperties>
</file>