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200" y="7603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8E4B-8F18-4F5D-A892-6785B840BA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дним из видов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ании является производство программного обеспе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этой сфер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оянно занято от 5 до 7 высококвалифицированных сотрудников. Ежемесячные трудозатраты составляют более 700 че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. За 10 лет своего существования компания Геликон Про инвестировала в разработку программных продуктов более полумиллиона долларов.Внедрена система управления качеством 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авляющее большинство трудозатр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инвестиций можно отнести к нашему основному продукту – системе управления предприятием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В результате, с периодичностью раз в 2 года выпускается новая версия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 в полгода – пакет исправлений, улучшающий эксплуатационные характеристики продукта. Также осуществляется оперативная техническая поддержка, которая, с одной стороны, помогает решать неотложные задачи наших заказчиков, а с другой, реализует обратную связь между заказчиком и разработч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представляет соб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ромышленный программн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дукт. Я еще обязательно вернусь к доказательству данного утверждения. А пока, я бы хотел познакомить вас с некоторыми техническими параметрами проекта по разработке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видите, программи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шей компании имеют дела с весьма сложным и крупным проект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слайде изображе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вестная диаграмма Фредерика Брукса, которая показывает что, для создания ППП необходимы затраты превышающие первоначальные вложен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ша компания за 10 л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шла этот трудный путь и теперь мы можем небезосновательно утвержда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вляется промышленным программным продук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нное утверж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сновывается на том, что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основным требованиям, предъявляемым к промышленному ПО. Каковы эти треб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уждаемость, т.е. способность к эксплуатации без привлечения разработчиков (приме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кументирования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ибкость, т.е. способность адаптироваться под требования заказчика, которые могут быть продиктованы спецификой бизнес-процессов, изменениями в законодательстве или иными обстоятельствами 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ехническая поддержка 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стая процедура инсталляции и обновления 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емление к достижению статус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го ПО для нас не самоцель. В мире считается, что эксплуатация промышленного ПО снижает общую стоимость владения, т.е. экономит ресурсы заказч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эти достижения был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 невозможны без инновационной деятельности нашей компании. Вот несколько примеров инновац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стественно, должны быть подчинены целям, которые мы ставим перед собой. Каковы он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заключении хочу отметить, что Капитал CSE 4 - это не только новая версия системы, - это  платформа для дальнейшего развития функциональности Капитал CSE в сторону ERP-сист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A23-DDC4-4FB3-AA6B-5805D9F9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39C-14C1-47D3-BB7B-D7D53719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D0A-FD27-485E-9CF8-6A3FC7A6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139-2C66-4040-9D0C-02C96848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96D-7BE0-4F99-B17E-CCA8E648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B65-16B2-49FD-8D1C-ACCF2FB1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B824-5DCD-4CF3-9489-B27CB5CF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9A2-E97C-4CFF-B332-BD19CBD8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6C8-11A4-4801-8175-064E63A8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8E6-97A6-4E04-AF8A-C4C9A89A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630-96BE-49C0-B1DA-4B725CB7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F4D-041D-41FC-BE26-0BBBCCA3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9E8E-A91E-4065-8C81-8A75B58B2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65480"/>
            <a:ext cx="523872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ПРОГРАММНЫЕ ПРОДУКТЫ КОМПАНИИ ГЕЛИКОН ПРО</a:t>
            </a: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НАСТОЯЩЕЕ И БУДУЩЕ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3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Клюев Андрей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разработке программного обеспечения 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5360" y="2428920"/>
            <a:ext cx="3105000" cy="1995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8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28720" y="4940280"/>
            <a:ext cx="2556000" cy="961920"/>
            <a:chOff x="828720" y="4940280"/>
            <a:chExt cx="2556000" cy="961920"/>
          </a:xfrm>
        </p:grpSpPr>
        <p:sp>
          <p:nvSpPr>
            <p:cNvPr id="65" name=""/>
            <p:cNvSpPr/>
            <p:nvPr/>
          </p:nvSpPr>
          <p:spPr>
            <a:xfrm>
              <a:off x="828720" y="4940280"/>
              <a:ext cx="326160" cy="96192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55680" y="4940280"/>
              <a:ext cx="1145520" cy="96192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2800" y="5609160"/>
              <a:ext cx="270360" cy="29304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98160" y="5609160"/>
              <a:ext cx="286560" cy="29304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95800" y="5609160"/>
              <a:ext cx="336960" cy="29304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17720" y="81756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ИЗВОДСТВО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27080" y="1693800"/>
            <a:ext cx="574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ff"/>
                </a:solidFill>
                <a:latin typeface="Tahoma"/>
              </a:rPr>
              <a:t>ХАРАКТЕРИСТИКА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8" name=""/>
          <p:cNvSpPr/>
          <p:nvPr/>
        </p:nvSpPr>
        <p:spPr>
          <a:xfrm>
            <a:off x="1952640" y="3763800"/>
            <a:ext cx="574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ff"/>
                </a:solidFill>
                <a:latin typeface="Tahoma"/>
              </a:rPr>
              <a:t>ОБЪЕМЫ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136440" y="888840"/>
            <a:ext cx="1573200" cy="4829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39880" y="2158920"/>
            <a:ext cx="7404120" cy="153684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27080" y="2293920"/>
            <a:ext cx="7048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Кол-во разработчиков ПО - 5-7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Трудозатраты &gt;  700 чел.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час.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Объемы внутренних инвестиций &gt;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$500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недренная система управления качество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39880" y="4216320"/>
            <a:ext cx="7404120" cy="19432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0040" y="4300560"/>
            <a:ext cx="690876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ыпуск новых версий с периодичностью в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ыпуск пакетов исправлений (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rvice Pack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)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периодичностью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 пол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Оперативная техническая поддержка и выпуск «горячих» ис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95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1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" name=""/>
          <p:cNvSpPr/>
          <p:nvPr/>
        </p:nvSpPr>
        <p:spPr>
          <a:xfrm>
            <a:off x="1908000" y="811080"/>
            <a:ext cx="709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Tahoma"/>
              </a:rPr>
              <a:t>КАПИТАЛ </a:t>
            </a:r>
            <a:r>
              <a:rPr b="1" lang="en-US" sz="2400" spc="-1" strike="noStrike">
                <a:solidFill>
                  <a:srgbClr val="bbe0e3"/>
                </a:solidFill>
                <a:latin typeface="Tahoma"/>
              </a:rPr>
              <a:t>CSE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НУ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17600" y="1784520"/>
            <a:ext cx="75121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ъем исходного кода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~1000000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98 исполняемых модулей и библиот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600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таблиц и 1500 хранимых проце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ъем документации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~700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20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3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6" name=""/>
          <p:cNvSpPr/>
          <p:nvPr/>
        </p:nvSpPr>
        <p:spPr>
          <a:xfrm>
            <a:off x="471600" y="857160"/>
            <a:ext cx="7092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Tahoma"/>
              </a:rPr>
              <a:t>КАПИТАЛ </a:t>
            </a:r>
            <a:r>
              <a:rPr b="1" lang="en-US" sz="2400" spc="-1" strike="noStrike">
                <a:solidFill>
                  <a:srgbClr val="bbe0e3"/>
                </a:solidFill>
                <a:latin typeface="Tahoma"/>
              </a:rPr>
              <a:t>C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МЫШЛЕННЫЙ ПРОГРАММНЫЙ ПРОД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61720" y="2104920"/>
            <a:ext cx="4303440" cy="3076560"/>
            <a:chOff x="261720" y="2104920"/>
            <a:chExt cx="4303440" cy="3076560"/>
          </a:xfrm>
        </p:grpSpPr>
        <p:sp>
          <p:nvSpPr>
            <p:cNvPr id="138" name=""/>
            <p:cNvSpPr/>
            <p:nvPr/>
          </p:nvSpPr>
          <p:spPr>
            <a:xfrm>
              <a:off x="2398320" y="2104920"/>
              <a:ext cx="0" cy="30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1400" y="3585960"/>
              <a:ext cx="333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1400" y="2630520"/>
              <a:ext cx="145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грам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28560" y="2624040"/>
              <a:ext cx="201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акет прикладных програм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4240" y="3819240"/>
              <a:ext cx="169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граммный проду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42960" y="3817800"/>
              <a:ext cx="194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омышленный программный проду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339560" y="2233440"/>
              <a:ext cx="1799640" cy="368280"/>
              <a:chOff x="1339560" y="2233440"/>
              <a:chExt cx="1799640" cy="36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1761480" y="2406600"/>
                <a:ext cx="13777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39560" y="223344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96880" y="4730760"/>
              <a:ext cx="1799280" cy="368280"/>
              <a:chOff x="1496880" y="4730760"/>
              <a:chExt cx="1799280" cy="368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918800" y="4903560"/>
                <a:ext cx="137736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96880" y="473076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61720" y="2805120"/>
              <a:ext cx="368280" cy="1800000"/>
              <a:chOff x="261720" y="2805120"/>
              <a:chExt cx="368280" cy="1800000"/>
            </a:xfrm>
          </p:grpSpPr>
          <p:sp>
            <p:nvSpPr>
              <p:cNvPr id="151" name=""/>
              <p:cNvSpPr/>
              <p:nvPr/>
            </p:nvSpPr>
            <p:spPr>
              <a:xfrm>
                <a:off x="457200" y="3227400"/>
                <a:ext cx="0" cy="1377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5400000">
                <a:off x="141120" y="292536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196880" y="2746080"/>
              <a:ext cx="368280" cy="1800360"/>
              <a:chOff x="4196880" y="2746080"/>
              <a:chExt cx="368280" cy="180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4392360" y="3168360"/>
                <a:ext cx="0" cy="137808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5400000">
                <a:off x="4076280" y="28666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5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8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69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772160" y="2278080"/>
            <a:ext cx="41432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ужда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Докумен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Гиб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Техническая поддер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ростая процедура инсталляции и обн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87480" y="5545080"/>
            <a:ext cx="59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тремление к снижению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74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9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6" name=""/>
          <p:cNvSpPr/>
          <p:nvPr/>
        </p:nvSpPr>
        <p:spPr>
          <a:xfrm>
            <a:off x="1908000" y="81108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НОВАЦИОННАЯ ДЕЯТЕЛЬНОСТЬ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17600" y="1784520"/>
            <a:ext cx="75121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дна из первых программных систем в России, работающая в технологии «клиент-серв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Многомерный аналитический 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Применение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LAP-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технологий в задачах учета и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Интерфейс с мобильными устройствами К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Tahoma"/>
              </a:rPr>
              <a:t>Что дальше</a:t>
            </a: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99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1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1" name=""/>
          <p:cNvSpPr/>
          <p:nvPr/>
        </p:nvSpPr>
        <p:spPr>
          <a:xfrm>
            <a:off x="1908000" y="81108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ЗВИТИЕ ПРОГРАММНЫХ ПРОДУКТОВ ГЕЛИКОН П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362240" y="1650960"/>
            <a:ext cx="7781760" cy="1771560"/>
            <a:chOff x="1362240" y="1650960"/>
            <a:chExt cx="7781760" cy="1771560"/>
          </a:xfrm>
        </p:grpSpPr>
        <p:sp>
          <p:nvSpPr>
            <p:cNvPr id="223" name=""/>
            <p:cNvSpPr/>
            <p:nvPr/>
          </p:nvSpPr>
          <p:spPr>
            <a:xfrm>
              <a:off x="1890720" y="1650960"/>
              <a:ext cx="709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Tahoma"/>
                </a:rPr>
                <a:t>ЦЕ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39880" y="2144880"/>
              <a:ext cx="7404120" cy="1277640"/>
            </a:xfrm>
            <a:prstGeom prst="rect">
              <a:avLst/>
            </a:prstGeom>
            <a:solidFill>
              <a:srgbClr val="90a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62240" y="2203560"/>
              <a:ext cx="751176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Удовлетворение потребностей бизнеса в функциональном наполн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Снижение общей стоимости владения ТС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357200" y="3551400"/>
            <a:ext cx="7786800" cy="2192040"/>
            <a:chOff x="1357200" y="3551400"/>
            <a:chExt cx="7786800" cy="2192040"/>
          </a:xfrm>
        </p:grpSpPr>
        <p:sp>
          <p:nvSpPr>
            <p:cNvPr id="227" name=""/>
            <p:cNvSpPr/>
            <p:nvPr/>
          </p:nvSpPr>
          <p:spPr>
            <a:xfrm>
              <a:off x="1905120" y="3551400"/>
              <a:ext cx="709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Tahoma"/>
                </a:rPr>
                <a:t>НАПР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9880" y="4059360"/>
              <a:ext cx="7404120" cy="1684080"/>
            </a:xfrm>
            <a:prstGeom prst="rect">
              <a:avLst/>
            </a:prstGeom>
            <a:solidFill>
              <a:srgbClr val="90a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57200" y="4052880"/>
              <a:ext cx="751212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Функциональное развитие «Капитал 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CSE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»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 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до 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ERP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-сист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От технологии «клиент-сервер» к технологиям, основанным на 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Web-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сервис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31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5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3" name=""/>
          <p:cNvSpPr/>
          <p:nvPr/>
        </p:nvSpPr>
        <p:spPr>
          <a:xfrm>
            <a:off x="1879560" y="124632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люев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Директор по разработке програм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беспечения ЗАО «Геликон П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info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56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В.В. Шишляев</cp:lastModifiedBy>
  <cp:lastPrinted>2003-11-27T08:17:54Z</cp:lastPrinted>
  <dcterms:modified xsi:type="dcterms:W3CDTF">2004-04-13T09:09:29Z</dcterms:modified>
  <cp:revision>278</cp:revision>
  <dc:subject/>
  <dc:title>Слайд 1</dc:title>
</cp:coreProperties>
</file>