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41480" y="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8200" y="758520"/>
            <a:ext cx="4863960" cy="36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41480" y="9350280"/>
            <a:ext cx="2917800" cy="4557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78614AF-1B0D-4922-A2BA-CCE0E7235A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обрый день, уважаемые дамы и господ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ня зовут Федосеев Серг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Я директор по внедрению информационных систем компании Геликон Пр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а моего выступления : «Решения компании Геликон Про: опыт и перспективы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глянувшись назад, можно сказать, что на координатной плоскости, отражающей объем прикладных решений и скорость их внедрения, мы двигались по следующей траек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начала мы накапливали прикладные решения, повышали их качество. Затем, когда прикладных решений нужного качества стало достаточно много, мы всерьез занялись увеличением скорости их внед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чти 10 лет мы решаем самые разные прикладные задачи, двигаясь от простого к сложному, постепенно интегрирую маленькие решения в большие. В результате сегодня мы имеем значительное количество базовых решений для многих сложных задач. Некоторые из них представлены на данном слай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чем, исповедуя системный подход, все решения мы с самого начала создавали в тесной увязке друг с другом. И теперь можем предложить нашим клиентам комплексные замкнутые ре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898200" y="4638240"/>
            <a:ext cx="48625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ет отметить, что наши решения созданы не на зыбкой почве абстрактных теорий, а на фундаменте большого практического опыт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анный момент компанией Геликон Про реализовано более 20 крупных проектов. Среди наших клиентов такие предприятия как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О «ЛУКОЙЛ-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энер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Камкабе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тоотряд №1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ермтурис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АО «Порт Перм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уг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 можно констатировать, что мы умеем решать задачи для предприятий с самой разной отраслевой специфи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 подведя итоги, теперь следует сказать несколько слов о перспекти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условно можно разделить на на дв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ческие перспекти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менение более мощных ИТ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-ая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нструментальных средств системы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-ая перспектива: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азвитие и оптимизация уже существующих решений. В частности увеличение их быстродействия, модернизация пользовательского интерфейса и т.д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ая группа перспектив носит методический характе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мы собираемся более активно делиться с нашими клиентами предметными знаниями и проектным опытом. Мы уже выпустили три руководства для прикладных программистов по бухгалтерским операциям, расчету заработной платы и администрированию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мы постоянно анализируем и обобщаем проектный опыт для развития и усовершенствования методологии внедрения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ечественная промышленность сегодня функционирует в следующих условия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усложняются структура и технологии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повышаются требования клиентов к качеству продукции и уровню обслужи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родолжается существенный рост цен практически на  все ресурс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обостряется конкуренция не только с отечественными, но и с зарубежными произв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этих условиях особую роль для предприятия начинает играть система производственного планирования, т.к. качественное и своевременное планирование позволя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сократить издерж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увеличить эффективность использования производственных ресурсов и мощнос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повысить уровень обслуживания кли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многое друг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98560" y="758880"/>
            <a:ext cx="4863960" cy="3647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36480" y="4638240"/>
            <a:ext cx="5415120" cy="44830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на российском рынке предлагается множество отечественных и зарубежных систем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P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а. Но все они по тем или иным параметрам далеки от совершенства. Поэтому наша компания поставила перед собой цель создать собственную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P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у для средни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чение 1,5-2 лет в рамках системы Капитал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создадим необходимый набор модулей для реализации системы производственного планир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Е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896760" y="760320"/>
            <a:ext cx="4864320" cy="3648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36800"/>
            <a:ext cx="4862520" cy="4484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пасибо за внимание. Пожалуйста, вопро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0C28-1A5D-4CCE-BA2B-14FB34D2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E0C1-F7FE-45F8-857F-5E240520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D8FA-0576-4A1D-8DE0-483D3EFA3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8B00-A0CA-42BB-82E7-76A1E36A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3F0-4EC9-4D07-BB90-BC1921848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24E-6559-49BF-85D8-D55F300F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949-3AC0-4268-B483-95D5014C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020-FD25-4C99-9C33-AE50192F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D506-66AB-49E4-93AC-EF85A65D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158-9416-4F13-95B3-71B27340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B536-2A61-4E41-A661-D90C4E38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8FB1-FE3C-4F24-A4CF-25856B54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152B-CA1C-464B-B631-70C15CDC5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/>
          </p:cNvPr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637000"/>
            <a:ext cx="523872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ешения компании Геликон Пр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пыт и перспектив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4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4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676680" y="5057640"/>
            <a:ext cx="530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Федосеев Серг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внедрению И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8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0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94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7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01560" y="1093680"/>
            <a:ext cx="804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ЭТАПЫ НАКОПЛ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35040" y="2185920"/>
            <a:ext cx="5868720" cy="3797280"/>
            <a:chOff x="1535040" y="2185920"/>
            <a:chExt cx="5868720" cy="3797280"/>
          </a:xfrm>
        </p:grpSpPr>
        <p:sp>
          <p:nvSpPr>
            <p:cNvPr id="104" name=""/>
            <p:cNvSpPr/>
            <p:nvPr/>
          </p:nvSpPr>
          <p:spPr>
            <a:xfrm>
              <a:off x="5935320" y="5354640"/>
              <a:ext cx="146844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Скор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недр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35040" y="2185920"/>
              <a:ext cx="1528560" cy="7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Решенные задач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20840" y="2295720"/>
              <a:ext cx="0" cy="297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120840" y="5270760"/>
              <a:ext cx="3459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63760" y="5362560"/>
              <a:ext cx="113328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Низ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9680" y="5362560"/>
              <a:ext cx="135396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Высо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20840" y="285444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20840" y="4048200"/>
              <a:ext cx="2793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1480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9960" y="2854440"/>
              <a:ext cx="0" cy="24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71440" y="3273480"/>
              <a:ext cx="9921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ног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6120" y="4478400"/>
              <a:ext cx="99216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Мал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830400" y="3483000"/>
              <a:ext cx="0" cy="11527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63960" y="3483000"/>
              <a:ext cx="124128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2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3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3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3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8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4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4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4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4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1030320" y="106524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ПЛЕННЫЕ РЕ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71400" y="2711520"/>
            <a:ext cx="863280" cy="685440"/>
            <a:chOff x="671400" y="2711520"/>
            <a:chExt cx="863280" cy="685440"/>
          </a:xfrm>
        </p:grpSpPr>
        <p:sp>
          <p:nvSpPr>
            <p:cNvPr id="152" name=""/>
            <p:cNvSpPr/>
            <p:nvPr/>
          </p:nvSpPr>
          <p:spPr>
            <a:xfrm>
              <a:off x="671400" y="27115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79400" y="28278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87760" y="29444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6120" y="30610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20600" y="3475080"/>
            <a:ext cx="1855800" cy="114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инансов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лан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89080" y="3470400"/>
            <a:ext cx="166212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ерсон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расчет З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21200" y="3465360"/>
            <a:ext cx="1513080" cy="1160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пас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440480" y="3465360"/>
            <a:ext cx="1608120" cy="115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пра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наб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сбы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55960" y="3483000"/>
            <a:ext cx="1857600" cy="113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Бухгалтер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 налог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000160" y="2722680"/>
            <a:ext cx="863280" cy="685440"/>
            <a:chOff x="2000160" y="2722680"/>
            <a:chExt cx="863280" cy="685440"/>
          </a:xfrm>
        </p:grpSpPr>
        <p:sp>
          <p:nvSpPr>
            <p:cNvPr id="162" name=""/>
            <p:cNvSpPr/>
            <p:nvPr/>
          </p:nvSpPr>
          <p:spPr>
            <a:xfrm>
              <a:off x="2000160" y="2722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08160" y="283896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16520" y="295560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24880" y="30722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79560" y="2724120"/>
            <a:ext cx="863280" cy="685440"/>
            <a:chOff x="2779560" y="2724120"/>
            <a:chExt cx="863280" cy="685440"/>
          </a:xfrm>
        </p:grpSpPr>
        <p:sp>
          <p:nvSpPr>
            <p:cNvPr id="167" name=""/>
            <p:cNvSpPr/>
            <p:nvPr/>
          </p:nvSpPr>
          <p:spPr>
            <a:xfrm>
              <a:off x="277956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8756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99592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0428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956200" y="2724120"/>
            <a:ext cx="863280" cy="685440"/>
            <a:chOff x="5956200" y="2724120"/>
            <a:chExt cx="863280" cy="685440"/>
          </a:xfrm>
        </p:grpSpPr>
        <p:sp>
          <p:nvSpPr>
            <p:cNvPr id="172" name=""/>
            <p:cNvSpPr/>
            <p:nvPr/>
          </p:nvSpPr>
          <p:spPr>
            <a:xfrm>
              <a:off x="5956200" y="27241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64200" y="284040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72560" y="295704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0920" y="307368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7554960" y="2719440"/>
            <a:ext cx="863280" cy="685440"/>
            <a:chOff x="7554960" y="2719440"/>
            <a:chExt cx="863280" cy="685440"/>
          </a:xfrm>
        </p:grpSpPr>
        <p:sp>
          <p:nvSpPr>
            <p:cNvPr id="177" name=""/>
            <p:cNvSpPr/>
            <p:nvPr/>
          </p:nvSpPr>
          <p:spPr>
            <a:xfrm>
              <a:off x="7554960" y="271944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62960" y="283572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71320" y="295236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79680" y="306900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218120" y="2714760"/>
            <a:ext cx="863280" cy="685440"/>
            <a:chOff x="4218120" y="2714760"/>
            <a:chExt cx="863280" cy="685440"/>
          </a:xfrm>
        </p:grpSpPr>
        <p:sp>
          <p:nvSpPr>
            <p:cNvPr id="182" name=""/>
            <p:cNvSpPr/>
            <p:nvPr/>
          </p:nvSpPr>
          <p:spPr>
            <a:xfrm>
              <a:off x="4218120" y="271476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26120" y="2831040"/>
              <a:ext cx="53892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34480" y="2947680"/>
              <a:ext cx="538920" cy="336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2840" y="3064320"/>
              <a:ext cx="5385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0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917720" y="77940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ПЫТ РЕАЛИЗАЦИИ КРУПНЫХ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52960"/>
            <a:ext cx="695016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О «ЛУКОЙЛ-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энерг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Камкабел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тоотряд №1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ермтурис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АО «Порт Перм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Д «Стефи-вел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86040" y="1987560"/>
            <a:ext cx="7008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нией Геликон Про реализовано более 20 крупных проектов, в том числе на таких предприятиях, к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2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2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ЛИЧЕНИЕ СКОР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НЕДРЕНИЯ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382760" y="2728800"/>
            <a:ext cx="695016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80880" indent="-3808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нение эффективных 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витие инструментальных средств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Капитал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тимизация существующих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71200" y="2158920"/>
            <a:ext cx="251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Техническ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49600" y="455436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Методичес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76280" y="5037120"/>
            <a:ext cx="6953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4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иражирование предметных зн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тие методологии внед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1879560" y="893880"/>
            <a:ext cx="7093080" cy="19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ОВРЕМЕННЫЕ УСЛОВИЯ ФУНКЦИОНИРОВАНИЯ ОТЕЧЕСТВЕННЫХ ПРЕДПРИ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80960" y="3094200"/>
            <a:ext cx="7518600" cy="31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сложнение структуры и технологий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требований клиентов к качеству продукции и уровню обслуж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ущественный рост цен на вс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бострение конкуренции с отечественными и зарубежными производите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82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83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87956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ДОСТОИНСТВА СИСТЕМЫ ПРОИЗВОДСТВЕННОГО ПЛАН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80960" y="2846520"/>
            <a:ext cx="7518600" cy="18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кращение издер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величение эффективности использования производственных ресурсов и мощ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вышение уровня обслуживания кл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0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0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07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308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187956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ПИТАЛ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SE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- РОССИЙСКАЯ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RP-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419120" y="2751120"/>
            <a:ext cx="75186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ец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хнологические маршру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лавный календарный план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нирование потребности в материал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еративное производственное 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41960" y="2101680"/>
            <a:ext cx="598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Новые функциональные моду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 rot="10800000">
            <a:off x="8551440" y="6438960"/>
            <a:ext cx="592200" cy="295200"/>
          </a:xfrm>
          <a:custGeom>
            <a:avLst/>
            <a:gdLst>
              <a:gd name="textAreaLeft" fmla="*/ 0 w 592200"/>
              <a:gd name="textAreaRight" fmla="*/ 592560 w 59220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38240" y="6429240"/>
            <a:ext cx="15764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15920" y="154080"/>
            <a:ext cx="7381080" cy="501480"/>
            <a:chOff x="115920" y="154080"/>
            <a:chExt cx="7381080" cy="501480"/>
          </a:xfrm>
        </p:grpSpPr>
        <p:pic>
          <p:nvPicPr>
            <p:cNvPr id="3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0" name=""/>
            <p:cNvGrpSpPr/>
            <p:nvPr/>
          </p:nvGrpSpPr>
          <p:grpSpPr>
            <a:xfrm>
              <a:off x="1887480" y="204840"/>
              <a:ext cx="5609520" cy="246240"/>
              <a:chOff x="1887480" y="204840"/>
              <a:chExt cx="5609520" cy="246240"/>
            </a:xfrm>
          </p:grpSpPr>
          <p:sp>
            <p:nvSpPr>
              <p:cNvPr id="331" name=""/>
              <p:cNvSpPr/>
              <p:nvPr/>
            </p:nvSpPr>
            <p:spPr>
              <a:xfrm>
                <a:off x="2381400" y="204840"/>
                <a:ext cx="511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33" name=""/>
          <p:cNvSpPr/>
          <p:nvPr/>
        </p:nvSpPr>
        <p:spPr>
          <a:xfrm>
            <a:off x="1879560" y="1246320"/>
            <a:ext cx="709308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Федосеев Серг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иректор по внедрению 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886040" y="3960720"/>
            <a:ext cx="702144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тел.: (3422) 103-101, 103-178, 103-7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E-mail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s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fsa</cp:lastModifiedBy>
  <cp:lastPrinted>2004-04-12T13:35:48Z</cp:lastPrinted>
  <dcterms:modified xsi:type="dcterms:W3CDTF">2004-04-13T09:44:57Z</dcterms:modified>
  <cp:revision>280</cp:revision>
  <dc:subject/>
  <dc:title>Слайд 1</dc:title>
</cp:coreProperties>
</file>