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41480" y="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8200" y="758520"/>
            <a:ext cx="4863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5028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41480" y="935028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DD82AD1-3853-452D-A5A5-186E897B1C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рый день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ня зовут Федосеев Серг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 директор по внедрению информационных систем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ма моего выступления : «Решения компании Геликон Про: опыт и перспектив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лянувшись назад, можно сказать, что на координатной плоскости, отражающей объем прикладных решений и скорость их внедрения, мы двигались по следующей траек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ачала мы накапливали прикладные решения, повышали их качество. Затем, когда прикладных решений нужного качества стало достаточно много, мы всерьез занялись увеличением скорости их внед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чти 10 лет мы решаем самые разные прикладные задачи, двигаясь от простого к сложному, постепенно интегрирую маленькие решения в большие. В результате сегодня мы имеем значительное количество базовых решений для многих сложных задач. Некоторые из них представлены на данном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исповедуя системный подход, все решения мы с самого начала создавали в тесной увязке друг с другом. И теперь можем предложить нашим клиентам комплексные замкнуты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отметить, что наши решения созданы не на зыбкой почве абстрактных теорий, а на фундаменте большого практического опыт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ый момент компанией Геликон Про реализовано более 20 крупных проектов. Среди наших клиентов такие предприятия к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О «ЛУКОЙЛ-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э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Камкаб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тоотряд №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тури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орт 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Д «Стефи-вел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 можно констатировать, что мы умеем решать задачи для предприятий с самой разной отраслевой специф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 подведя итоги, теперь следует сказать несколько слов о перспекти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условно можно разделить на на дв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менение более мощных 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нструментальных средств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 оптимизация уже существующих решений. В частности увеличение их быстродействия, модернизация пользовательского интерфейса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группа перспектив носит методический характ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мы собираемся более активно делиться с нашими клиентами предметными знаниями и проектным опытом. Мы уже выпустили три руководства для прикладных программистов по бухгалтерским операциям, расчету заработной платы и администрированию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мы постоянно анализируем и обобщаем проектный опыт для развития и усовершенствования методологии внедрен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ечественная промышленность сегодня функционирует в следующих услови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усложняются структура и технологии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повышаются требования клиентов к качеству продукции и уровню обслуж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продолжается существенный рост цен практически на  вс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обостряется конкуренция не только с отечественными, но и с зарубежными произв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этих условиях особую роль для предприятия начинает играть система производственного планирования, т.к. качественное и своевременное планирование позво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сократить издерж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увеличить эффективность использования производственных ресурсов и мощ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повысить уровень обслуживания кли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на российском рынке предлагается множество отечественных и зарубежных сист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P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а. Но все они по тем или иным параметрам далеки от совершенства. Поэтому наша компания поставила перед собой цель создать собственну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у для средни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1,5-2 лет в рамках системы Капитал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оздадим необходимый набор модулей для реализации системы производственного планир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хнологические маршр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й календарный план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потребности в материал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тивное производствен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96760" y="76032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36800"/>
            <a:ext cx="4862520" cy="4484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асибо за внимание. 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824-352B-492B-A292-323585FF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925-5012-4C20-BA89-C6AE16DA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830-1133-4E08-8EFE-1F589D1D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EB8-95A9-4700-ADD0-7DE5073E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7F1-DE3D-4C1B-B605-E0747517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84E-F880-415A-A5AA-350A1248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34F-304E-4B74-9322-28E2701D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06B-F3CD-4833-9993-A5A6210C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EFC-2FCF-4422-9E98-120F32CC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D17-410F-4421-B4CF-322C4E4F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2E0-5361-4F40-B0CE-41115B55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69A-F23D-4A19-8649-7BF8F7B0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1D3F-3F8F-4FDC-8619-170D6053B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637000"/>
            <a:ext cx="52387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шения компании Геликон Пр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пыт и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28720" y="4940280"/>
            <a:ext cx="2556000" cy="961920"/>
            <a:chOff x="828720" y="4940280"/>
            <a:chExt cx="2556000" cy="961920"/>
          </a:xfrm>
        </p:grpSpPr>
        <p:sp>
          <p:nvSpPr>
            <p:cNvPr id="64" name=""/>
            <p:cNvSpPr/>
            <p:nvPr/>
          </p:nvSpPr>
          <p:spPr>
            <a:xfrm>
              <a:off x="828720" y="4940280"/>
              <a:ext cx="326160" cy="96192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55680" y="4940280"/>
              <a:ext cx="1145520" cy="96192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82800" y="5609160"/>
              <a:ext cx="270360" cy="29304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98160" y="5609160"/>
              <a:ext cx="286560" cy="29304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95800" y="5609160"/>
              <a:ext cx="336960" cy="2930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676680" y="5057640"/>
            <a:ext cx="530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Федосе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внедрению 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94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97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01560" y="1093680"/>
            <a:ext cx="804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ЭТАПЫ НАКОПЛЕНИЯ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35040" y="2185920"/>
            <a:ext cx="5868720" cy="3797280"/>
            <a:chOff x="1535040" y="2185920"/>
            <a:chExt cx="5868720" cy="3797280"/>
          </a:xfrm>
        </p:grpSpPr>
        <p:sp>
          <p:nvSpPr>
            <p:cNvPr id="104" name=""/>
            <p:cNvSpPr/>
            <p:nvPr/>
          </p:nvSpPr>
          <p:spPr>
            <a:xfrm>
              <a:off x="5935320" y="5354640"/>
              <a:ext cx="14684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нед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5040" y="2185920"/>
              <a:ext cx="152856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ешенные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0840" y="2295720"/>
              <a:ext cx="0" cy="29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20840" y="5270760"/>
              <a:ext cx="345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63760" y="5362560"/>
              <a:ext cx="113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Низ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9680" y="5362560"/>
              <a:ext cx="1353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ысо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0840" y="285444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0840" y="404820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14800" y="285444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9960" y="285444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1440" y="3273480"/>
              <a:ext cx="992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6120" y="4478400"/>
              <a:ext cx="9921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830400" y="3483000"/>
              <a:ext cx="0" cy="115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3960" y="3483000"/>
              <a:ext cx="1241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3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8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41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42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45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030320" y="106524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71400" y="2711520"/>
            <a:ext cx="863280" cy="685440"/>
            <a:chOff x="671400" y="2711520"/>
            <a:chExt cx="863280" cy="685440"/>
          </a:xfrm>
        </p:grpSpPr>
        <p:sp>
          <p:nvSpPr>
            <p:cNvPr id="152" name=""/>
            <p:cNvSpPr/>
            <p:nvPr/>
          </p:nvSpPr>
          <p:spPr>
            <a:xfrm>
              <a:off x="671400" y="27115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9400" y="28278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7760" y="29444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6120" y="30610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20600" y="3475080"/>
            <a:ext cx="1855800" cy="11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89080" y="3470400"/>
            <a:ext cx="16621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ерсон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расчет З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21200" y="3465360"/>
            <a:ext cx="151308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па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0480" y="3465360"/>
            <a:ext cx="1608120" cy="115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наб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сбы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5960" y="3483000"/>
            <a:ext cx="1857600" cy="113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хгалт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нало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00160" y="2722680"/>
            <a:ext cx="863280" cy="685440"/>
            <a:chOff x="2000160" y="2722680"/>
            <a:chExt cx="863280" cy="685440"/>
          </a:xfrm>
        </p:grpSpPr>
        <p:sp>
          <p:nvSpPr>
            <p:cNvPr id="162" name=""/>
            <p:cNvSpPr/>
            <p:nvPr/>
          </p:nvSpPr>
          <p:spPr>
            <a:xfrm>
              <a:off x="2000160" y="2722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08160" y="283896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16520" y="295560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24880" y="30722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79560" y="2724120"/>
            <a:ext cx="863280" cy="685440"/>
            <a:chOff x="2779560" y="2724120"/>
            <a:chExt cx="863280" cy="685440"/>
          </a:xfrm>
        </p:grpSpPr>
        <p:sp>
          <p:nvSpPr>
            <p:cNvPr id="167" name=""/>
            <p:cNvSpPr/>
            <p:nvPr/>
          </p:nvSpPr>
          <p:spPr>
            <a:xfrm>
              <a:off x="277956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756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9592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0428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956200" y="2724120"/>
            <a:ext cx="863280" cy="685440"/>
            <a:chOff x="5956200" y="2724120"/>
            <a:chExt cx="863280" cy="685440"/>
          </a:xfrm>
        </p:grpSpPr>
        <p:sp>
          <p:nvSpPr>
            <p:cNvPr id="172" name=""/>
            <p:cNvSpPr/>
            <p:nvPr/>
          </p:nvSpPr>
          <p:spPr>
            <a:xfrm>
              <a:off x="595620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6420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56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8092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554960" y="2719440"/>
            <a:ext cx="863280" cy="685440"/>
            <a:chOff x="7554960" y="2719440"/>
            <a:chExt cx="863280" cy="685440"/>
          </a:xfrm>
        </p:grpSpPr>
        <p:sp>
          <p:nvSpPr>
            <p:cNvPr id="177" name=""/>
            <p:cNvSpPr/>
            <p:nvPr/>
          </p:nvSpPr>
          <p:spPr>
            <a:xfrm>
              <a:off x="7554960" y="27194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62960" y="283572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1320" y="295236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79680" y="306900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218120" y="2714760"/>
            <a:ext cx="863280" cy="685440"/>
            <a:chOff x="4218120" y="2714760"/>
            <a:chExt cx="863280" cy="685440"/>
          </a:xfrm>
        </p:grpSpPr>
        <p:sp>
          <p:nvSpPr>
            <p:cNvPr id="182" name=""/>
            <p:cNvSpPr/>
            <p:nvPr/>
          </p:nvSpPr>
          <p:spPr>
            <a:xfrm>
              <a:off x="4218120" y="271476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26120" y="283104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34480" y="294768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42840" y="30643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0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3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04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917720" y="77940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3252960"/>
            <a:ext cx="69501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ЛУКОЙЛ-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Камкаб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тоотряд №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тури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орт 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Д «Стефи-вел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86040" y="1987560"/>
            <a:ext cx="7008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нией Геликон Про реализовано более 20 крупных проектов, в том числе на таких предприятиях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2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9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30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ЛИЧЕНИЕ СКОР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НЕДРЕНИЯ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82760" y="2728800"/>
            <a:ext cx="695016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эффективных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инструментальных средств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изация существ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71200" y="215892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Тех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49600" y="455436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Метод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6280" y="5037120"/>
            <a:ext cx="695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едмет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витие методологии внед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7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58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79560" y="893880"/>
            <a:ext cx="709308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ОВРЕМЕННЫЕ УСЛОВИЯ ФУНКЦИОНИРОВАНИЯ ОТЕЧЕСТВЕННЫХ ПРЕДПРИ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80960" y="3094200"/>
            <a:ext cx="751860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жнение структуры и технологий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ение требований клиентов к качеству продукции и уровню обслу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ественный рост цен на вс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острение конкуренции с отечественными и зарубежными произв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2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83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87956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ОСТОИНСТВА СИСТЕМЫ ПРОИЗВОДСТВЕННОГО ПЛАН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80960" y="2846520"/>
            <a:ext cx="75186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кращение издер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величение эффективности использования производственных ресурсов и мощ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ение уровня обслуживания кли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0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7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308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87956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ПИТАЛ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SE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РОССИЙСКАЯ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RP-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19120" y="2751120"/>
            <a:ext cx="75186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пец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нологические маршр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вный календарный план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ирование потребности в материа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еративное производственное 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41960" y="2101680"/>
            <a:ext cx="59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овые функциональные моду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3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3" name=""/>
          <p:cNvSpPr/>
          <p:nvPr/>
        </p:nvSpPr>
        <p:spPr>
          <a:xfrm>
            <a:off x="1879560" y="1246320"/>
            <a:ext cx="70930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Федосеев Серг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ректор по внедрению 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86040" y="3960720"/>
            <a:ext cx="70214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тел.: (3422) 103-101, 103-178, 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fsa</cp:lastModifiedBy>
  <cp:lastPrinted>2004-04-12T13:35:48Z</cp:lastPrinted>
  <dcterms:modified xsi:type="dcterms:W3CDTF">2004-04-13T09:44:57Z</dcterms:modified>
  <cp:revision>280</cp:revision>
  <dc:subject/>
  <dc:title>Слайд 1</dc:title>
</cp:coreProperties>
</file>